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EBB-DFA5-4C97-B944-AAA8B2DD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BD8-8BE5-4270-914A-A8EE5734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9D8-9908-42BB-AFC8-8F91E239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635-7C55-42D6-92A6-A8F7FDFF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1A6-FB95-4DC9-BDCA-3565E8F0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182-8E62-45DA-9677-D50BBCDF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F58-ADC8-4363-84DF-4BE61B30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B90-58DB-4A3C-8989-80D53EBD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C95-71BC-4972-A7EA-85374C7F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537-8481-4092-970E-616B2A5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75D-4FFA-4B74-ABC2-FB8135C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50E-CF71-42CE-A375-8BFA3A98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E544-B578-4D1A-A0D0-EB13A53683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560" y="1341000"/>
            <a:ext cx="774216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Powers of Complex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7200" y="1943280"/>
            <a:ext cx="74451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9340d"/>
                </a:solidFill>
                <a:latin typeface="Arial"/>
              </a:rPr>
              <a:t>Lesson 9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De Moivre’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olar Form: If z = [r, 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]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z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= [r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, n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]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Trigonometric Form: If z = r(cos 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+ i si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Then, z</a:t>
            </a:r>
            <a:r>
              <a:rPr b="0" lang="en-US" sz="3200" spc="-1" strike="noStrike" baseline="30000">
                <a:solidFill>
                  <a:srgbClr val="19340d"/>
                </a:solidFill>
                <a:latin typeface="Constantia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= r</a:t>
            </a:r>
            <a:r>
              <a:rPr b="0" lang="en-US" sz="3200" spc="-1" strike="noStrike" baseline="30000">
                <a:solidFill>
                  <a:srgbClr val="19340d"/>
                </a:solidFill>
                <a:latin typeface="Constantia"/>
              </a:rPr>
              <a:t>n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(cos 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 + i sin n</a:t>
            </a:r>
            <a:r>
              <a:rPr b="0" lang="el-GR" sz="3200" spc="-1" strike="noStrike">
                <a:solidFill>
                  <a:srgbClr val="19340d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19340d"/>
                </a:solidFill>
                <a:latin typeface="Constant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920" y="71424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Put (2 – 2i)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in a + bi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(x,y) </a:t>
            </a:r>
            <a:r>
              <a:rPr b="0" lang="en-US" sz="3200" spc="-1" strike="noStrike">
                <a:solidFill>
                  <a:srgbClr val="19340d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(2, -2) 4</a:t>
            </a:r>
            <a:r>
              <a:rPr b="0" lang="en-US" sz="3200" spc="-1" strike="noStrike" baseline="30000">
                <a:solidFill>
                  <a:srgbClr val="19340d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 quad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0" y="1785960"/>
                <a:ext cx="70009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0" y="2571840"/>
                <a:ext cx="643248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3571920"/>
                <a:ext cx="707220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1000080" y="4643280"/>
                <a:ext cx="5492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2286000" y="5357880"/>
                <a:ext cx="2820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184480" y="6216480"/>
                <a:ext cx="330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Suppose that z = [.9, </a:t>
            </a:r>
            <a:r>
              <a:rPr b="0" lang="el-GR" sz="3200" spc="-1" strike="noStrike">
                <a:solidFill>
                  <a:srgbClr val="19340d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19340d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a. Compute z</a:t>
            </a:r>
            <a:r>
              <a:rPr b="0" lang="fr-FR" sz="3200" spc="-1" strike="noStrike" baseline="30000">
                <a:solidFill>
                  <a:srgbClr val="19340d"/>
                </a:solidFill>
                <a:latin typeface="Arial"/>
              </a:rPr>
              <a:t>n</a:t>
            </a: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 for n = 1, 2, 3, .. ,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34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lot these values in the complex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920" y="300024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3154680" y="49291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387, 9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23680" y="3000240"/>
            <a:ext cx="18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8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3011040" y="414324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31,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512320" y="4214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78, 7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297360" y="414324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90, 5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797640" y="3071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729, 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440760" y="30718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656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1293840" y="500076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3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2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928440"/>
            <a:ext cx="8115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9340d"/>
                </a:solidFill>
                <a:latin typeface="Arial"/>
              </a:rPr>
              <a:t>Plot these values in the complex 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7920" y="157176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1520" y="62737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387, 9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9360" y="2143080"/>
            <a:ext cx="189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8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10800" y="4643280"/>
            <a:ext cx="22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31,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1520" y="521496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78, 7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1520" y="400068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590, 5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11520" y="271476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729, 3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11520" y="3357720"/>
            <a:ext cx="23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6561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7920" y="571500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.43,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7929720" y="3929040"/>
            <a:ext cx="14256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8"/>
          <p:cNvSpPr/>
          <p:nvPr/>
        </p:nvSpPr>
        <p:spPr>
          <a:xfrm>
            <a:off x="5928480" y="2000160"/>
            <a:ext cx="71640" cy="48578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20"/>
          <p:cNvSpPr/>
          <p:nvPr/>
        </p:nvSpPr>
        <p:spPr>
          <a:xfrm>
            <a:off x="3214800" y="4572000"/>
            <a:ext cx="5286240" cy="1440"/>
          </a:xfrm>
          <a:prstGeom prst="line">
            <a:avLst/>
          </a:prstGeom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4"/>
          <p:cNvSpPr/>
          <p:nvPr/>
        </p:nvSpPr>
        <p:spPr>
          <a:xfrm>
            <a:off x="3571920" y="2286000"/>
            <a:ext cx="4714920" cy="4357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6"/>
          <p:cNvSpPr/>
          <p:nvPr/>
        </p:nvSpPr>
        <p:spPr>
          <a:xfrm>
            <a:off x="7358040" y="30718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7"/>
          <p:cNvSpPr/>
          <p:nvPr/>
        </p:nvSpPr>
        <p:spPr>
          <a:xfrm>
            <a:off x="6500880" y="278604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8"/>
          <p:cNvSpPr/>
          <p:nvPr/>
        </p:nvSpPr>
        <p:spPr>
          <a:xfrm>
            <a:off x="5857920" y="292896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9"/>
          <p:cNvSpPr/>
          <p:nvPr/>
        </p:nvSpPr>
        <p:spPr>
          <a:xfrm>
            <a:off x="5072040" y="32860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0"/>
          <p:cNvSpPr/>
          <p:nvPr/>
        </p:nvSpPr>
        <p:spPr>
          <a:xfrm>
            <a:off x="4714920" y="3214800"/>
            <a:ext cx="2428920" cy="2367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1"/>
          <p:cNvSpPr/>
          <p:nvPr/>
        </p:nvSpPr>
        <p:spPr>
          <a:xfrm>
            <a:off x="4857840" y="400068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2"/>
          <p:cNvSpPr/>
          <p:nvPr/>
        </p:nvSpPr>
        <p:spPr>
          <a:xfrm>
            <a:off x="4929120" y="4500720"/>
            <a:ext cx="142920" cy="128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3"/>
          <p:cNvSpPr/>
          <p:nvPr/>
        </p:nvSpPr>
        <p:spPr>
          <a:xfrm>
            <a:off x="5143680" y="4786200"/>
            <a:ext cx="142560" cy="128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ve that the integer power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 lie on a logarithmic spi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pola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e Moivre’s Theorem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.9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[.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8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4143240" y="2786040"/>
                <a:ext cx="22100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143000" y="5572080"/>
                <a:ext cx="13255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3000240" y="5572080"/>
                <a:ext cx="125892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4681440" y="5435640"/>
                <a:ext cx="1790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19340d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15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Pages 532 – 53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1 – 5, 7 – 8,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12 - 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2:29:21Z</dcterms:created>
  <dc:creator>Mediac</dc:creator>
  <dc:description/>
  <dc:language>en-US</dc:language>
  <cp:lastModifiedBy>Laura Helbing</cp:lastModifiedBy>
  <dcterms:modified xsi:type="dcterms:W3CDTF">2011-03-10T20:02:24Z</dcterms:modified>
  <cp:revision>44</cp:revision>
  <dc:subject/>
  <dc:title>Presentation Name</dc:title>
</cp:coreProperties>
</file>