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580-A48E-4517-9200-96612A0C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624-E754-42B5-A755-AF0C40C1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E3D-3D98-4E10-93E2-0848CAC4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AA4-CC56-47DA-B028-E69C6077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F1B-AC91-48F4-BCD7-A478ECE9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2D4-306B-45F9-BD5F-31ACECF2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545-D8BA-425F-87E8-1BF9762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5E3-6B8E-4476-9A7B-BF6C3E8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FAC-B14D-4CD7-8BC0-8234EEC4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89E-AF93-4068-9D1B-CD6198AB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983-EAC2-4B4A-AFAD-4F0C587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DEC-6B6C-4611-A21E-22D87B3F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3DE6-1E51-4B08-B24B-0C15B8CE53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Powers of 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De Moivre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olar Form: If z = [r, 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]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= [r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, n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]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Trigonometric Form: If z = r(cos 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+ i si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Then, z</a:t>
            </a:r>
            <a:r>
              <a:rPr b="0" lang="en-US" sz="3200" spc="-1" strike="noStrike" baseline="30000">
                <a:solidFill>
                  <a:srgbClr val="19340d"/>
                </a:solidFill>
                <a:latin typeface="Constantia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= r</a:t>
            </a:r>
            <a:r>
              <a:rPr b="0" lang="en-US" sz="3200" spc="-1" strike="noStrike" baseline="30000">
                <a:solidFill>
                  <a:srgbClr val="19340d"/>
                </a:solidFill>
                <a:latin typeface="Constantia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(cos 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+ i sin 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920" y="71424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Put (2 – 2i)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(x,y) </a:t>
            </a:r>
            <a:r>
              <a:rPr b="0" lang="en-US" sz="3200" spc="-1" strike="noStrike">
                <a:solidFill>
                  <a:srgbClr val="19340d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(2, -2) 4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quad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0" y="1785960"/>
                <a:ext cx="7000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0" y="2571840"/>
                <a:ext cx="64324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3571920"/>
                <a:ext cx="707220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1000080" y="4643280"/>
                <a:ext cx="549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2286000" y="5357880"/>
                <a:ext cx="2820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2184480" y="6216480"/>
                <a:ext cx="330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uppose that z = [.9, 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. Compute z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n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for n = 1, 2, 3, .. 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lot these values in the complex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920" y="300024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154680" y="49291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387, 9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23680" y="3000240"/>
            <a:ext cx="18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8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011040" y="414324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31,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512320" y="4214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78, 7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297360" y="414324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90, 5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797640" y="3071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729, 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440760" y="3071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656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1293840" y="500076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3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8115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lot these values in the complex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7920" y="157176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1520" y="62737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387, 9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9360" y="2143080"/>
            <a:ext cx="18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8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0800" y="464328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31,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1520" y="521496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78, 7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1520" y="40006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90, 5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11520" y="271476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729, 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1520" y="33577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656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7920" y="571500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3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7929720" y="3929040"/>
            <a:ext cx="14256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8"/>
          <p:cNvSpPr/>
          <p:nvPr/>
        </p:nvSpPr>
        <p:spPr>
          <a:xfrm>
            <a:off x="5928480" y="2000160"/>
            <a:ext cx="71640" cy="48578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0"/>
          <p:cNvSpPr/>
          <p:nvPr/>
        </p:nvSpPr>
        <p:spPr>
          <a:xfrm>
            <a:off x="3214800" y="4572000"/>
            <a:ext cx="5286240" cy="14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4"/>
          <p:cNvSpPr/>
          <p:nvPr/>
        </p:nvSpPr>
        <p:spPr>
          <a:xfrm>
            <a:off x="3571920" y="2286000"/>
            <a:ext cx="4714920" cy="4357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6"/>
          <p:cNvSpPr/>
          <p:nvPr/>
        </p:nvSpPr>
        <p:spPr>
          <a:xfrm>
            <a:off x="7358040" y="30718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7"/>
          <p:cNvSpPr/>
          <p:nvPr/>
        </p:nvSpPr>
        <p:spPr>
          <a:xfrm>
            <a:off x="6500880" y="278604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8"/>
          <p:cNvSpPr/>
          <p:nvPr/>
        </p:nvSpPr>
        <p:spPr>
          <a:xfrm>
            <a:off x="5857920" y="292896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9"/>
          <p:cNvSpPr/>
          <p:nvPr/>
        </p:nvSpPr>
        <p:spPr>
          <a:xfrm>
            <a:off x="5072040" y="32860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0"/>
          <p:cNvSpPr/>
          <p:nvPr/>
        </p:nvSpPr>
        <p:spPr>
          <a:xfrm>
            <a:off x="4714920" y="3214800"/>
            <a:ext cx="2428920" cy="2367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1"/>
          <p:cNvSpPr/>
          <p:nvPr/>
        </p:nvSpPr>
        <p:spPr>
          <a:xfrm>
            <a:off x="4857840" y="40006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2"/>
          <p:cNvSpPr/>
          <p:nvPr/>
        </p:nvSpPr>
        <p:spPr>
          <a:xfrm>
            <a:off x="4929120" y="450072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3"/>
          <p:cNvSpPr/>
          <p:nvPr/>
        </p:nvSpPr>
        <p:spPr>
          <a:xfrm>
            <a:off x="5143680" y="4786200"/>
            <a:ext cx="142560" cy="128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ve that the integer power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 lie on a logarithmic spi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ola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 Moivre’s Theor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[.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4143240" y="2786040"/>
                <a:ext cx="22100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143000" y="5572080"/>
                <a:ext cx="13255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3000240" y="5572080"/>
                <a:ext cx="12589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4681440" y="5435640"/>
                <a:ext cx="1790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rPr>
                        <m:lit/>
                        <m:nor/>
                      </m:rPr>
                      <m:t xml:space="preserve"> 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Pages 532 – 53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1 – 5, 7 – 8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12 - 1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3-10T20:02:24Z</dcterms:modified>
  <cp:revision>44</cp:revision>
  <dc:subject/>
  <dc:title>Presentation Name</dc:title>
</cp:coreProperties>
</file>