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Image1Imfdsage1fdfz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478280" y="6308640"/>
            <a:ext cx="189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a0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a0aaa"/>
                </a:solidFill>
                <a:latin typeface="Arial"/>
              </a:rPr>
              <a:t>Page </a:t>
            </a:r>
            <a:fld id="{404BCEA0-B465-42F3-9287-3742E5AD79B0}" type="slidenum">
              <a:rPr b="1" lang="fr-FR" sz="1800" spc="-1" strike="noStrike">
                <a:solidFill>
                  <a:srgbClr val="aa0aa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Imfdsage1fdfz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198880" y="549360"/>
            <a:ext cx="632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Multiplying 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Lesson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67720" y="189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Defi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Complex fractions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When the numerator or denominator of a fraction include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Rationalize the denominator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t an integer denominator (get rid of the radica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256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050840"/>
            <a:ext cx="8929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Write the product                              as a rational expression in lowes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ate any restrictions on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u ≠ 2, 4,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357800" y="571680"/>
                <a:ext cx="3611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428840" y="2428920"/>
                <a:ext cx="4037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Straight Connector 6"/>
          <p:cNvSpPr/>
          <p:nvPr/>
        </p:nvSpPr>
        <p:spPr>
          <a:xfrm>
            <a:off x="1857240" y="257184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4357800" y="321480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000240" y="321480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3071880" y="257184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4357800" y="257184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1857240" y="328608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575320" y="242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07000" y="2428920"/>
            <a:ext cx="10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1500120" y="257184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>
            <a:off x="1500120" y="328608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6786720" y="4255920"/>
            <a:ext cx="178596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7800" y="4214880"/>
            <a:ext cx="228600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42960" y="4214880"/>
            <a:ext cx="171432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00840" y="1890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050840"/>
            <a:ext cx="63370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ize the denomin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b. Rationalize the num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071720" y="2000160"/>
                <a:ext cx="1528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42960" y="4143240"/>
                <a:ext cx="16430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571840" y="2143080"/>
                <a:ext cx="1425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3997440" y="2214720"/>
                <a:ext cx="240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6715080" y="2214720"/>
                <a:ext cx="2190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" name="Group 16"/>
          <p:cNvGrpSpPr/>
          <p:nvPr/>
        </p:nvGrpSpPr>
        <p:grpSpPr>
          <a:xfrm>
            <a:off x="2500200" y="4143240"/>
            <a:ext cx="1714680" cy="1643040"/>
            <a:chOff x="2500200" y="4143240"/>
            <a:chExt cx="1714680" cy="1643040"/>
          </a:xfrm>
        </p:grpSpPr>
        <p:sp>
          <p:nvSpPr>
            <p:cNvPr id="69" name="Rectangle 11"/>
            <p:cNvSpPr/>
            <p:nvPr/>
          </p:nvSpPr>
          <p:spPr>
            <a:xfrm>
              <a:off x="2500200" y="4214520"/>
              <a:ext cx="1714680" cy="157176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"/>
                <p:cNvSpPr txBox="1"/>
                <p:nvPr/>
              </p:nvSpPr>
              <p:spPr>
                <a:xfrm>
                  <a:off x="2571480" y="4143240"/>
                  <a:ext cx="1332000" cy="153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357800" y="4214880"/>
                <a:ext cx="2354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715080" y="4429080"/>
                <a:ext cx="18655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215040" y="3929040"/>
            <a:ext cx="171468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0040" y="4643280"/>
            <a:ext cx="171468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05600" y="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21420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or a given perimeter, the circle has the most area.  With a radius of r, its perimeter is 2</a:t>
            </a:r>
            <a:r>
              <a:rPr b="1" lang="el-GR" sz="2000" spc="-1" strike="noStrike">
                <a:solidFill>
                  <a:srgbClr val="ffffff"/>
                </a:solidFill>
                <a:latin typeface="Verdana"/>
              </a:rPr>
              <a:t>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 and its area is ∏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, so the ratio of area to perimeter is r/2.  Define the area-efficiency of a closed polygon or curve to be its area/perimeter ratio divided by r/2.  Thus a circle has area-efficiency 1 and all other closed polygons or curves have less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d the area-efficiency of a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. An equilateral triangle with side s has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Find the area-efficiency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equilateral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714240" y="4643280"/>
                <a:ext cx="12859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357880" y="2500200"/>
                <a:ext cx="7858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6072120" y="2500200"/>
                <a:ext cx="1103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7072200" y="2500200"/>
                <a:ext cx="8398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8001000" y="2714760"/>
                <a:ext cx="7650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6357960" y="3929040"/>
                <a:ext cx="13651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500280" y="542916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896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Pages 295 – 29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6 – 12,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Laura Helbing</cp:lastModifiedBy>
  <dcterms:modified xsi:type="dcterms:W3CDTF">2012-11-30T16:40:38Z</dcterms:modified>
  <cp:revision>34</cp:revision>
  <dc:subject/>
  <dc:title>Purple Snow</dc:title>
</cp:coreProperties>
</file>