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0DA6-ADCA-4C4C-918B-7526DC5D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DD2-14DE-4E20-8195-0CF09AAB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B3D-B661-48BE-9B24-5D54759D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95C-0E98-42FF-A037-0CA0F8A1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5DE-1450-44AC-A6C6-6F7DF09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5F20-B953-4C78-9BFE-6C501C0B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A62D-EBB8-46D5-9251-49D87970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6BFD-C5EC-47D7-BBA1-4D622774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6F7-57E9-445A-943E-4E0E0BCE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BD5E-C49C-4B73-A330-7A56528C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47F9-D14B-4C4D-AADE-B6F13BC5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803-4950-4198-9163-772A3628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AE66-03C3-4948-883C-AEBD8A5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25CA-1C06-4240-A60D-3006761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5AED-9360-4957-BA24-170EAA66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EC25-0738-44F9-93BD-35F93545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AF0A-6DFB-46C9-AE4E-94B1048F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97CC-CA67-42C4-B954-CA616E5F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53C5-2685-4008-958F-576F4989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00F8-7704-4DF0-814D-D5EE1E28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07BF-B163-4FE4-BEEE-7A3E5834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138E4-C25A-4C04-84F3-E04BD925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878-7721-414A-8B50-7E75BAD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C6454-2476-4825-92F4-BC9F3BB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26DA-FD67-4401-B2A6-204D2A8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F851-22C0-45D4-8E3C-D68E8C8E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E054-DBFD-4A3D-8E4C-E6D7888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9947-5098-4650-8FE3-180E2D1E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E62A0-1D3E-49FC-978B-9374C69B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E1498-F854-466A-9BE1-5A95A0AB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3B3C-67D6-4B29-AFB2-29FA4BC9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2287-1FAF-4181-9588-6340E9E4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2558-5620-445A-8F48-8A27FE39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BFF-50AE-4587-A96D-791FB288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101F1-F5CF-446B-95D2-98F4D1D2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EA0CF-513D-46AB-B185-6A4DF58B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4E00-4288-4614-88A5-A11A9631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DF6D-E962-4781-9DFE-F89DC124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509A9-80BF-4607-A3B1-9E363EB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CE1FB-39D3-4176-A3A3-9D9683F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01901-D9E8-441D-8FED-2EAA25D8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9CD5-3D45-4800-97C6-E2176832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B493-7C29-4739-8068-4C382A63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79B08-6CD5-413C-9E5F-FCFF50D7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6E2-D9F3-433F-8E1B-6D2649CA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20D09-4B12-49CC-982B-10C54F0F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377F7-A8E9-485A-8267-CDC612D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3D8A2-167E-494C-9C2E-4AEA2A94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4298E-6660-48DF-B526-C334797A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9723-E31C-4B59-8157-2C297371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47DD-AC75-40AA-AE10-0D572BAB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50412-AC0A-40F3-B06F-3B483B1D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1FC41-901D-4309-B87B-EDEBC00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001CB-0ADF-4BD4-A330-41284685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0417C-5DD3-4C60-8506-C506989B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78D-A69D-4F64-B396-A89E148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45FE-AC6E-464F-B306-EBBC2722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F0DC-14BC-4036-BC2C-6001B793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A0CB-680A-42A7-9119-7FCA63D9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4A04B-ABFD-45CF-917B-E7C507E7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E218A-1B8B-4DF7-B43D-C0B36F23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8E7A-C360-4BD4-9043-6351B63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E28B2-8B50-4DEC-8C17-F9E1DB60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5D8A-9CDD-4E8E-890C-C6147438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2E8B-6BA1-4674-B1C7-425039EB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C80B-9ABC-4459-A3A2-4508767B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D4D-B436-4972-8696-EEFA6B50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2F26-6BF8-404C-B464-A235761A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FAF4-EAFB-47C0-9313-C649CFB4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201A-F2AF-4E52-929C-23935D5B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FA997-D8F5-467A-93F0-A70F8A58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41AC8-8B63-4230-96F2-0CB1939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17BC-EB33-4200-99D9-B7D086A2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2FA0-AF23-466F-BEB1-DDC127F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EB71-EC41-451B-8883-9BE4F097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E121A-DF70-4F73-BA26-AF8F43D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562A-938A-4EBA-8DC8-8195585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C83-085C-4CF3-A210-0F886488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87118-93D3-4BF8-BBCF-761735C3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D1A14-6FF8-49C3-9A10-5E0F270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7016A-2A4A-490A-8416-C478FD74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7C12A-85A4-4388-B473-7A8BB8FB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1DF39-B1F2-4069-B1E4-C0739662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DBD-FCC3-44AD-89DA-C754F96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2A31-4649-4A88-B417-C03370995A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871-7606-4C01-B4E4-023635A2DB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B915-1863-45AF-8F6D-C5C6BC1FBA4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16FD-FCC8-4283-AFD9-7735839CEA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D824-B03F-4C49-8EA1-9E202445388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A097-C89C-4A86-910E-C9C81E65EFC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518A-7131-4499-BB16-6C52E067498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rrational Number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Lesson 5.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295280" y="268200"/>
            <a:ext cx="6831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ore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Content Placeholder 3"/>
              <p:cNvSpPr txBox="1"/>
              <p:nvPr/>
            </p:nvSpPr>
            <p:spPr>
              <a:xfrm>
                <a:off x="4108320" y="1816200"/>
                <a:ext cx="215136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371600" y="1447920"/>
                <a:ext cx="1111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Content Placeholder 2"/>
          <p:cNvSpPr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not ra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is divisible by a prime p, then n is divisible by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ed with rational nu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+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–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rational x rational = ra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of by contradiction.. Again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ve: When an irrational number is divided by a rational number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ume, the quotient is 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where s is ratio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= s x 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adiction:  s x r  = rational numb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fore, the quotient is irration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828800" y="3505320"/>
                <a:ext cx="11746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njugat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Content Placeholder 3"/>
              <p:cNvSpPr txBox="1"/>
              <p:nvPr/>
            </p:nvSpPr>
            <p:spPr>
              <a:xfrm>
                <a:off x="1523880" y="1219320"/>
                <a:ext cx="23004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3657600" y="1219320"/>
                <a:ext cx="289260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7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914400" y="3962520"/>
                <a:ext cx="40734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5068800" y="4191120"/>
                <a:ext cx="4075200" cy="22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Pages 283 – 284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 – 5, 8, 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ill Sans MT"/>
              </a:rPr>
              <a:t>10, 12 - 13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0:51:01Z</dcterms:created>
  <dc:creator>student</dc:creator>
  <dc:description/>
  <dc:language>en-US</dc:language>
  <cp:lastModifiedBy>Laura Helbing</cp:lastModifiedBy>
  <dcterms:modified xsi:type="dcterms:W3CDTF">2012-11-28T17:46:17Z</dcterms:modified>
  <cp:revision>7</cp:revision>
  <dc:subject/>
  <dc:title>Irrational Numbers </dc:title>
</cp:coreProperties>
</file>