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95E-D663-4EC4-AFB1-AAE6F1A1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7DC-E99F-4AD6-AAF9-7CC088F2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3AC-CBDB-4D46-8E9E-0366E01B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0509-4DBE-4405-99A0-F0431680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4FEB-E9C0-4EE5-A9DE-739E3B23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E5E0-6F43-4C24-925F-9A31E162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3A7F-55BB-4059-B2BE-5B375AAE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02D4-011B-444B-A1DF-3C1706AD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BF9F-A847-439E-851C-4E27C053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BB7F-2215-439A-B19A-8BDA088C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FE35-7ED2-4EF1-91E1-3AF13945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613F-AD67-4D1C-ABC0-23EE6DC9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9ACB-E34E-4FFA-AFC3-BF1C83A4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C911-C094-4B56-97D2-FEA52652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A04B-24DD-4EF9-B583-F4AAC3AC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0DD7-B1F2-4BD4-A30C-372C7371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07AE-1A34-4BCA-BD76-89A1A1A0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2A258-78A1-49CC-9CDB-CFDB3B59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D362B-92B9-4FDA-AC19-69C3601B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BED8B-D9CC-4D70-89AD-58DF62B9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BE8C3-20E4-4B71-8975-86D76CD1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6DC3C-1107-47C4-B935-8ABD5271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21D7-86CC-4063-B9FF-49C0CCB7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C0081-CC50-4F4C-97BC-F9CEB42C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8B3F4-0B6C-418D-BF1F-E6620125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4B569-3FCC-4C80-B596-E8CFD268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CE5F5-0CE9-4F32-82A6-A20A310F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60524-DFE9-42A3-8088-79FF0C73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9A052-7974-47B2-B9FF-BE073E02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C3B7C-48FA-4161-AF8F-7DD6BD2A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DA49E-56DB-47D0-A649-091E70F3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20034-80A0-4048-AE7A-CAAB9253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2FA93-B5FF-4D46-95B7-1C69D913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8B3-750A-4493-84A2-E146B0A1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C063C-F1E7-4CC0-999A-1E2AE9FC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E7121-9FD0-428F-BB90-B9906C9D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012FD-AC45-4F03-B974-827FAC36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50A38-8415-4BDA-8206-B7CF8AAF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2B841-62D9-494E-AB74-A072EE51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BE92E-EC44-41C9-BB44-0E14F365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D2AC7-3DF6-4082-BA9C-D569DDE3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957FD-61BA-41F4-BC3F-06937D97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D8BFD-260F-4C55-9C2A-A47370A9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305C7-38E8-4E13-8908-A99F2100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58B-3DD7-4347-8096-3168BC2E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6C6DE-95F0-409C-95D8-0B526BD0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793BF-2B17-491E-931A-E26C93D7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2C66C-5722-4A4E-AFF9-05FF56D6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C93DC-7915-41DF-B24F-31851130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06041-0081-4C42-BB48-18B770FF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9915A-7763-486C-8A3E-D747049D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3A7CB-476B-4808-A61F-175628E3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82583-3916-44E3-A735-5F5A2E92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77318-0393-482C-82C5-F5DCCDCB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1217F-2E8B-46D5-B316-D61D6CCB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B7D-F7A6-4D34-87C1-13B9308C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FFD7C-464D-4BB4-AEC6-95B0881F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C5664-5B3D-441E-80CC-286C8181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E776C-989E-4142-A4A4-8F80AE32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08BC5-607D-4093-A591-85119D0A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3EECB-ED7C-4E4D-846F-BA7D4289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3C624-8F9F-475B-95F0-A654869C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4AB48-CDB3-4ABC-9814-D6329CF9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CD2BE-06E1-44D4-96FB-C687E713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C914A-1263-4095-827D-3D93A1A6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18464-CE66-499C-B59C-69458872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76C-F39A-489E-8542-78E3491C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8AE66-92CB-4C0B-B215-C6902040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DDD17-53CF-4DEC-ACA0-C1CFA742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0F272-641F-40FF-9E1B-4F2C687D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6E94F-43A1-4EC9-A06E-495E49A2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F47FF-F605-42C7-A9B9-3B7067DE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3F889-0487-442F-B2B9-98461455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0A227-CBEB-4788-91E1-EA9FDC39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5EBBF-BC1B-4153-9275-2A4B7A64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27022-4556-4F36-BFC7-54236A07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4E1DA-1D0B-4282-9D26-A9537E04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005F-A7BD-4685-BCC8-EE5065D1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49914-B107-4B89-9458-24579618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3E93C-CED9-41C1-9FB5-D937481E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D004D-9D6D-4B77-8728-A7104513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23C37-3CD5-495B-ADD0-7E3D80CF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C2645-58B0-402C-8E76-A963C899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F86-CB3F-46F2-8F11-4E46D370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7EC6-1E54-488D-BEC0-2D16FE4DE23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C788-C219-40B9-A771-36D90D36FDF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25C4-0616-41D8-A8F0-0699047A024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D427-9D85-4167-9DA4-44643004B9D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52B4-4EA1-421F-897A-140E969C4A5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C6B4-F79F-4008-892B-FF129B1BCB4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F0BA-13A3-404F-B0FC-AC4E17D778C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rrational Number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Lesson 5.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295280" y="268200"/>
            <a:ext cx="6831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orem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Content Placeholder 3"/>
              <p:cNvSpPr txBox="1"/>
              <p:nvPr/>
            </p:nvSpPr>
            <p:spPr>
              <a:xfrm>
                <a:off x="4108320" y="1816200"/>
                <a:ext cx="215136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1371600" y="1447920"/>
                <a:ext cx="111132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4" name="Content Placeholder 2"/>
          <p:cNvSpPr/>
          <p:nvPr/>
        </p:nvSpPr>
        <p:spPr>
          <a:xfrm>
            <a:off x="1434960" y="1447920"/>
            <a:ext cx="74995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not ra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is divisible by a prime p, then n is divisible by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osed with rational nu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rational + rational = ra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rational – rational = ra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rational x rational = ra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oof by contradiction.. Again </a:t>
            </a:r>
            <a:r>
              <a:rPr b="0" lang="en-US" sz="4300" spc="-1" strike="noStrike">
                <a:solidFill>
                  <a:srgbClr val="572314"/>
                </a:solidFill>
                <a:latin typeface="Wingdings"/>
                <a:ea typeface="Wingdings"/>
              </a:rPr>
              <a:t>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920"/>
            <a:ext cx="7499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ve: When an irrational number is divided by a rational number, the quotient is irration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sume, the quotient is ration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where s is ratio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= s x 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radiction:  s x r  = rational numb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fore, the quotient is irration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1828800" y="3505320"/>
                <a:ext cx="11746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njugates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Content Placeholder 3"/>
              <p:cNvSpPr txBox="1"/>
              <p:nvPr/>
            </p:nvSpPr>
            <p:spPr>
              <a:xfrm>
                <a:off x="1523880" y="1219320"/>
                <a:ext cx="2300400" cy="24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3657600" y="1219320"/>
                <a:ext cx="2892600" cy="24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5"/>
              <p:cNvSpPr txBox="1"/>
              <p:nvPr/>
            </p:nvSpPr>
            <p:spPr>
              <a:xfrm>
                <a:off x="914400" y="3962520"/>
                <a:ext cx="407340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6"/>
              <p:cNvSpPr txBox="1"/>
              <p:nvPr/>
            </p:nvSpPr>
            <p:spPr>
              <a:xfrm>
                <a:off x="5068800" y="4191120"/>
                <a:ext cx="407520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mewor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ill Sans MT"/>
              </a:rPr>
              <a:t>Pages 283 – 284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ill Sans MT"/>
              </a:rPr>
              <a:t>1 – 5, 8, 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ill Sans MT"/>
              </a:rPr>
              <a:t>10, 12 - 13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0:51:01Z</dcterms:created>
  <dc:creator>student</dc:creator>
  <dc:description/>
  <dc:language>en-US</dc:language>
  <cp:lastModifiedBy>Laura Helbing</cp:lastModifiedBy>
  <dcterms:modified xsi:type="dcterms:W3CDTF">2012-11-28T17:46:17Z</dcterms:modified>
  <cp:revision>7</cp:revision>
  <dc:subject/>
  <dc:title>Irrational Numbers </dc:title>
</cp:coreProperties>
</file>