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681-F1E2-439F-A659-70B93991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122A-7A9A-4ED2-BCDB-9B7BC563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956-FCEB-403D-BE28-3C48CB0B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BB4-A45E-4894-B187-B3C65A47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FC9F-B98C-4D29-BBBC-80A606EE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FD30-1198-4156-BFF6-96446A47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C339-DB45-4F9C-8794-7D32A88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D2F4-7EF0-464F-8BB8-0B2184C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7C35-896A-48CE-BC43-41653733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B138-793E-45B5-A9B5-8DD135B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7EC2-3AE6-436B-BF45-B7A88E33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C21-8F42-40FB-AAE1-2EC75CB9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BAA6-AC6A-422A-82B3-55D2DCD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AAEE-BB92-4DA2-A277-8FB2C2F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F78-7992-4F15-935F-2823342C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CAF-A73A-4820-9BC6-AD0C4D88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B66B-2024-40FE-952A-64C2C26E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F03F-973F-4C73-86DD-3317A1C7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9EF8-1CAF-4DFF-A89E-28AB9358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087C-00B2-4967-9050-BEFBECD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E7F1-A4E7-4B44-AE66-7C1E357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4F5A-57F4-4A06-A026-7288639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B49-41F0-43E0-BA0B-C8BAA7B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581B-6757-4A31-9951-0402288F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40C31-7DF1-4971-9A5B-0936C2C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37EB-BB3C-4CAF-9054-2608831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35E0-2D53-4135-A3BF-52E4DD66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18390-8842-4215-AC03-E8481524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029F-61D6-4245-B605-F33E10E0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701C-996B-405B-A416-B9E95E1A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E015E-3E11-4D20-A873-5B25B009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8A339-4751-4114-8C5F-7048A81A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6871-A6FD-4489-AC44-EB18AC30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B50-2604-458C-A697-48B3B45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33CD-6E1F-4119-B928-27B30E4C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1263D-1AE7-43D5-817F-EEC8BBD3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0866-77BC-4CFF-95BD-18ADD5B1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427A-0E4F-4FEE-9A01-2B14876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CA11-477D-41F8-85AE-90F8972C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E0F90-69FA-44DE-BE89-AC6876AD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F5C7-1322-4989-83F5-9EB98822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DB46A-D205-42B0-98B8-02C4CCD2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8970-3DC8-497E-850C-090B85DF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BAF9E-836D-4EC4-9E94-F06F996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88B3-3AB2-45E8-BA43-00A96231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C534F-8D7F-483D-8472-4EA21B68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2E734-1BA8-48C6-8E3F-76FD5144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35A57-7771-4BBD-84EA-567DBDE9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340A-79C3-4E2B-8CF3-540A4B4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38625-4570-4901-8B11-08983E8C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0AEB-8AF9-4271-AE54-C33846B3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0AC6F-0719-4377-9AEA-309CF1DD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BAC0-8DB8-4313-B2BD-873660D0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8DF77-E0DF-458E-B78B-BF0A0786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FF60-C149-46E3-9FFF-4690F56A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3F76-1900-41F2-8EFE-2A734993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EAC8-368B-41B9-80EC-87B27DB7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67CD-76DD-4953-952E-D010B2F0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0F2A-CF4E-496E-A17C-5BCC386F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AD382-FFB4-4917-BFE0-F0314351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0DC7-5B69-444D-91A5-19088440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9DE2C-F9FD-4BF2-9134-6140688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046C-29CD-4CB0-A62D-C1194825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BFB2-46F8-4AA9-98D5-FEFACE0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C3A6-FE78-4C2D-829F-CE87B276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9A184-E082-4D71-BBBC-B0FAB217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D88-EB88-4CDE-87EC-3C859A7E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DCE9-B30C-481E-BDCA-B0D27790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07AD3-667E-45C1-B0E9-5D6795F6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9F72-D37F-4BC2-8246-EC0958E9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0F707-EC75-4B1F-8937-5DC9D6D5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03168-6EBD-4F10-9728-24C83A85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64CAE-EEEE-4B6E-9C45-7949E2CA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8D6D-42C5-47FD-92F4-0974B625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D70B-1C34-4BE5-B913-3FCA636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8272-085B-41E0-8419-470A8FE2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D9EEB-8DDE-4F01-B3C1-22402AF2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A30-EC71-4945-9BB1-AA5F2A3E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043B6-F449-44D2-8452-21EC9578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4F10-7D7A-43F4-A911-08EB274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ED88-C5A3-4614-8FF9-F6B6E47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613B-BD76-4D75-B6C8-C6F1935C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BEB4C-40C7-4B1E-BA62-74581DAA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55D-692A-4A22-A22A-4638F55A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9CE4-7009-4ED9-909D-44F1A9379E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98C-70AF-47F8-945E-7BAEACA20F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B846-0677-482D-982A-E937159A51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1BF1-CFCE-4462-8013-C7C0451E8E7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7EB3-B55E-490B-BCA2-DB362620B6A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A5B9-EDE4-4CDD-B8E5-C852F159D7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BA8B-9FF6-487B-B492-FC93001212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rrational Number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Lesson 5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295280" y="268200"/>
            <a:ext cx="6831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or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Content Placeholder 3"/>
              <p:cNvSpPr txBox="1"/>
              <p:nvPr/>
            </p:nvSpPr>
            <p:spPr>
              <a:xfrm>
                <a:off x="4108320" y="1816200"/>
                <a:ext cx="2151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371600" y="1447920"/>
                <a:ext cx="1111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Content Placeholder 2"/>
          <p:cNvSpPr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not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divisible by a prime p, then n is divisible b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with 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+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–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x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of by contradiction.. Again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e: When an irrational number is divided by a rational number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e, the quotient is 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ere s is rat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= s x 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adiction:  s x r  = rational numb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fore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828800" y="3505320"/>
                <a:ext cx="1174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jugat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Content Placeholder 3"/>
              <p:cNvSpPr txBox="1"/>
              <p:nvPr/>
            </p:nvSpPr>
            <p:spPr>
              <a:xfrm>
                <a:off x="1523880" y="1219320"/>
                <a:ext cx="23004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3657600" y="1219320"/>
                <a:ext cx="28926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914400" y="3962520"/>
                <a:ext cx="40734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5068800" y="4191120"/>
                <a:ext cx="40752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Pages 283 – 284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 – 5, 8, 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0, 12 - 13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0:51:01Z</dcterms:created>
  <dc:creator>student</dc:creator>
  <dc:description/>
  <dc:language>en-US</dc:language>
  <cp:lastModifiedBy>Laura Helbing</cp:lastModifiedBy>
  <dcterms:modified xsi:type="dcterms:W3CDTF">2012-11-28T17:46:17Z</dcterms:modified>
  <cp:revision>7</cp:revision>
  <dc:subject/>
  <dc:title>Irrational Numbers </dc:title>
</cp:coreProperties>
</file>