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BE2-D50C-4BE0-8658-D28F96B2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783-8009-47C4-8EAC-75BBB999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5FB-3F97-463A-ABDA-4882CC31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955-10DA-42CD-8C83-16ACC916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B04B-8880-401F-89C8-6A348859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6505-8AC5-498C-8582-CC7A1737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27A5-D21A-4150-877E-4A982C02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435C-20EB-40AA-9DAE-10CEA58C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F583-730B-4D38-8E01-71413FDB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9419-0C00-4AFE-A5D3-F7A5D5DF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1726-0BD8-41BC-9A5C-E6E0B925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7BC-6876-4613-A673-6420CA5B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5D70-3F73-4059-8F23-09103EF9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60AC-39C7-4F0F-B41C-9DDFDE74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4BD9-EAC8-4378-9D7B-E0F6D821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9CD9-9DB3-4609-AA6D-BF824F8E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070A-7B5C-48BB-867E-A592C61B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8D05-A04D-4E9D-B0D2-CCE38E5E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C2D7B-877E-4621-A393-7833A8EB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5FBCB-5514-4707-BF87-4A0578D9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9C3C-688E-48F6-8218-76ED8526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756A-1ADD-4E68-A62A-1548D9A8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9D0-B068-486B-BEB6-7AEB092A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3B95B-3879-49B8-91B0-0259A546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4170A-B32D-43AE-B74F-5BC9552A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5606B-34EA-40EE-98B0-990B1CE1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E651E-15DD-4C3D-8228-560BB48F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F00F-A5FE-4B59-90AD-3BFDCFC1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05522-6E20-4E14-8CDA-4BCDD234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A0338-8804-4CAF-81C5-165BE440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1B211-930D-4959-8866-3FC2870A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0A415-A4C4-460F-BF51-7456153F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F7028-7FDC-45CB-9C15-8C8BB803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013-0CC4-425B-9CD6-79F8E3D0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1BB81-D127-4D5D-AC36-5A561AF3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6ACA6-BADC-46D6-902B-A68B2790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3FF62-0167-45AB-9F8A-9156B596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97FF3-D8EF-4A62-A5C5-1EA24E8D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D4F0C-1BD6-4C3F-8816-8FBC650E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73454-F132-4C19-852D-96BB6C49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09D58-3DF9-44CC-999C-3D47A016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0E54E-316B-4E31-B356-E8C55CE0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D1449-3318-4486-9BD5-B4852C1C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6EBAD-34A4-482C-A52C-8402D0F0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F01-C8D8-4E45-B9A1-8F6B2A53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C5C36-C63E-4DA3-B114-4E80A064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6BE30-7E83-4A5F-B36C-99760FF3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49702-F3E3-4FEB-AB92-0B4AE186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42342-DA0F-4870-ACF1-2ACEDB7F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4C0BE-6C43-4495-AC41-C528E129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8BCE7-73F1-4242-9B1D-FBFA462E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5BB95-F4C7-485B-8814-57611410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9A530-5CA5-4A6D-80B2-4E781179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7CD3E-A982-45C6-BBC3-518A4AB6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0FB90-38E3-47FC-A700-8BE482B9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D84-ECCA-4C8B-9A2E-AD63B579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7F01A-107C-4598-AF17-61025799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CBF1E-1A92-4216-9B79-3818E8B3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F591D-1F73-437B-A98C-EEBBCFCD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02179-EB6A-469E-99B0-FD265CAA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1A563-22AC-4042-BA92-F07BD6F1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11BFF-4BD1-4ED1-9636-0203712F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E4B83-9B5D-4701-A8A0-D2D7B1BE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E2C97-B1C6-4BC6-A10F-4E1445FB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8B46B-E5CB-4EB5-A760-E93EA0D7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2092F-6ED2-4DE7-897E-81CA93E5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1AC-430F-45BA-A1BA-3388641C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34059-BFE4-4C3C-AE3A-24590B0F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6496B-3FFD-4CF7-BC1E-FF57396E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24156-81A2-458F-B5D6-D9761689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C63E4-624C-4EFD-A623-304801DC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6BED3-D6CF-4403-87BA-87CD9403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7239A-A05F-4CD4-9496-FE6E8D7E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328C5-835B-48F8-B6D9-44AD4909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0160E-19C2-4FDC-B796-90B5C793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C4EF1-4FBF-499D-A002-443A92E7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C8B84-2861-4B80-A11A-23B9FEFC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FDD-706C-45BA-A02D-BE67DE63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688FF-609A-4B0B-A67D-06E31475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065BE-C5AB-412C-AECC-F4595FBA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55197-700B-4AD4-B369-1D8F58D6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2DB49-496F-4DD1-88F2-99D51E5B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4B257-23F3-4D50-B7B5-D085E88C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506-DEFB-4B49-82F3-3EB353F4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CEA4-E66E-4F76-A652-BAFED79DE24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B2E2-55FA-4751-84D0-2D5C78324A6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F08D-258D-43B9-ABC0-0D4073FAAF5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4F9D-BA0D-4AE6-961E-E7663DF13D4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E122-8EC3-47DC-9A91-070E2211574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704B-05F4-4B92-8636-ED55AA71D41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2EEC-8098-44A4-A84B-72C15B41615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rrational Number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Lesson 5.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295280" y="268200"/>
            <a:ext cx="6831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ore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Content Placeholder 3"/>
              <p:cNvSpPr txBox="1"/>
              <p:nvPr/>
            </p:nvSpPr>
            <p:spPr>
              <a:xfrm>
                <a:off x="4108320" y="1816200"/>
                <a:ext cx="21513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1371600" y="1447920"/>
                <a:ext cx="111132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4" name="Content Placeholder 2"/>
          <p:cNvSpPr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not ra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s divisible by a prime p, then n is divisible by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osed with rational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+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–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x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of by contradiction.. Again </a:t>
            </a:r>
            <a:r>
              <a:rPr b="0" lang="en-US" sz="4300" spc="-1" strike="noStrike">
                <a:solidFill>
                  <a:srgbClr val="572314"/>
                </a:solidFill>
                <a:latin typeface="Wingdings"/>
                <a:ea typeface="Wingdings"/>
              </a:rPr>
              <a:t>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ve: When an irrational number is divided by a rational number, the quotient is ir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sume, the quotient is 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where s is rati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= s x 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adiction:  s x r  = rational numb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fore, the quotient is ir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828800" y="3505320"/>
                <a:ext cx="11746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njugates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Content Placeholder 3"/>
              <p:cNvSpPr txBox="1"/>
              <p:nvPr/>
            </p:nvSpPr>
            <p:spPr>
              <a:xfrm>
                <a:off x="1523880" y="1219320"/>
                <a:ext cx="230040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3657600" y="1219320"/>
                <a:ext cx="289260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5"/>
              <p:cNvSpPr txBox="1"/>
              <p:nvPr/>
            </p:nvSpPr>
            <p:spPr>
              <a:xfrm>
                <a:off x="914400" y="3962520"/>
                <a:ext cx="407340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6"/>
              <p:cNvSpPr txBox="1"/>
              <p:nvPr/>
            </p:nvSpPr>
            <p:spPr>
              <a:xfrm>
                <a:off x="5068800" y="4191120"/>
                <a:ext cx="407520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ewor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Pages 283 – 284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1 – 5, 8, 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10, 12 - 13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0:51:01Z</dcterms:created>
  <dc:creator>student</dc:creator>
  <dc:description/>
  <dc:language>en-US</dc:language>
  <cp:lastModifiedBy>Laura Helbing</cp:lastModifiedBy>
  <dcterms:modified xsi:type="dcterms:W3CDTF">2012-11-28T17:46:17Z</dcterms:modified>
  <cp:revision>7</cp:revision>
  <dc:subject/>
  <dc:title>Irrational Numbers </dc:title>
</cp:coreProperties>
</file>