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486F-B8A9-4281-9002-5690A3E95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4D84-1149-4BD1-926B-4BEA72051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F7FB-BDB3-444A-BCFD-68FF2913D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9ADE-67DB-4DA2-84FF-EF0BDD370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2E6A0-D25A-4274-B5D4-FDB55B7D4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B364A-44AF-4F16-979B-4F5337A16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E4D3F-895A-41C6-ABFC-807032A0D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5ABB5-5992-4654-ADEA-16BD33563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FEDB2-24C8-4BFD-8019-0F74ED64D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35E59-0F6A-45F9-94DF-D68F819B1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9D061-915C-44E5-9325-1ECD918D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D9DD-29EF-4259-AAD2-938A1B91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0F034-B274-48A0-A557-74CCA408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06EFA-D6FE-442D-BB12-BBA5155E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BD493-0B5D-4CBA-85FF-8346F4C5E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EB1C5-7102-4775-BB75-FF28404ED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E2166-062D-4B47-BA59-C19E4D611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FE5B1-5513-457C-8EDF-6889FE68F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14E1D-13AC-48F7-8ADF-C1EA8777D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45328-1BDF-441E-B3C0-93ED59369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C6323-33D0-403C-90C7-004D47A6F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AA251-D550-45D4-9EB6-15B7129B6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BCA1-AF6C-4E57-AD6B-93CB6612A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172AF-60AB-44B5-9193-CCE438CCC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C004E-DD0A-4BBB-A091-42DA183A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B620C-3B46-4121-A83D-87D82866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68BDC-785F-4FC8-AAC0-893184BC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365EB-76A7-4663-AE69-68B77F719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ABB82-D329-45F4-9C6C-72222063A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515C0-145D-4602-9BDE-D77029246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91079-546C-4AE2-BD90-F7391C03F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CE540-8B21-4B04-95A4-3962462C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C3859-4034-4058-9C69-DB6BBA7CC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08DD-B137-4EC6-B54C-CE18E5115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20217-2F0D-4182-A7BC-C5D311A29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21B8F-1234-47CC-A707-3F3D9B44A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0C0D7-051D-4A46-A677-2F7D81851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F00C8-56BC-4476-9A92-5D906084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740E9-2D17-43C5-B31C-A00CAEB5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7D9E8-64ED-441B-AE54-427F3EA4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5BCFE-5A4D-4D3C-AB72-5B9998123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F5D46-B9EB-4166-9339-AFD79A73A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B5289-232E-47FF-BB2D-92B40B55E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F0C6C-0A77-41D7-BF1A-52B559DDA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9649-E18F-4DB7-A06D-7FE79DD0A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CBF09-4620-4B70-9578-7E0419937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7469C-EA9C-4A45-BB13-BA997624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7EC70-4C75-4788-9CD7-607124D25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1D0B8-E5C2-4A17-9A70-61F9CC658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0600E-C952-4BDA-803F-2B374141F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9C27E-1A37-42F7-806E-36160AF7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95706-6CD9-4E0C-B88A-161AE76A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99E45-FD9B-480B-B602-1D3AD025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0B369-1E50-42B3-83B1-54396B8CC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25BB9-F539-433B-910B-245FEDC09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07C2-D57A-4524-A13D-43443A871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EF554-C237-4DC6-AE88-924C50E53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762ED-1CE1-48DC-9EE2-C72A7414C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71329-36CC-48A9-8A1B-DD1F6364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A73E6-2E40-4C27-85D3-AF3A79CAA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ED4BB-AC6A-4C0B-859C-4A09E00A6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A3497-392A-46B7-8063-3E3044E76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F0C1E7-7674-466A-AFA4-2767271E5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3D5A4-A3DE-47F5-97D7-86AA4E91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2C4FA-8CED-4C40-A0FA-5C8C57D7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8E007-8710-4C5F-9F0C-6DFDE556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4599-118B-4959-80A1-CDEEAEBC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F6D3A-7406-46DC-A1BB-4951E9BE2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F5576-4DA6-4B59-9631-F0ADD0197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1FE55-ED9D-4D13-A928-B6A3B091C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8B045A-FD00-441A-91EC-0410F7413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068D8-6D01-4857-8498-656FAF292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FDFC8-6F1B-4B83-9B69-14EF781FC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6D054-95A0-4748-B6D6-2A36F5747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2261A6-9349-4555-98C0-83BFA9CC2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80A1A-7855-47D5-8777-516EFE4AC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70FA5-CE80-4CD5-A3BF-52DB93AF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0693-1D72-490C-8F16-4936A64F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E5D79-0CE5-410C-8776-AD9449B4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1BBA0-FF86-46B0-9CEA-158D589B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88432-FE91-464D-9C03-7A19AD1B1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E09F36-716F-4E4E-ADA4-3F710A84C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6C2792-1012-4010-96D8-1AB469AD1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A823-D451-43C7-BDE1-361FBA77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06FD1-4E4A-4EB6-BA2E-F3822A58614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2F08B-0985-44D8-BAED-33429167B28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9389A-CA5C-4B3E-A0C7-C5FC2E78617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FF9CE-0E7C-4D6F-BC62-A3A4DA48657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6369D-0776-4198-AADC-EC15BECF042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F09C8-A7ED-4021-A6B8-771E288410A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0B293-B2BC-4D9A-8B0C-C6E05E8E277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rrational Number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	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Lesson 5.1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1295280" y="268200"/>
            <a:ext cx="6831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heorem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Content Placeholder 3"/>
              <p:cNvSpPr txBox="1"/>
              <p:nvPr/>
            </p:nvSpPr>
            <p:spPr>
              <a:xfrm>
                <a:off x="4108320" y="1816200"/>
                <a:ext cx="2151360" cy="406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3"/>
              <p:cNvSpPr txBox="1"/>
              <p:nvPr/>
            </p:nvSpPr>
            <p:spPr>
              <a:xfrm>
                <a:off x="1371600" y="1447920"/>
                <a:ext cx="1111320" cy="11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24" name="Content Placeholder 2"/>
          <p:cNvSpPr/>
          <p:nvPr/>
        </p:nvSpPr>
        <p:spPr>
          <a:xfrm>
            <a:off x="1434960" y="1447920"/>
            <a:ext cx="74995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s not ra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f 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is divisible by a prime p, then n is divisible by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osed with rational numb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(rational + rational = ration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(rational – rational = ration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(rational x rational = ration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roof by contradiction.. Again </a:t>
            </a:r>
            <a:r>
              <a:rPr b="0" lang="en-US" sz="4300" spc="-1" strike="noStrike">
                <a:solidFill>
                  <a:srgbClr val="572314"/>
                </a:solidFill>
                <a:latin typeface="Wingdings"/>
                <a:ea typeface="Wingdings"/>
              </a:rPr>
              <a:t>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1447920"/>
            <a:ext cx="7499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rove: When an irrational number is divided by a rational number, the quotient is irrationa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ssume, the quotient is rationa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, where s is rationa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= s x r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ntradiction:  s x r  = rational numb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refore, the quotient is irrationa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Object 2"/>
              <p:cNvSpPr txBox="1"/>
              <p:nvPr/>
            </p:nvSpPr>
            <p:spPr>
              <a:xfrm>
                <a:off x="1828800" y="3505320"/>
                <a:ext cx="117468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onjugates!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Content Placeholder 3"/>
              <p:cNvSpPr txBox="1"/>
              <p:nvPr/>
            </p:nvSpPr>
            <p:spPr>
              <a:xfrm>
                <a:off x="1523880" y="1219320"/>
                <a:ext cx="2300400" cy="24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7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4"/>
              <p:cNvSpPr txBox="1"/>
              <p:nvPr/>
            </p:nvSpPr>
            <p:spPr>
              <a:xfrm>
                <a:off x="3657600" y="1219320"/>
                <a:ext cx="2892600" cy="24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num>
                      <m:den>
                        <m:r>
                          <m:t xml:space="preserve">7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5"/>
              <p:cNvSpPr txBox="1"/>
              <p:nvPr/>
            </p:nvSpPr>
            <p:spPr>
              <a:xfrm>
                <a:off x="914400" y="3962520"/>
                <a:ext cx="4073400" cy="22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6"/>
              <p:cNvSpPr txBox="1"/>
              <p:nvPr/>
            </p:nvSpPr>
            <p:spPr>
              <a:xfrm>
                <a:off x="5068800" y="4191120"/>
                <a:ext cx="4075200" cy="22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Homework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Gill Sans MT"/>
              </a:rPr>
              <a:t>Pages 283 – 284</a:t>
            </a:r>
            <a:endParaRPr b="0" lang="en-US" sz="7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Gill Sans MT"/>
              </a:rPr>
              <a:t>1 – 5, 8, </a:t>
            </a:r>
            <a:endParaRPr b="0" lang="en-US" sz="7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Gill Sans MT"/>
              </a:rPr>
              <a:t>10, 12 - 13</a:t>
            </a:r>
            <a:endParaRPr b="0" lang="en-US" sz="7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00:51:01Z</dcterms:created>
  <dc:creator>student</dc:creator>
  <dc:description/>
  <dc:language>en-US</dc:language>
  <cp:lastModifiedBy>Laura Helbing</cp:lastModifiedBy>
  <dcterms:modified xsi:type="dcterms:W3CDTF">2012-11-28T17:46:17Z</dcterms:modified>
  <cp:revision>7</cp:revision>
  <dc:subject/>
  <dc:title>Irrational Numbers </dc:title>
</cp:coreProperties>
</file>