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F7E8-40F8-475A-AA82-94C5D05D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8AEA-8F72-4A1B-BCA0-839E42B3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730-3707-4302-BE7E-90F2141F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50BF-0812-4230-8492-78A58D29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FD8B-109E-4977-BEDF-016912BC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04E4-3D21-4256-AA70-C7FBEB6F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99FB-A20D-4728-8802-9492EF00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2C7F-1A81-48AE-BB7E-77C846B5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C253-3368-472E-B035-E240851E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945-2908-476D-8AE3-6AC89F0C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FA3F-5879-4BE9-8921-513720F4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748-68F6-4C9A-BBAA-0310EB2D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E0DD-48AF-44FE-A374-AC6F229B2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4308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The Inverse Trig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30320"/>
            <a:ext cx="64008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404040"/>
                </a:solidFill>
                <a:latin typeface="Calibri"/>
              </a:rPr>
              <a:t>Lesson 8.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x &lt; 0 and y &gt; 0, write cos (s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x/y)) in terms of x and 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quadra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s is neg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ight Triangle 7"/>
          <p:cNvSpPr/>
          <p:nvPr/>
        </p:nvSpPr>
        <p:spPr>
          <a:xfrm>
            <a:off x="685800" y="3257640"/>
            <a:ext cx="2438280" cy="1371600"/>
          </a:xfrm>
          <a:prstGeom prst="rtTriangle">
            <a:avLst/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154800" y="4019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1752480" y="348624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2362320" y="4324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1526760" y="4629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2704320" y="3105000"/>
            <a:ext cx="194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?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2855880" y="3714840"/>
            <a:ext cx="19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4"/>
              <p:cNvSpPr txBox="1"/>
              <p:nvPr/>
            </p:nvSpPr>
            <p:spPr>
              <a:xfrm>
                <a:off x="2971800" y="4095720"/>
                <a:ext cx="280044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?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5334120" y="2952720"/>
                <a:ext cx="358272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ve sin x = -.82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arcsin(-.824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-55.54˚ + 360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35.5378˚ + 360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-.9693 + 2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, -2.1722+2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alibri"/>
              </a:rPr>
              <a:t>Pages 47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alibri"/>
              </a:rPr>
              <a:t>2, 4 - 1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Reminder… y = 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143000" y="1200240"/>
            <a:ext cx="6486480" cy="34574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5"/>
          <p:cNvSpPr/>
          <p:nvPr/>
        </p:nvSpPr>
        <p:spPr>
          <a:xfrm>
            <a:off x="1600200" y="1581120"/>
            <a:ext cx="1455840" cy="293040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404040"/>
                </a:solidFill>
                <a:latin typeface="Calibri"/>
              </a:rPr>
              <a:t>Reminder… y = cos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5867640" cy="3714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1905120" y="1733400"/>
            <a:ext cx="4647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219320" y="1276200"/>
            <a:ext cx="693396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921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Remember… y = sin 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sinx.gif"/>
          <p:cNvPicPr/>
          <p:nvPr/>
        </p:nvPicPr>
        <p:blipFill>
          <a:blip r:embed="rId1"/>
          <a:stretch/>
        </p:blipFill>
        <p:spPr>
          <a:xfrm>
            <a:off x="1219320" y="1276200"/>
            <a:ext cx="6933960" cy="3235320"/>
          </a:xfrm>
          <a:prstGeom prst="rect">
            <a:avLst/>
          </a:prstGeom>
          <a:ln w="0">
            <a:noFill/>
          </a:ln>
        </p:spPr>
      </p:pic>
      <p:sp>
        <p:nvSpPr>
          <p:cNvPr id="54" name="Freeform 5"/>
          <p:cNvSpPr/>
          <p:nvPr/>
        </p:nvSpPr>
        <p:spPr>
          <a:xfrm>
            <a:off x="3962520" y="1335240"/>
            <a:ext cx="1349280" cy="270324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219320" y="1276200"/>
            <a:ext cx="693396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921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Calibri"/>
              </a:rPr>
              <a:t>Remember… y = sin 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286000" y="1352520"/>
            <a:ext cx="4572000" cy="3571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200240"/>
            <a:ext cx="82296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Remember… y = tan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45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785880" y="1285920"/>
            <a:ext cx="8001000" cy="3857760"/>
          </a:xfrm>
          <a:prstGeom prst="rect">
            <a:avLst/>
          </a:prstGeom>
          <a:ln w="0">
            <a:noFill/>
          </a:ln>
        </p:spPr>
      </p:pic>
      <p:sp>
        <p:nvSpPr>
          <p:cNvPr id="62" name="Freeform 6"/>
          <p:cNvSpPr/>
          <p:nvPr/>
        </p:nvSpPr>
        <p:spPr>
          <a:xfrm>
            <a:off x="3244680" y="1380960"/>
            <a:ext cx="1773360" cy="3613320"/>
          </a:xfrm>
          <a:prstGeom prst="pi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y = tan</a:t>
            </a:r>
            <a:r>
              <a:rPr b="0" lang="fr-CA" sz="44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CA" sz="4400" spc="-1" strike="noStrike">
                <a:solidFill>
                  <a:srgbClr val="000000"/>
                </a:solidFill>
                <a:latin typeface="Calibri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445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tan_atan.gif"/>
          <p:cNvPicPr/>
          <p:nvPr/>
        </p:nvPicPr>
        <p:blipFill>
          <a:blip r:embed="rId1"/>
          <a:stretch/>
        </p:blipFill>
        <p:spPr>
          <a:xfrm>
            <a:off x="357120" y="1179360"/>
            <a:ext cx="8215560" cy="39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summarize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200240"/>
          <a:ext cx="8400960" cy="2789280"/>
        </p:xfrm>
        <a:graphic>
          <a:graphicData uri="http://schemas.openxmlformats.org/drawingml/2006/table">
            <a:tbl>
              <a:tblPr/>
              <a:tblGrid>
                <a:gridCol w="1916280"/>
                <a:gridCol w="3098520"/>
                <a:gridCol w="3386160"/>
              </a:tblGrid>
              <a:tr h="5713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main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nge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168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</a:t>
                      </a:r>
                      <a:r>
                        <a:rPr b="1" lang="en-US" sz="33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≤ x ≤  1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l-GR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 ≤ y ≤ </a:t>
                      </a:r>
                      <a:r>
                        <a:rPr b="1" lang="el-GR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13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s</a:t>
                      </a:r>
                      <a:r>
                        <a:rPr b="1" lang="en-US" sz="33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≤ x ≤  1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 ≤ y ≤ </a:t>
                      </a:r>
                      <a:r>
                        <a:rPr b="1" lang="el-GR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7496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n</a:t>
                      </a:r>
                      <a:r>
                        <a:rPr b="1" lang="en-US" sz="33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r>
                        <a:rPr b="1" lang="en-US" sz="3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of all reals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el-GR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 ≤ y ≤ </a:t>
                      </a:r>
                      <a:r>
                        <a:rPr b="1" lang="el-GR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</a:t>
                      </a:r>
                      <a:r>
                        <a:rPr b="1" lang="en-US" sz="3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2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ight Triangle 5"/>
          <p:cNvSpPr/>
          <p:nvPr/>
        </p:nvSpPr>
        <p:spPr>
          <a:xfrm>
            <a:off x="1066680" y="4095720"/>
            <a:ext cx="1524240" cy="685800"/>
          </a:xfrm>
          <a:prstGeom prst="rtTriangl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op of the crossbar in each goal post in high school football is 10 feet off the ground.  Express the measure of the angle of elevation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rom a point halfway between the sidelines to the top of the crossbar as a function of the distance d in yards from a point directly below the middle of the crossbar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val 3"/>
          <p:cNvSpPr/>
          <p:nvPr/>
        </p:nvSpPr>
        <p:spPr>
          <a:xfrm>
            <a:off x="990720" y="401940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"/>
          <p:cNvSpPr/>
          <p:nvPr/>
        </p:nvSpPr>
        <p:spPr>
          <a:xfrm>
            <a:off x="2514600" y="470520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158040" y="4248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f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1150200" y="38671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2599920" y="477360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on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1907640" y="4476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1526760" y="477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4648320" y="3790800"/>
                <a:ext cx="16761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5"/>
              <p:cNvSpPr txBox="1"/>
              <p:nvPr/>
            </p:nvSpPr>
            <p:spPr>
              <a:xfrm>
                <a:off x="6518160" y="3867120"/>
                <a:ext cx="22035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01:06:07Z</dcterms:created>
  <dc:creator>Laura Helbing</dc:creator>
  <dc:description/>
  <dc:language>en-US</dc:language>
  <cp:lastModifiedBy>Laura Helbing</cp:lastModifiedBy>
  <dcterms:modified xsi:type="dcterms:W3CDTF">2011-01-13T02:35:47Z</dcterms:modified>
  <cp:revision>65</cp:revision>
  <dc:subject/>
  <dc:title>The Inverse Cosine Function</dc:title>
</cp:coreProperties>
</file>