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880C-2E6F-45D0-9D0F-6BAA6300D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06B8-3D26-4FE1-9044-1000205AA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072C-0A73-425C-80DE-2F9AF3B84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D56B-B427-46E8-BC9B-E0552F290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4C26-B2BF-40BE-9559-0A6824661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BEE2-1C69-437C-891A-46E88946F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9544-2488-433B-ADA5-1BE907D71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55B3-CCE4-4704-939B-CEA632626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F663-FBC2-455E-A857-BC54CF934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0358-A46E-40C1-A6F2-F98211C3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A40C-B18D-4B35-8DDC-216BB72A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E834-84D6-4780-909F-2FC04582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D9C9A-E631-4258-8297-5F05FF5853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43080"/>
            <a:ext cx="77724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The Inverse Trig Fun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830320"/>
            <a:ext cx="640080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404040"/>
                </a:solidFill>
                <a:latin typeface="Calibri"/>
              </a:rPr>
              <a:t>Lesson 8.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x &lt; 0 and y &gt; 0, write cos (si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x/y)) in terms of x and 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quadra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s is neg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ight Triangle 7"/>
          <p:cNvSpPr/>
          <p:nvPr/>
        </p:nvSpPr>
        <p:spPr>
          <a:xfrm>
            <a:off x="685800" y="3257640"/>
            <a:ext cx="2438280" cy="1371600"/>
          </a:xfrm>
          <a:prstGeom prst="rtTriangle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154800" y="4019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9"/>
          <p:cNvSpPr/>
          <p:nvPr/>
        </p:nvSpPr>
        <p:spPr>
          <a:xfrm>
            <a:off x="1752480" y="348624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0"/>
          <p:cNvSpPr/>
          <p:nvPr/>
        </p:nvSpPr>
        <p:spPr>
          <a:xfrm>
            <a:off x="2362320" y="43243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1"/>
          <p:cNvSpPr/>
          <p:nvPr/>
        </p:nvSpPr>
        <p:spPr>
          <a:xfrm>
            <a:off x="1526760" y="4629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2"/>
          <p:cNvSpPr/>
          <p:nvPr/>
        </p:nvSpPr>
        <p:spPr>
          <a:xfrm>
            <a:off x="2704320" y="3105000"/>
            <a:ext cx="194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+ ?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y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3"/>
          <p:cNvSpPr/>
          <p:nvPr/>
        </p:nvSpPr>
        <p:spPr>
          <a:xfrm>
            <a:off x="2855880" y="3714840"/>
            <a:ext cx="193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y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4"/>
              <p:cNvSpPr txBox="1"/>
              <p:nvPr/>
            </p:nvSpPr>
            <p:spPr>
              <a:xfrm>
                <a:off x="2971800" y="4095720"/>
                <a:ext cx="280044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?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5"/>
              <p:cNvSpPr txBox="1"/>
              <p:nvPr/>
            </p:nvSpPr>
            <p:spPr>
              <a:xfrm>
                <a:off x="5334120" y="2952720"/>
                <a:ext cx="358272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ve sin x = -.824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 = arcsin(-.824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 = -55.54˚ + 360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35.5378˚ + 360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-.9693 + 2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, -2.1722+2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Calibri"/>
              </a:rPr>
              <a:t>Pages 47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Calibri"/>
              </a:rPr>
              <a:t>2, 4 - 1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Reminder… y = cos 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1143000" y="1200240"/>
            <a:ext cx="6486480" cy="34574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5"/>
          <p:cNvSpPr/>
          <p:nvPr/>
        </p:nvSpPr>
        <p:spPr>
          <a:xfrm>
            <a:off x="1600200" y="1581120"/>
            <a:ext cx="1455840" cy="2930400"/>
          </a:xfrm>
          <a:prstGeom prst="pi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Reminder… y = cos 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5867640" cy="3714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1905120" y="1733400"/>
            <a:ext cx="46479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1219320" y="1276200"/>
            <a:ext cx="6933960" cy="327672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921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Calibri"/>
              </a:rPr>
              <a:t>Remember… y = sin x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sinx.gif"/>
          <p:cNvPicPr/>
          <p:nvPr/>
        </p:nvPicPr>
        <p:blipFill>
          <a:blip r:embed="rId1"/>
          <a:stretch/>
        </p:blipFill>
        <p:spPr>
          <a:xfrm>
            <a:off x="1219320" y="1276200"/>
            <a:ext cx="6933960" cy="3235320"/>
          </a:xfrm>
          <a:prstGeom prst="rect">
            <a:avLst/>
          </a:prstGeom>
          <a:ln w="0">
            <a:noFill/>
          </a:ln>
        </p:spPr>
      </p:pic>
      <p:sp>
        <p:nvSpPr>
          <p:cNvPr id="54" name="Freeform 5"/>
          <p:cNvSpPr/>
          <p:nvPr/>
        </p:nvSpPr>
        <p:spPr>
          <a:xfrm>
            <a:off x="3962520" y="1335240"/>
            <a:ext cx="1349280" cy="2703240"/>
          </a:xfrm>
          <a:prstGeom prst="pi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1219320" y="1276200"/>
            <a:ext cx="6933960" cy="327672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921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Calibri"/>
              </a:rPr>
              <a:t>Remember… y = sin x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2286000" y="1352520"/>
            <a:ext cx="4572000" cy="3571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57200" y="1200240"/>
            <a:ext cx="822960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Remember… y = tan 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445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785880" y="1285920"/>
            <a:ext cx="8001000" cy="3857760"/>
          </a:xfrm>
          <a:prstGeom prst="rect">
            <a:avLst/>
          </a:prstGeom>
          <a:ln w="0">
            <a:noFill/>
          </a:ln>
        </p:spPr>
      </p:pic>
      <p:sp>
        <p:nvSpPr>
          <p:cNvPr id="62" name="Freeform 6"/>
          <p:cNvSpPr/>
          <p:nvPr/>
        </p:nvSpPr>
        <p:spPr>
          <a:xfrm>
            <a:off x="3244680" y="1380960"/>
            <a:ext cx="1773360" cy="3613320"/>
          </a:xfrm>
          <a:prstGeom prst="pi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y = tan</a:t>
            </a:r>
            <a:r>
              <a:rPr b="0" lang="fr-CA" sz="44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 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445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tan_atan.gif"/>
          <p:cNvPicPr/>
          <p:nvPr/>
        </p:nvPicPr>
        <p:blipFill>
          <a:blip r:embed="rId1"/>
          <a:stretch/>
        </p:blipFill>
        <p:spPr>
          <a:xfrm>
            <a:off x="357120" y="1179360"/>
            <a:ext cx="8215560" cy="39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 summarize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200240"/>
          <a:ext cx="8400960" cy="2789280"/>
        </p:xfrm>
        <a:graphic>
          <a:graphicData uri="http://schemas.openxmlformats.org/drawingml/2006/table">
            <a:tbl>
              <a:tblPr/>
              <a:tblGrid>
                <a:gridCol w="1916280"/>
                <a:gridCol w="3098520"/>
                <a:gridCol w="3386160"/>
              </a:tblGrid>
              <a:tr h="571320"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omain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nge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71680"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in</a:t>
                      </a:r>
                      <a:r>
                        <a:rPr b="1" lang="en-US" sz="3300" spc="-1" strike="noStrike" baseline="30000">
                          <a:solidFill>
                            <a:srgbClr val="ffffff"/>
                          </a:solidFill>
                          <a:latin typeface="Calibri"/>
                        </a:rPr>
                        <a:t>-1</a:t>
                      </a:r>
                      <a:r>
                        <a:rPr b="1" lang="en-US" sz="3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≤ x ≤  1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1" lang="el-GR" sz="3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π</a:t>
                      </a: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2 ≤ y ≤ </a:t>
                      </a:r>
                      <a:r>
                        <a:rPr b="1" lang="el-GR" sz="3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π</a:t>
                      </a: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2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1320"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s</a:t>
                      </a:r>
                      <a:r>
                        <a:rPr b="1" lang="en-US" sz="3300" spc="-1" strike="noStrike" baseline="30000">
                          <a:solidFill>
                            <a:srgbClr val="ffffff"/>
                          </a:solidFill>
                          <a:latin typeface="Calibri"/>
                        </a:rPr>
                        <a:t>-1</a:t>
                      </a:r>
                      <a:r>
                        <a:rPr b="1" lang="en-US" sz="3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 ≤ x ≤  1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 ≤ y ≤ </a:t>
                      </a:r>
                      <a:r>
                        <a:rPr b="1" lang="el-GR" sz="3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π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74960"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an</a:t>
                      </a:r>
                      <a:r>
                        <a:rPr b="1" lang="en-US" sz="3300" spc="-1" strike="noStrike" baseline="30000">
                          <a:solidFill>
                            <a:srgbClr val="ffffff"/>
                          </a:solidFill>
                          <a:latin typeface="Calibri"/>
                        </a:rPr>
                        <a:t>-1</a:t>
                      </a:r>
                      <a:r>
                        <a:rPr b="1" lang="en-US" sz="3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of all reals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1" lang="el-GR" sz="3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π</a:t>
                      </a: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2 ≤ y ≤ </a:t>
                      </a:r>
                      <a:r>
                        <a:rPr b="1" lang="el-GR" sz="3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π</a:t>
                      </a: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2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ight Triangle 5"/>
          <p:cNvSpPr/>
          <p:nvPr/>
        </p:nvSpPr>
        <p:spPr>
          <a:xfrm>
            <a:off x="1066680" y="4095720"/>
            <a:ext cx="1524240" cy="685800"/>
          </a:xfrm>
          <a:prstGeom prst="rtTriangl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op of the crossbar in each goal post in high school football is 10 feet off the ground.  Express the measure of the angle of elevation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rom a point halfway between the sidelines to the top of the crossbar as a function of the distance d in yards from a point directly below the middle of the crossbar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val 3"/>
          <p:cNvSpPr/>
          <p:nvPr/>
        </p:nvSpPr>
        <p:spPr>
          <a:xfrm>
            <a:off x="990720" y="401940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4"/>
          <p:cNvSpPr/>
          <p:nvPr/>
        </p:nvSpPr>
        <p:spPr>
          <a:xfrm>
            <a:off x="2514600" y="470520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158040" y="424800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1150200" y="38671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ss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2599920" y="4773600"/>
            <a:ext cx="14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 on 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9"/>
          <p:cNvSpPr/>
          <p:nvPr/>
        </p:nvSpPr>
        <p:spPr>
          <a:xfrm>
            <a:off x="1907640" y="4476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0"/>
          <p:cNvSpPr/>
          <p:nvPr/>
        </p:nvSpPr>
        <p:spPr>
          <a:xfrm>
            <a:off x="1526760" y="4773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4"/>
              <p:cNvSpPr txBox="1"/>
              <p:nvPr/>
            </p:nvSpPr>
            <p:spPr>
              <a:xfrm>
                <a:off x="4648320" y="3790800"/>
                <a:ext cx="1676160" cy="9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5"/>
              <p:cNvSpPr txBox="1"/>
              <p:nvPr/>
            </p:nvSpPr>
            <p:spPr>
              <a:xfrm>
                <a:off x="6518160" y="3867120"/>
                <a:ext cx="2203560" cy="9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9T01:06:07Z</dcterms:created>
  <dc:creator>Laura Helbing</dc:creator>
  <dc:description/>
  <dc:language>en-US</dc:language>
  <cp:lastModifiedBy>Laura Helbing</cp:lastModifiedBy>
  <dcterms:modified xsi:type="dcterms:W3CDTF">2011-01-13T02:35:47Z</dcterms:modified>
  <cp:revision>65</cp:revision>
  <dc:subject/>
  <dc:title>The Inverse Cosine Function</dc:title>
</cp:coreProperties>
</file>