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E91-0477-4B3A-BDC1-2E11BE6F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8B8-6B56-4387-822B-1D1E1005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482-F0AE-4EA7-96ED-0865EF54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0ED-6FD0-4C29-9D70-5C10C1EA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993-A15E-44F1-AC01-3BFB7156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2C5-C735-480C-9E29-D6526BCF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F6D-88A4-4A12-BFFE-31EBBDEB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986-533F-4C88-8AC3-84D005AB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E25-98A2-4DAA-AF7D-5CA301A9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51C-A25B-41A5-8AF1-D4E86FBE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F30-1D3A-48B2-BCB7-BF7B575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09F-5633-4FCC-B9C8-E82347E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18B6-2010-4611-84B5-462EBCB47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Trig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8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x &lt; 0 and y &gt; 0, write cos (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/y)) in terms of x and 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adra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s is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ight Triangle 7"/>
          <p:cNvSpPr/>
          <p:nvPr/>
        </p:nvSpPr>
        <p:spPr>
          <a:xfrm>
            <a:off x="685800" y="3257640"/>
            <a:ext cx="2438280" cy="1371600"/>
          </a:xfrm>
          <a:prstGeom prst="rtTriangl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154800" y="401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1752480" y="34862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2362320" y="4324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526760" y="462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704320" y="310500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?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855880" y="3714840"/>
            <a:ext cx="19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2971800" y="4095720"/>
                <a:ext cx="28004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5334120" y="2952720"/>
                <a:ext cx="35827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sin x = -.82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arcsin(-.82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55.54˚ + 360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35.5378˚ + 360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-.9693 + 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, -2.1722+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47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2, 4 - 1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sinx.gif"/>
          <p:cNvPicPr/>
          <p:nvPr/>
        </p:nvPicPr>
        <p:blipFill>
          <a:blip r:embed="rId1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5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8001000" cy="3857760"/>
          </a:xfrm>
          <a:prstGeom prst="rect">
            <a:avLst/>
          </a:prstGeom>
          <a:ln w="0">
            <a:noFill/>
          </a:ln>
        </p:spPr>
      </p:pic>
      <p:sp>
        <p:nvSpPr>
          <p:cNvPr id="62" name="Freeform 6"/>
          <p:cNvSpPr/>
          <p:nvPr/>
        </p:nvSpPr>
        <p:spPr>
          <a:xfrm>
            <a:off x="3244680" y="1380960"/>
            <a:ext cx="1773360" cy="361332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45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tan_atan.gif"/>
          <p:cNvPicPr/>
          <p:nvPr/>
        </p:nvPicPr>
        <p:blipFill>
          <a:blip r:embed="rId1"/>
          <a:stretch/>
        </p:blipFill>
        <p:spPr>
          <a:xfrm>
            <a:off x="357120" y="1179360"/>
            <a:ext cx="8215560" cy="39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200240"/>
          <a:ext cx="8400960" cy="27892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5713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168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13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49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ight Triangle 5"/>
          <p:cNvSpPr/>
          <p:nvPr/>
        </p:nvSpPr>
        <p:spPr>
          <a:xfrm>
            <a:off x="1066680" y="4095720"/>
            <a:ext cx="1524240" cy="6858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p of the crossbar in each goal post in high school football is 10 feet off the ground.  Express the measure of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point halfway between the sidelines to the top of the crossbar as a function of the distance d in yards from a point directly below the middle of the crossba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3"/>
          <p:cNvSpPr/>
          <p:nvPr/>
        </p:nvSpPr>
        <p:spPr>
          <a:xfrm>
            <a:off x="990720" y="401940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514600" y="470520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58040" y="4248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1150200" y="3867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599920" y="47736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190764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1526760" y="477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648320" y="3790800"/>
                <a:ext cx="1676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6518160" y="3867120"/>
                <a:ext cx="2203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13T02:35:47Z</dcterms:modified>
  <cp:revision>65</cp:revision>
  <dc:subject/>
  <dc:title>The Inverse Cosine Function</dc:title>
</cp:coreProperties>
</file>