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CBD4817-0A40-467C-8D6C-95B57E16D582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07000" y="3209760"/>
            <a:ext cx="30290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Graphs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Ra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097240" y="18900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s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132000" y="714240"/>
            <a:ext cx="568800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Removable discontinuity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only one value of x in an area is undefined (looks like the graph has a hole in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Essential discontinuity:</a:t>
            </a: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ore than simply a hole – has a vertical asympt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Vertical asymptote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x=a is a vertical asymptote iff the limit as x approaches a from the left or right equals ± ∞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Verdana"/>
              </a:rPr>
              <a:t>Oblique asymptote: </a:t>
            </a: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as the function approaches infinity, it gets closer to the asympt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61360" y="30718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sympt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803680" y="428760"/>
            <a:ext cx="62143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raph on calcul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asymptote, x =-2, 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ertical : x = -5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movable: x = 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2928960" y="1000080"/>
                <a:ext cx="4815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3214800" y="3429000"/>
                <a:ext cx="48146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4340160" y="2142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2316240" y="642960"/>
            <a:ext cx="672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sider the function g with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each stat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286000" y="3500280"/>
                <a:ext cx="478152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214720" y="5072040"/>
                <a:ext cx="4781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?</m:t>
                            </m:r>
                          </m:sup>
                        </m:sSup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500280" y="1214280"/>
                <a:ext cx="315936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TextBox 7"/>
          <p:cNvSpPr/>
          <p:nvPr/>
        </p:nvSpPr>
        <p:spPr>
          <a:xfrm>
            <a:off x="7361280" y="36432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7291080" y="5286240"/>
            <a:ext cx="77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scribe the end behavior of the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643280" y="1643040"/>
                <a:ext cx="31593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2836800" y="3530520"/>
                <a:ext cx="367848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9"/>
              <p:cNvSpPr txBox="1"/>
              <p:nvPr/>
            </p:nvSpPr>
            <p:spPr>
              <a:xfrm>
                <a:off x="3000240" y="5000760"/>
                <a:ext cx="3678480" cy="15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TextBox 9"/>
          <p:cNvSpPr/>
          <p:nvPr/>
        </p:nvSpPr>
        <p:spPr>
          <a:xfrm>
            <a:off x="6433920" y="350028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6862680" y="50007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57960" y="1785960"/>
            <a:ext cx="5713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3156480" y="2714760"/>
            <a:ext cx="25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000"/>
                </a:solidFill>
                <a:latin typeface="Arial"/>
              </a:rPr>
              <a:t>g(x)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357280" y="642960"/>
            <a:ext cx="65725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Verdana"/>
              </a:rPr>
              <a:t>let f be defined 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Rewrite f(x) as a quotient plus a remainder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b. Use the results to discuss the end behavior of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as x </a:t>
            </a:r>
            <a:r>
              <a:rPr b="1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± ∞, the remainder goes to zero, so we need not worry about that te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3500280" y="1285920"/>
                <a:ext cx="426096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3714840" y="3500280"/>
                <a:ext cx="375912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2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32000" y="785880"/>
            <a:ext cx="56880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scribe the end behavior of the function q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171880" y="1928880"/>
                <a:ext cx="591012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Oval 8"/>
          <p:cNvSpPr/>
          <p:nvPr/>
        </p:nvSpPr>
        <p:spPr>
          <a:xfrm>
            <a:off x="3357720" y="1857240"/>
            <a:ext cx="107136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4211640" y="3429000"/>
                <a:ext cx="220176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2378160" y="4929120"/>
                <a:ext cx="3494160" cy="15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±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Box 11"/>
          <p:cNvSpPr/>
          <p:nvPr/>
        </p:nvSpPr>
        <p:spPr>
          <a:xfrm>
            <a:off x="6505560" y="52862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7680" y="1413000"/>
            <a:ext cx="62863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Determine the end behavior of the function h wit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357280" y="2214720"/>
                <a:ext cx="354816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Oval 10"/>
          <p:cNvSpPr/>
          <p:nvPr/>
        </p:nvSpPr>
        <p:spPr>
          <a:xfrm>
            <a:off x="4786200" y="2143080"/>
            <a:ext cx="1071720" cy="15717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5751360" y="2214720"/>
                <a:ext cx="339264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2643120" y="392904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2714760" y="5559480"/>
                <a:ext cx="306072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TextBox 14"/>
          <p:cNvSpPr/>
          <p:nvPr/>
        </p:nvSpPr>
        <p:spPr>
          <a:xfrm>
            <a:off x="5722200" y="3786120"/>
            <a:ext cx="12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5863320" y="5286240"/>
            <a:ext cx="90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857680" y="1413000"/>
            <a:ext cx="5500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Page 3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3 – 5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9 - 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Kevin Lockwood</cp:lastModifiedBy>
  <dcterms:modified xsi:type="dcterms:W3CDTF">2010-12-15T02:13:36Z</dcterms:modified>
  <cp:revision>42</cp:revision>
  <dc:subject/>
  <dc:title>Christmas Balls</dc:title>
</cp:coreProperties>
</file>