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FD93AF66-9452-4789-9170-B838D2BD22DA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07000" y="3209760"/>
            <a:ext cx="30290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Graphs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Ratio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097240" y="18900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132000" y="714240"/>
            <a:ext cx="56880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Removable discontinuity: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only one value of x in an area is undefined (looks like the graph has a hole in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Essential discontinuity:</a:t>
            </a: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More than simply a hole – has a vertical asympt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Vertical asymptote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x=a is a vertical asymptote iff the limit as x approaches a from the left or right equals ± ∞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Oblique asymptote: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as the function approaches infinity, it gets closer to the asympt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61360" y="30718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ympt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803680" y="428760"/>
            <a:ext cx="62143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aph on calcul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tical asymptote, x =-2, 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tical : x = -5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movable: x =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2"/>
              <p:cNvSpPr txBox="1"/>
              <p:nvPr/>
            </p:nvSpPr>
            <p:spPr>
              <a:xfrm>
                <a:off x="2928960" y="1000080"/>
                <a:ext cx="4815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3"/>
              <p:cNvSpPr txBox="1"/>
              <p:nvPr/>
            </p:nvSpPr>
            <p:spPr>
              <a:xfrm>
                <a:off x="3214800" y="3429000"/>
                <a:ext cx="48146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4340160" y="2142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316240" y="642960"/>
            <a:ext cx="672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ider the function g with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lete each stat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286000" y="3500280"/>
                <a:ext cx="4781520" cy="15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?</m:t>
                            </m:r>
                          </m:sup>
                        </m:sSup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2214720" y="5072040"/>
                <a:ext cx="478152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?</m:t>
                            </m:r>
                          </m:sup>
                        </m:sSup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3500280" y="1214280"/>
                <a:ext cx="3159360" cy="15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TextBox 7"/>
          <p:cNvSpPr/>
          <p:nvPr/>
        </p:nvSpPr>
        <p:spPr>
          <a:xfrm>
            <a:off x="7361280" y="36432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7291080" y="5286240"/>
            <a:ext cx="77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be the end behavior of the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4643280" y="1643040"/>
                <a:ext cx="31593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2836800" y="3530520"/>
                <a:ext cx="36784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9"/>
              <p:cNvSpPr txBox="1"/>
              <p:nvPr/>
            </p:nvSpPr>
            <p:spPr>
              <a:xfrm>
                <a:off x="3000240" y="5000760"/>
                <a:ext cx="367848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TextBox 9"/>
          <p:cNvSpPr/>
          <p:nvPr/>
        </p:nvSpPr>
        <p:spPr>
          <a:xfrm>
            <a:off x="6433920" y="3500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862680" y="50007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6357960" y="1785960"/>
            <a:ext cx="57132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3156480" y="2714760"/>
            <a:ext cx="25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Arial"/>
              </a:rPr>
              <a:t>g(x)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357280" y="642960"/>
            <a:ext cx="65725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Verdana"/>
              </a:rPr>
              <a:t>let f be defined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Rewrite f(x) as a quotient plus a remainder 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b. Use the results to discuss the end behavior of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as x </a:t>
            </a:r>
            <a:r>
              <a:rPr b="1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± ∞, the remainder goes to zero, so we need not worry about that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3500280" y="1285920"/>
                <a:ext cx="426096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3714840" y="3500280"/>
                <a:ext cx="37591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32000" y="785880"/>
            <a:ext cx="56880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Describe the end behavior of the function q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2171880" y="1928880"/>
                <a:ext cx="591012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Oval 8"/>
          <p:cNvSpPr/>
          <p:nvPr/>
        </p:nvSpPr>
        <p:spPr>
          <a:xfrm>
            <a:off x="3357720" y="1857240"/>
            <a:ext cx="107136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9"/>
              <p:cNvSpPr txBox="1"/>
              <p:nvPr/>
            </p:nvSpPr>
            <p:spPr>
              <a:xfrm>
                <a:off x="4211640" y="3429000"/>
                <a:ext cx="220176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2378160" y="4929120"/>
                <a:ext cx="349416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±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TextBox 11"/>
          <p:cNvSpPr/>
          <p:nvPr/>
        </p:nvSpPr>
        <p:spPr>
          <a:xfrm>
            <a:off x="6505560" y="52862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7680" y="1413000"/>
            <a:ext cx="62863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termine the end behavior of the function h wit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2357280" y="2214720"/>
                <a:ext cx="354816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Oval 10"/>
          <p:cNvSpPr/>
          <p:nvPr/>
        </p:nvSpPr>
        <p:spPr>
          <a:xfrm>
            <a:off x="4786200" y="2143080"/>
            <a:ext cx="107172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1"/>
              <p:cNvSpPr txBox="1"/>
              <p:nvPr/>
            </p:nvSpPr>
            <p:spPr>
              <a:xfrm>
                <a:off x="5751360" y="2214720"/>
                <a:ext cx="339264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2"/>
              <p:cNvSpPr txBox="1"/>
              <p:nvPr/>
            </p:nvSpPr>
            <p:spPr>
              <a:xfrm>
                <a:off x="2643120" y="3929040"/>
                <a:ext cx="30607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3"/>
              <p:cNvSpPr txBox="1"/>
              <p:nvPr/>
            </p:nvSpPr>
            <p:spPr>
              <a:xfrm>
                <a:off x="2714760" y="5559480"/>
                <a:ext cx="30607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Box 14"/>
          <p:cNvSpPr/>
          <p:nvPr/>
        </p:nvSpPr>
        <p:spPr>
          <a:xfrm>
            <a:off x="5722200" y="3786120"/>
            <a:ext cx="124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5863320" y="5286240"/>
            <a:ext cx="90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857680" y="1413000"/>
            <a:ext cx="55004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Page 3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3 – 5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9 -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Kevin Lockwood</cp:lastModifiedBy>
  <dcterms:modified xsi:type="dcterms:W3CDTF">2010-12-15T02:13:36Z</dcterms:modified>
  <cp:revision>42</cp:revision>
  <dc:subject/>
  <dc:title>Christmas Balls</dc:title>
</cp:coreProperties>
</file>