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4C5B-FC9C-4985-84AB-9F6557F5F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9A24-E860-4ADB-9D29-AD88FEC2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B8A1-176D-402B-BFCF-C9EA2E572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7366-A037-455B-8E80-4BD7F2076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C4B1-C1B8-4D31-BF61-4AD2421C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96C3-08F7-43E7-964E-EF0933BE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8049-BB89-4E26-B218-5A09DFA7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CEEA-0671-45C9-B5AF-8DEC8860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1137-2632-4A92-9CE0-E713EFD5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F2E0-A712-48EF-B749-FFF9818B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7F06-8213-4F67-9149-29B931A3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0540-17DB-4F37-9E8E-773743A9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DBD5-E1EF-4AC0-920B-81394BDE19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8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Probability Distrib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2286000"/>
            <a:ext cx="64008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395034"/>
                </a:solidFill>
                <a:latin typeface="Calibri"/>
              </a:rPr>
              <a:t>Section 7.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743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395034"/>
                </a:solidFill>
                <a:latin typeface="Calibri"/>
              </a:rPr>
              <a:t>Pages 461 – 46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395034"/>
                </a:solidFill>
                <a:latin typeface="Calibri"/>
              </a:rPr>
              <a:t>3 – 6, 8 – 9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395034"/>
                </a:solidFill>
                <a:latin typeface="Calibri"/>
              </a:rPr>
              <a:t>13 – 1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928880" y="1599840"/>
            <a:ext cx="6757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95034"/>
                </a:solidFill>
                <a:latin typeface="Calibri"/>
              </a:rPr>
              <a:t>Random Variable: values are numbers determined by the outcome of an experi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95034"/>
                </a:solidFill>
                <a:latin typeface="Calibri"/>
              </a:rPr>
              <a:t>(rolling 2 dice: rv’s </a:t>
            </a:r>
            <a:r>
              <a:rPr b="0" lang="fr-FR" sz="3200" spc="-1" strike="noStrike">
                <a:solidFill>
                  <a:srgbClr val="395034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395034"/>
                </a:solidFill>
                <a:latin typeface="Calibri"/>
              </a:rPr>
              <a:t> 2 through 1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95034"/>
                </a:solidFill>
                <a:latin typeface="Calibri"/>
              </a:rPr>
              <a:t>Probability Distribution: function which maps each value of a rv onto its probabi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95034"/>
                </a:solidFill>
                <a:latin typeface="Calibri"/>
              </a:rPr>
              <a:t>Relative Frequency: Looks like a probability distribution, but in an experi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Expected Val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928880" y="1599840"/>
            <a:ext cx="6757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95034"/>
                </a:solidFill>
                <a:latin typeface="Calibri"/>
              </a:rPr>
              <a:t>Weighted averag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95034"/>
                </a:solidFill>
                <a:latin typeface="Calibri"/>
              </a:rPr>
              <a:t>Le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95034"/>
                </a:solidFill>
                <a:latin typeface="Calibri"/>
              </a:rPr>
              <a:t>be a probability distribution.  The mean (or expected value) </a:t>
            </a:r>
            <a:r>
              <a:rPr b="0" lang="el-GR" sz="3200" spc="-1" strike="noStrike">
                <a:solidFill>
                  <a:srgbClr val="395034"/>
                </a:solidFill>
                <a:latin typeface="Calibri"/>
              </a:rPr>
              <a:t>μ</a:t>
            </a: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 (mu) of the distribution 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2"/>
              <p:cNvSpPr txBox="1"/>
              <p:nvPr/>
            </p:nvSpPr>
            <p:spPr>
              <a:xfrm>
                <a:off x="3000240" y="4857840"/>
                <a:ext cx="3948120" cy="14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3"/>
              <p:cNvSpPr txBox="1"/>
              <p:nvPr/>
            </p:nvSpPr>
            <p:spPr>
              <a:xfrm>
                <a:off x="2895480" y="2714760"/>
                <a:ext cx="62485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9"/>
          <p:cNvSpPr/>
          <p:nvPr/>
        </p:nvSpPr>
        <p:spPr>
          <a:xfrm>
            <a:off x="0" y="5072040"/>
            <a:ext cx="892980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675828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42640" y="856800"/>
            <a:ext cx="75438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95034"/>
                </a:solidFill>
                <a:latin typeface="Calibri"/>
              </a:rPr>
              <a:t>Just for these notes, an author rolled two normal dice 9 times with the following sums: 6, 10, 11, 10, 9, 9, 12, 7, 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Mean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Give the percent error between the mean and the expected val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14200" y="4143240"/>
          <a:ext cx="8715600" cy="736560"/>
        </p:xfrm>
        <a:graphic>
          <a:graphicData uri="http://schemas.openxmlformats.org/drawingml/2006/table">
            <a:tbl>
              <a:tblPr/>
              <a:tblGrid>
                <a:gridCol w="727200"/>
                <a:gridCol w="725400"/>
                <a:gridCol w="727200"/>
                <a:gridCol w="725400"/>
                <a:gridCol w="727200"/>
                <a:gridCol w="725400"/>
                <a:gridCol w="727200"/>
                <a:gridCol w="725400"/>
                <a:gridCol w="727200"/>
                <a:gridCol w="725400"/>
                <a:gridCol w="726840"/>
                <a:gridCol w="725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/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/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214200" y="4214880"/>
          <a:ext cx="8715600" cy="736560"/>
        </p:xfrm>
        <a:graphic>
          <a:graphicData uri="http://schemas.openxmlformats.org/drawingml/2006/table">
            <a:tbl>
              <a:tblPr/>
              <a:tblGrid>
                <a:gridCol w="725760"/>
                <a:gridCol w="726840"/>
                <a:gridCol w="725400"/>
                <a:gridCol w="727200"/>
                <a:gridCol w="725400"/>
                <a:gridCol w="727200"/>
                <a:gridCol w="727200"/>
                <a:gridCol w="725400"/>
                <a:gridCol w="727200"/>
                <a:gridCol w="725400"/>
                <a:gridCol w="726840"/>
                <a:gridCol w="725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4" name="Object 4"/>
              <p:cNvSpPr txBox="1"/>
              <p:nvPr/>
            </p:nvSpPr>
            <p:spPr>
              <a:xfrm>
                <a:off x="0" y="5072040"/>
                <a:ext cx="89298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TextBox 10"/>
          <p:cNvSpPr/>
          <p:nvPr/>
        </p:nvSpPr>
        <p:spPr>
          <a:xfrm>
            <a:off x="2361960" y="6000840"/>
            <a:ext cx="7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5"/>
              <p:cNvSpPr txBox="1"/>
              <p:nvPr/>
            </p:nvSpPr>
            <p:spPr>
              <a:xfrm>
                <a:off x="4000680" y="5869080"/>
                <a:ext cx="151416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2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" name="TextBox 12"/>
          <p:cNvSpPr/>
          <p:nvPr/>
        </p:nvSpPr>
        <p:spPr>
          <a:xfrm>
            <a:off x="6295320" y="5929200"/>
            <a:ext cx="174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31.7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"/>
          <p:cNvSpPr/>
          <p:nvPr/>
        </p:nvSpPr>
        <p:spPr>
          <a:xfrm>
            <a:off x="2872440" y="2428920"/>
            <a:ext cx="28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3/ 9 = 9.2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675828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928880" y="856800"/>
            <a:ext cx="67579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There is a family with 4 children.  Let the random variable of the distribution stand for the number of bo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What is the domain of the RV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Find the probability for each value of the r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Construct a histogram of the probability distrib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Find the expected value of the distrib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675828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928880" y="856800"/>
            <a:ext cx="67579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There is a family with 4 children.  Let the random variable of the distribution stand for the number of bo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What is the domain of the RV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{0, 1, 2, 3, 4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675828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928880" y="856800"/>
            <a:ext cx="67579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There is a family with 4 children.  Let the random variable of the distribution stand for the number of bo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b. Find the probability for each value of the r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071800" y="4643280"/>
          <a:ext cx="5224320" cy="741600"/>
        </p:xfrm>
        <a:graphic>
          <a:graphicData uri="http://schemas.openxmlformats.org/drawingml/2006/table">
            <a:tbl>
              <a:tblPr/>
              <a:tblGrid>
                <a:gridCol w="871560"/>
                <a:gridCol w="869760"/>
                <a:gridCol w="871560"/>
                <a:gridCol w="870120"/>
                <a:gridCol w="871560"/>
                <a:gridCol w="8697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214200" y="214200"/>
            <a:ext cx="675792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857320" y="213840"/>
            <a:ext cx="57862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c. Construct a histogram of the probability distrib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Chart 4" descr=""/>
          <p:cNvPicPr/>
          <p:nvPr/>
        </p:nvPicPr>
        <p:blipFill>
          <a:blip r:embed="rId2"/>
          <a:stretch/>
        </p:blipFill>
        <p:spPr>
          <a:xfrm>
            <a:off x="2643120" y="2868480"/>
            <a:ext cx="6096240" cy="391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2000160" y="1357200"/>
          <a:ext cx="6072120" cy="1170000"/>
        </p:xfrm>
        <a:graphic>
          <a:graphicData uri="http://schemas.openxmlformats.org/drawingml/2006/table">
            <a:tbl>
              <a:tblPr/>
              <a:tblGrid>
                <a:gridCol w="1013040"/>
                <a:gridCol w="1011240"/>
                <a:gridCol w="1012680"/>
                <a:gridCol w="1011240"/>
                <a:gridCol w="1012680"/>
                <a:gridCol w="1011240"/>
              </a:tblGrid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675828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928880" y="856800"/>
            <a:ext cx="67579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d. Find the expected value of the distrib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0(1/16) + 1(4/16) + 2(6/16) + 3(4/16) + 4(1/1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=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214720" y="2000160"/>
          <a:ext cx="6429240" cy="1384560"/>
        </p:xfrm>
        <a:graphic>
          <a:graphicData uri="http://schemas.openxmlformats.org/drawingml/2006/table">
            <a:tbl>
              <a:tblPr/>
              <a:tblGrid>
                <a:gridCol w="1071360"/>
                <a:gridCol w="1071720"/>
                <a:gridCol w="1071360"/>
                <a:gridCol w="1071720"/>
                <a:gridCol w="1071360"/>
                <a:gridCol w="1071720"/>
              </a:tblGrid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19:52:38Z</dcterms:created>
  <dc:creator>Eric</dc:creator>
  <dc:description/>
  <dc:language>en-US</dc:language>
  <cp:lastModifiedBy>Laura Helbing</cp:lastModifiedBy>
  <dcterms:modified xsi:type="dcterms:W3CDTF">2011-02-28T02:48:19Z</dcterms:modified>
  <cp:revision>31</cp:revision>
  <dc:subject/>
  <dc:title>PRESENTATION  NAME</dc:title>
</cp:coreProperties>
</file>