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B7E-3237-40B7-A292-44235790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230-E7B7-4301-B7E7-5DD196EB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A30-4FCF-4493-BBCC-6CC90626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789-81E1-4D58-BC17-B8BBCD4D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E29-D4A9-4905-B10B-6933FCD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D11-EB1E-4B1F-80B8-4FD5085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8EE-49A2-4BCB-8FC3-B339B8E2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D2B-2203-457E-894E-40BCEBA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55F-DB7E-4EE8-9C74-1A4D82E2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23D-52D2-4FB1-8359-49CD906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DDE-D5D2-4492-BD94-1C0C9FA7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184-2C71-492E-B2FC-65B12E4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7399-4149-4A63-8F7B-77F6D0091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Probability Dis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395034"/>
                </a:solidFill>
                <a:latin typeface="Calibri"/>
              </a:rPr>
              <a:t>Section 7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Pages 461 – 46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3 – 6, 8 –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1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andom Variable: values are numbers determined by the outcome of an experi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(rolling 2 dice: rv’s </a:t>
            </a:r>
            <a:r>
              <a:rPr b="0" lang="fr-FR" sz="3200" spc="-1" strike="noStrike">
                <a:solidFill>
                  <a:srgbClr val="395034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 2 through 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Probability Distribution: function which maps each value of a rv onto its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elative Frequency: Looks like a probability distribution, but in an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Weighted aver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be a probability distribution.  The mean (or expected value) </a:t>
            </a:r>
            <a:r>
              <a:rPr b="0" lang="el-GR" sz="3200" spc="-1" strike="noStrike">
                <a:solidFill>
                  <a:srgbClr val="395034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 (mu) of the distribution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000240" y="4857840"/>
                <a:ext cx="394812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2895480" y="2714760"/>
                <a:ext cx="624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5072040"/>
            <a:ext cx="8929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856800"/>
            <a:ext cx="7543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Just for these notes, an author rolled two normal dice 9 times with the following sums: 6, 10, 11, 10, 9, 9, 12, 7,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Give the percent error between the mean and the expected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4200" y="4143240"/>
          <a:ext cx="8715600" cy="736560"/>
        </p:xfrm>
        <a:graphic>
          <a:graphicData uri="http://schemas.openxmlformats.org/drawingml/2006/table">
            <a:tbl>
              <a:tblPr/>
              <a:tblGrid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14200" y="4214880"/>
          <a:ext cx="8715600" cy="736560"/>
        </p:xfrm>
        <a:graphic>
          <a:graphicData uri="http://schemas.openxmlformats.org/drawingml/2006/table">
            <a:tbl>
              <a:tblPr/>
              <a:tblGrid>
                <a:gridCol w="725760"/>
                <a:gridCol w="726840"/>
                <a:gridCol w="725400"/>
                <a:gridCol w="727200"/>
                <a:gridCol w="725400"/>
                <a:gridCol w="7272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0" y="5072040"/>
                <a:ext cx="8929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10"/>
          <p:cNvSpPr/>
          <p:nvPr/>
        </p:nvSpPr>
        <p:spPr>
          <a:xfrm>
            <a:off x="2361960" y="600084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000680" y="5869080"/>
                <a:ext cx="1514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12"/>
          <p:cNvSpPr/>
          <p:nvPr/>
        </p:nvSpPr>
        <p:spPr>
          <a:xfrm>
            <a:off x="6295320" y="59292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31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2872440" y="242892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3/ 9 = 9.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{0, 1, 2, 3, 4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b. 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71800" y="4643280"/>
          <a:ext cx="5224320" cy="74160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14200" y="214200"/>
            <a:ext cx="67579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7320" y="213840"/>
            <a:ext cx="5786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. 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4" descr=""/>
          <p:cNvPicPr/>
          <p:nvPr/>
        </p:nvPicPr>
        <p:blipFill>
          <a:blip r:embed="rId2"/>
          <a:stretch/>
        </p:blipFill>
        <p:spPr>
          <a:xfrm>
            <a:off x="2643120" y="2868480"/>
            <a:ext cx="609624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000160" y="1357200"/>
          <a:ext cx="6072120" cy="1170000"/>
        </p:xfrm>
        <a:graphic>
          <a:graphicData uri="http://schemas.openxmlformats.org/drawingml/2006/table">
            <a:tbl>
              <a:tblPr/>
              <a:tblGrid>
                <a:gridCol w="1013040"/>
                <a:gridCol w="1011240"/>
                <a:gridCol w="1012680"/>
                <a:gridCol w="1011240"/>
                <a:gridCol w="1012680"/>
                <a:gridCol w="101124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d. 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0(1/16) + 1(4/16) + 2(6/16) + 3(4/16) + 4(1/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14720" y="2000160"/>
          <a:ext cx="6429240" cy="138456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  <a:gridCol w="1071720"/>
                <a:gridCol w="1071360"/>
                <a:gridCol w="107172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Laura Helbing</cp:lastModifiedBy>
  <dcterms:modified xsi:type="dcterms:W3CDTF">2011-02-28T02:48:19Z</dcterms:modified>
  <cp:revision>31</cp:revision>
  <dc:subject/>
  <dc:title>PRESENTATION  NAME</dc:title>
</cp:coreProperties>
</file>