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9C7B8-557F-422C-B64F-6F5EF7A15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4A261-4815-4461-B139-5A546AE47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2B29A-8755-4894-BE35-79136970F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454D6-E88C-4486-995F-1487874E4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D6C5D-16F4-459E-AC43-9563A0306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F0F4F-0A75-46BE-AEB4-51690C041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BDDBE-E52A-4CBA-B48A-F00553946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DCFDD-D3EA-4F60-B768-B91C59186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D474D-B2DF-4137-A8F4-9EE7D9CD5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23C8C-48CA-4876-911A-50177E6A2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CB11A-7400-4A6A-A562-E52A3747D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5B976-ABAE-4C7B-BD33-9B11DE9AA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11376-B9E8-4A96-9CD5-99801DBDE3C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285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395034"/>
                </a:solidFill>
                <a:latin typeface="Calibri"/>
              </a:rPr>
              <a:t>Probability Distribu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57200" y="2286000"/>
            <a:ext cx="6400800" cy="13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A" sz="3200" spc="-1" strike="noStrike">
                <a:solidFill>
                  <a:srgbClr val="395034"/>
                </a:solidFill>
                <a:latin typeface="Calibri"/>
              </a:rPr>
              <a:t>Section 7.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395034"/>
                </a:solidFill>
                <a:latin typeface="Calibri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743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200" spc="-1" strike="noStrike">
                <a:solidFill>
                  <a:srgbClr val="395034"/>
                </a:solidFill>
                <a:latin typeface="Calibri"/>
              </a:rPr>
              <a:t>Pages 461 – 462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200" spc="-1" strike="noStrike">
                <a:solidFill>
                  <a:srgbClr val="395034"/>
                </a:solidFill>
                <a:latin typeface="Calibri"/>
              </a:rPr>
              <a:t>3 – 6, 8 – 9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200" spc="-1" strike="noStrike">
                <a:solidFill>
                  <a:srgbClr val="395034"/>
                </a:solidFill>
                <a:latin typeface="Calibri"/>
              </a:rPr>
              <a:t>13 – 14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800"/>
              </a:spcBef>
              <a:buClr>
                <a:srgbClr val="3950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928880" y="274320"/>
            <a:ext cx="6757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395034"/>
                </a:solidFill>
                <a:latin typeface="Calibri"/>
              </a:rPr>
              <a:t>Defini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1928880" y="1599840"/>
            <a:ext cx="67579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950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95034"/>
                </a:solidFill>
                <a:latin typeface="Calibri"/>
              </a:rPr>
              <a:t>Random Variable: values are numbers determined by the outcome of an experimen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95034"/>
                </a:solidFill>
                <a:latin typeface="Calibri"/>
              </a:rPr>
              <a:t>(rolling 2 dice: rv’s </a:t>
            </a:r>
            <a:r>
              <a:rPr b="0" lang="fr-FR" sz="3200" spc="-1" strike="noStrike">
                <a:solidFill>
                  <a:srgbClr val="395034"/>
                </a:solidFill>
                <a:latin typeface="Wingdings"/>
                <a:ea typeface="Wingdings"/>
              </a:rPr>
              <a:t></a:t>
            </a:r>
            <a:r>
              <a:rPr b="0" lang="fr-FR" sz="3200" spc="-1" strike="noStrike">
                <a:solidFill>
                  <a:srgbClr val="395034"/>
                </a:solidFill>
                <a:latin typeface="Calibri"/>
              </a:rPr>
              <a:t> 2 through 1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3950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95034"/>
                </a:solidFill>
                <a:latin typeface="Calibri"/>
              </a:rPr>
              <a:t>Probability Distribution: function which maps each value of a rv onto its probabilit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3950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95034"/>
                </a:solidFill>
                <a:latin typeface="Calibri"/>
              </a:rPr>
              <a:t>Relative Frequency: Looks like a probability distribution, but in an experi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928880" y="274320"/>
            <a:ext cx="6757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395034"/>
                </a:solidFill>
                <a:latin typeface="Calibri"/>
              </a:rPr>
              <a:t>Expected Valu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1928880" y="1599840"/>
            <a:ext cx="67579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950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95034"/>
                </a:solidFill>
                <a:latin typeface="Calibri"/>
              </a:rPr>
              <a:t>Weighted average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3950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3950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95034"/>
                </a:solidFill>
                <a:latin typeface="Calibri"/>
              </a:rPr>
              <a:t>Let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95034"/>
                </a:solidFill>
                <a:latin typeface="Calibri"/>
              </a:rPr>
              <a:t>be a probability distribution.  The mean (or expected value) </a:t>
            </a:r>
            <a:r>
              <a:rPr b="0" lang="el-GR" sz="3200" spc="-1" strike="noStrike">
                <a:solidFill>
                  <a:srgbClr val="395034"/>
                </a:solidFill>
                <a:latin typeface="Calibri"/>
              </a:rPr>
              <a:t>μ</a:t>
            </a:r>
            <a:r>
              <a:rPr b="0" lang="en-US" sz="3200" spc="-1" strike="noStrike">
                <a:solidFill>
                  <a:srgbClr val="395034"/>
                </a:solidFill>
                <a:latin typeface="Calibri"/>
              </a:rPr>
              <a:t> (mu) of the distribution i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3950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" name="Object 2"/>
              <p:cNvSpPr txBox="1"/>
              <p:nvPr/>
            </p:nvSpPr>
            <p:spPr>
              <a:xfrm>
                <a:off x="3000240" y="4857840"/>
                <a:ext cx="3948120" cy="14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" name="Object 3"/>
              <p:cNvSpPr txBox="1"/>
              <p:nvPr/>
            </p:nvSpPr>
            <p:spPr>
              <a:xfrm>
                <a:off x="2895480" y="2714760"/>
                <a:ext cx="6248520" cy="58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5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9"/>
          <p:cNvSpPr/>
          <p:nvPr/>
        </p:nvSpPr>
        <p:spPr>
          <a:xfrm>
            <a:off x="0" y="5072040"/>
            <a:ext cx="8929800" cy="78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13840" y="214200"/>
            <a:ext cx="675828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395034"/>
                </a:solidFill>
                <a:latin typeface="Calibri"/>
              </a:rPr>
              <a:t>Exampl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1142640" y="856800"/>
            <a:ext cx="7543800" cy="600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95034"/>
                </a:solidFill>
                <a:latin typeface="Calibri"/>
              </a:rPr>
              <a:t>Just for these notes, an author rolled two normal dice 9 times with the following sums: 6, 10, 11, 10, 9, 9, 12, 7, 9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3950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5034"/>
                </a:solidFill>
                <a:latin typeface="Calibri"/>
              </a:rPr>
              <a:t>Mean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3950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5034"/>
                </a:solidFill>
                <a:latin typeface="Calibri"/>
              </a:rPr>
              <a:t>Give the percent error between the mean and the expected valu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3950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5034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395034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395034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3950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214200" y="4143240"/>
          <a:ext cx="8715600" cy="736560"/>
        </p:xfrm>
        <a:graphic>
          <a:graphicData uri="http://schemas.openxmlformats.org/drawingml/2006/table">
            <a:tbl>
              <a:tblPr/>
              <a:tblGrid>
                <a:gridCol w="727200"/>
                <a:gridCol w="725400"/>
                <a:gridCol w="727200"/>
                <a:gridCol w="725400"/>
                <a:gridCol w="727200"/>
                <a:gridCol w="725400"/>
                <a:gridCol w="727200"/>
                <a:gridCol w="725400"/>
                <a:gridCol w="727200"/>
                <a:gridCol w="725400"/>
                <a:gridCol w="726840"/>
                <a:gridCol w="7257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(x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/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/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/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/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/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/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/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/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/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/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/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214200" y="4214880"/>
          <a:ext cx="8715600" cy="736560"/>
        </p:xfrm>
        <a:graphic>
          <a:graphicData uri="http://schemas.openxmlformats.org/drawingml/2006/table">
            <a:tbl>
              <a:tblPr/>
              <a:tblGrid>
                <a:gridCol w="725760"/>
                <a:gridCol w="726840"/>
                <a:gridCol w="725400"/>
                <a:gridCol w="727200"/>
                <a:gridCol w="725400"/>
                <a:gridCol w="727200"/>
                <a:gridCol w="727200"/>
                <a:gridCol w="725400"/>
                <a:gridCol w="727200"/>
                <a:gridCol w="725400"/>
                <a:gridCol w="726840"/>
                <a:gridCol w="7257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(x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54" name="Object 4"/>
              <p:cNvSpPr txBox="1"/>
              <p:nvPr/>
            </p:nvSpPr>
            <p:spPr>
              <a:xfrm>
                <a:off x="0" y="5072040"/>
                <a:ext cx="8929800" cy="83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</m:den>
                    </m:f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3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den>
                    </m:f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</m:den>
                    </m:f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</m:den>
                    </m:f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den>
                    </m:f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5" name="TextBox 10"/>
          <p:cNvSpPr/>
          <p:nvPr/>
        </p:nvSpPr>
        <p:spPr>
          <a:xfrm>
            <a:off x="2361960" y="6000840"/>
            <a:ext cx="70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=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" name="Object 5"/>
              <p:cNvSpPr txBox="1"/>
              <p:nvPr/>
            </p:nvSpPr>
            <p:spPr>
              <a:xfrm>
                <a:off x="4000680" y="5869080"/>
                <a:ext cx="1514160" cy="98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22</m:t>
                        </m:r>
                        <m:r>
                          <m:t xml:space="preserve">−</m:t>
                        </m:r>
                        <m:r>
                          <m:t xml:space="preserve">7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7" name="TextBox 12"/>
          <p:cNvSpPr/>
          <p:nvPr/>
        </p:nvSpPr>
        <p:spPr>
          <a:xfrm>
            <a:off x="6295320" y="5929200"/>
            <a:ext cx="1744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=31.7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13"/>
          <p:cNvSpPr/>
          <p:nvPr/>
        </p:nvSpPr>
        <p:spPr>
          <a:xfrm>
            <a:off x="2872440" y="2428920"/>
            <a:ext cx="286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83/ 9 = 9.22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" dur="5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4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9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13840" y="214200"/>
            <a:ext cx="675828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395034"/>
                </a:solidFill>
                <a:latin typeface="Calibri"/>
              </a:rPr>
              <a:t>Exampl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1928880" y="856800"/>
            <a:ext cx="6757920" cy="600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5034"/>
                </a:solidFill>
                <a:latin typeface="Calibri"/>
              </a:rPr>
              <a:t>There is a family with 4 children.  Let the random variable of the distribution stand for the number of boy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395034"/>
              </a:buClr>
              <a:buFont typeface="Calibri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5034"/>
                </a:solidFill>
                <a:latin typeface="Calibri"/>
              </a:rPr>
              <a:t>What is the domain of the RV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395034"/>
              </a:buClr>
              <a:buFont typeface="Calibri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5034"/>
                </a:solidFill>
                <a:latin typeface="Calibri"/>
              </a:rPr>
              <a:t>Find the probability for each value of the rv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395034"/>
              </a:buClr>
              <a:buFont typeface="Calibri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5034"/>
                </a:solidFill>
                <a:latin typeface="Calibri"/>
              </a:rPr>
              <a:t>Construct a histogram of the probability distribu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395034"/>
              </a:buClr>
              <a:buFont typeface="Calibri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5034"/>
                </a:solidFill>
                <a:latin typeface="Calibri"/>
              </a:rPr>
              <a:t>Find the expected value of the distribu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3950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13840" y="214200"/>
            <a:ext cx="675828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395034"/>
                </a:solidFill>
                <a:latin typeface="Calibri"/>
              </a:rPr>
              <a:t>Exampl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1928880" y="856800"/>
            <a:ext cx="6757920" cy="600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5034"/>
                </a:solidFill>
                <a:latin typeface="Calibri"/>
              </a:rPr>
              <a:t>There is a family with 4 children.  Let the random variable of the distribution stand for the number of boy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395034"/>
              </a:buClr>
              <a:buFont typeface="Calibri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5034"/>
                </a:solidFill>
                <a:latin typeface="Calibri"/>
              </a:rPr>
              <a:t>What is the domain of the RV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5034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395034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395034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395034"/>
                </a:solidFill>
                <a:latin typeface="Calibri"/>
              </a:rPr>
              <a:t>{0, 1, 2, 3, 4}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3950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" dur="5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13840" y="214200"/>
            <a:ext cx="675828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395034"/>
                </a:solidFill>
                <a:latin typeface="Calibri"/>
              </a:rPr>
              <a:t>Exampl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1928880" y="856800"/>
            <a:ext cx="6757920" cy="600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5034"/>
                </a:solidFill>
                <a:latin typeface="Calibri"/>
              </a:rPr>
              <a:t>There is a family with 4 children.  Let the random variable of the distribution stand for the number of boy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5034"/>
                </a:solidFill>
                <a:latin typeface="Calibri"/>
              </a:rPr>
              <a:t>b. Find the probability for each value of the rv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3950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2071800" y="4643280"/>
          <a:ext cx="5224320" cy="741600"/>
        </p:xfrm>
        <a:graphic>
          <a:graphicData uri="http://schemas.openxmlformats.org/drawingml/2006/table">
            <a:tbl>
              <a:tblPr/>
              <a:tblGrid>
                <a:gridCol w="871560"/>
                <a:gridCol w="869760"/>
                <a:gridCol w="871560"/>
                <a:gridCol w="870120"/>
                <a:gridCol w="871560"/>
                <a:gridCol w="86976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(X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/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/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/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/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/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3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-214200" y="214200"/>
            <a:ext cx="675792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395034"/>
                </a:solidFill>
                <a:latin typeface="Calibri"/>
              </a:rPr>
              <a:t>Exampl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2857320" y="213840"/>
            <a:ext cx="5786280" cy="600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5034"/>
                </a:solidFill>
                <a:latin typeface="Calibri"/>
              </a:rPr>
              <a:t>c. Construct a histogram of the probability distribu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3950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Chart 4" descr=""/>
          <p:cNvPicPr/>
          <p:nvPr/>
        </p:nvPicPr>
        <p:blipFill>
          <a:blip r:embed="rId2"/>
          <a:stretch/>
        </p:blipFill>
        <p:spPr>
          <a:xfrm>
            <a:off x="2643120" y="2868480"/>
            <a:ext cx="6096240" cy="3915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9" name=""/>
          <p:cNvGraphicFramePr/>
          <p:nvPr/>
        </p:nvGraphicFramePr>
        <p:xfrm>
          <a:off x="2000160" y="1357200"/>
          <a:ext cx="6072120" cy="1170000"/>
        </p:xfrm>
        <a:graphic>
          <a:graphicData uri="http://schemas.openxmlformats.org/drawingml/2006/table">
            <a:tbl>
              <a:tblPr/>
              <a:tblGrid>
                <a:gridCol w="1013040"/>
                <a:gridCol w="1011240"/>
                <a:gridCol w="1012680"/>
                <a:gridCol w="1011240"/>
                <a:gridCol w="1012680"/>
                <a:gridCol w="1011240"/>
              </a:tblGrid>
              <a:tr h="58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8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(X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/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/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/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/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/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0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13840" y="214200"/>
            <a:ext cx="675828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395034"/>
                </a:solidFill>
                <a:latin typeface="Calibri"/>
              </a:rPr>
              <a:t>Exampl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1928880" y="856800"/>
            <a:ext cx="6757920" cy="600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5034"/>
                </a:solidFill>
                <a:latin typeface="Calibri"/>
              </a:rPr>
              <a:t>d. Find the expected value of the distribu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5034"/>
                </a:solidFill>
                <a:latin typeface="Calibri"/>
              </a:rPr>
              <a:t>0(1/16) + 1(4/16) + 2(6/16) + 3(4/16) + 4(1/16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5034"/>
                </a:solidFill>
                <a:latin typeface="Calibri"/>
              </a:rPr>
              <a:t>=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3950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2214720" y="2000160"/>
          <a:ext cx="6429240" cy="1384560"/>
        </p:xfrm>
        <a:graphic>
          <a:graphicData uri="http://schemas.openxmlformats.org/drawingml/2006/table">
            <a:tbl>
              <a:tblPr/>
              <a:tblGrid>
                <a:gridCol w="1071360"/>
                <a:gridCol w="1071720"/>
                <a:gridCol w="1071360"/>
                <a:gridCol w="1071720"/>
                <a:gridCol w="1071360"/>
                <a:gridCol w="1071720"/>
              </a:tblGrid>
              <a:tr h="69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69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(X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/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/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/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/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/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7" dur="500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2" dur="500"/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1T19:52:38Z</dcterms:created>
  <dc:creator>Eric</dc:creator>
  <dc:description/>
  <dc:language>en-US</dc:language>
  <cp:lastModifiedBy>Laura Helbing</cp:lastModifiedBy>
  <dcterms:modified xsi:type="dcterms:W3CDTF">2011-02-28T02:48:19Z</dcterms:modified>
  <cp:revision>31</cp:revision>
  <dc:subject/>
  <dc:title>PRESENTATION  NAME</dc:title>
</cp:coreProperties>
</file>