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D65-031B-4AC1-BD93-518C1E8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29C-6986-43CB-9022-ADB82C42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FB8-C7A7-461A-AE1C-D2741ABF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36F-989B-488C-A8F4-24F43AED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9330-604C-4A73-9BF3-14D18CB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630-F1C7-4C8B-821F-A838D26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90D9-DAE4-4EF7-8E76-6C41F9B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1582-D8B2-4278-80B0-7ACEAACF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4E44-4822-4D58-B283-A3C0EAB5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B41E-C6E2-40B8-8763-0112232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BC4A-7F51-4295-8D3D-50514551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B859-75EE-497E-B58D-3322196C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14E5-EEFE-45A0-94E0-C6863EC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B081-4EC5-4A17-9988-9E23A2AE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4334-F4A4-4977-8B7D-FC12A440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73F6-92CA-480C-94AF-14C3A8E2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06F6-F4F3-403E-8FAA-560B47C8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B293-0B79-4C2A-BD40-E1230831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3C403-032E-4E55-8ACB-D7FC686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5ABF-09A3-43A9-94B6-3405351E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B8B50-9791-40B0-8F4E-0E95B488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EF35-9BE0-4EA1-B121-FEF7D9E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EB2-36D9-4B85-AE00-EE7AAD36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0CD20-A3CD-4577-934C-151A229D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6E52-F22F-4F8F-9D18-0FE0AF55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D3CC9-C305-49CF-862D-AF6C7F5A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CFD3-FD62-4EDD-98A7-06DEAD1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5924-E96D-4A2E-9F09-7A0F3290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0AE2F-EAC1-4D7C-9E94-97114DC5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8F9F-A0D2-4F64-8F64-9C88A052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D8A1-F5F1-4F6E-9346-EC2F1A4B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E3CF-6986-439A-B150-2E80E44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D4A3-9D14-4626-BD54-70BC1723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3B4-0CC3-4AB1-A2BF-39B7149D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68A7E-5063-41D9-A348-88B7AB5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5F25-7261-4118-95D9-CDC236B4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E536-7092-48A8-A54D-9CB17DB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5F7E-4D64-4648-9632-297590F6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D0D2-BD58-4F09-BD92-9659A24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3F69-55EE-4938-B12E-708ABBE6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09F4-F239-4DE9-955D-8CAF3FDA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FC30-70D8-424B-A7AA-03C811B4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DD88-B8F6-4C08-A55E-AD6DB1CB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92A2-F47A-452E-B712-9A191B0F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714-5D8A-415F-993C-26F16B3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72927-3DAF-447F-9467-47B9F714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9392-B0D7-47F6-A378-D66E252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7E8E-341E-47D9-B23F-5A830A9D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7E60-58E8-4DE5-9E61-6BEE4535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19DDF-09D5-4DF5-B6EC-7B9FDD1F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F2236-4C85-471B-83E7-5400D2F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5851-7EDF-4730-840E-66DBF395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F2DE3-2192-430C-B098-0833C4F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6E218-77E8-4975-854B-1F6B48F7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3D54-D106-4A3E-94BA-0312356B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662-6804-4085-9A50-0DA46482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3E813-1B5B-4D5E-B920-B50FF83C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A012-BDDF-48B1-9A0C-67519F0D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32451-A442-488E-9D4F-62E2B661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CFF7-7AEB-48DB-B35D-BD66AFD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C638-0877-4E5F-8AB2-C5CD8C0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79880-CC7D-4CBD-8EFD-9A39221A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7CCE-97CE-4305-869E-775CB33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9F33C-DD64-4CC7-B6FF-2DB484AA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1A446-0E07-4568-9152-878C177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0BABF-C380-4A24-9718-F8E35AB6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92E-ADF6-48ED-A869-600973A8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DC57D-E4FD-4CC2-A073-16160CC6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705C-541D-4784-97DD-2F48A2EC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1BFAF-C93D-48D8-BD3B-240797D3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E6DB-7F6A-44EB-85EA-959D37DA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0C61-B1BA-416F-818A-4358FFA5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12F0-4D6B-4E9E-A8DB-F6490A6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51409-3DEF-43AA-954E-2F796BE9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FCC0-D84A-4EB1-9315-6AC413C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B97FA-601C-468C-AE9C-C74CE46F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A0BCD-52FA-4C0A-9864-EA7DDE05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01-A4CC-40D7-896D-BC143FE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49BD0-328D-4A8D-ABD6-3734B02B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24FB9-4222-4790-A13A-39F1618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9E45D-5D99-4C46-9B18-EACFC9BC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7D35-F541-4069-8054-38A60F8F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ED583-9E47-439E-A321-3CFFE5B7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6E1-79E2-4D66-8F64-4638CCE5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337D-6BD7-4820-AA10-D85A726EFE3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B9D1-414A-4CC2-A7AE-3046D8CBB2F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EC38-C0F3-42AE-8F0E-28B8EB97F09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E097-5D3E-4BFD-B4DB-F2E1900D79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5BA6-006D-4377-BD24-8B8ED0CA8E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39EC-F63B-4F5C-A01F-A8AE5B0F83D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0DDB-0DE7-49F4-B168-BFED5643BDD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Lesson 5.8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mportant things to know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adius of the Earth’s sphere is 3960 m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ime meridian –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˚ longitud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national Date Line – 180˚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an ordered pair,  (longitude, latitu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herical Law of Cosines –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s c = cos a cos b + sin a sin b cos 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dependent wor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Pages 358 – 359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rbel"/>
              </a:rPr>
              <a:t>10 - 23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01:04:11Z</dcterms:created>
  <dc:creator>Laura Helbing</dc:creator>
  <dc:description/>
  <dc:language>en-US</dc:language>
  <cp:lastModifiedBy>Laura Helbing</cp:lastModifiedBy>
  <dcterms:modified xsi:type="dcterms:W3CDTF">2010-12-30T01:11:38Z</dcterms:modified>
  <cp:revision>1</cp:revision>
  <dc:subject/>
  <dc:title>From Washington to Beijing</dc:title>
</cp:coreProperties>
</file>