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F849-3E40-4376-AAA1-A33DDECB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CC84-F9E5-439F-9663-CEED02E5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3B24-396A-4B0A-97C4-D5670A3F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63A5-5B25-4CA2-89D1-3829F27E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8D04-7F37-4030-8FCE-8D742396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30C1-130D-4468-9CAE-C4B25015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2F4B-825F-4FD9-A864-40DA6CE0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EC52-D34C-43EF-8888-CB89552C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79CF-5F26-4C22-A493-54CC2672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38B3-02A4-48FF-9135-F80D8617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0042-B762-41A2-A5B6-498C4303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ED11-0B8B-4024-AECF-30DD7E90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737B-665D-4B22-A259-D8589669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5C34-D092-4534-A481-D3416682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7EA7-8417-4CA1-B223-6463957C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D674-029A-4BA7-AF6C-119F28D9E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6654-A644-4D97-B960-CC7526512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DADE0-AEFA-4B44-8E77-EAD10EF8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75098-2F54-41BF-89ED-699ECE99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F8EAF-2A8C-4C19-9ADE-F6AB56F8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CCEC4-645F-4210-9C6F-E8D36F8B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5865F-3618-4517-BFF1-BB55FA19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9F8A-F572-4B62-9D4B-9285D05C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E4D45-8F5F-494E-8516-E1D049F4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2257E-ED3F-4D8D-84C4-E158CDFB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8AF98-3EE6-4CF8-BE5B-3B702ED6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80C07-25A4-41F0-8F37-BD4E2A99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F3DE4-065C-4CC6-8369-85558285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E1409-D3FE-4AC3-B930-09B8175F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6AE15-52B8-435D-8DD6-C3BCD877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C7DBB-F091-4B11-8495-17708B7A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F2019-3471-4F78-8744-7D3958F0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1C8D4-3C07-4471-A9BD-14D1311B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68B-186C-453B-8490-AD9D5F92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43A3B-ABBD-40F6-8DEE-73C8EBB2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CCCE7-5169-4903-9B8E-DD92D2F7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D45CD-4013-4029-8280-24F892EA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BCC3C-C291-47E7-9338-C2C930E9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83FA7-256A-445E-B9A4-102DF9A4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955F0-0E4F-4E33-A06A-89EAC5C2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740D4-B877-49C0-852C-3F1D771D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998CD-8F64-4CA4-854C-BBF9EE33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4C555-8AE4-4343-A995-09519337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063A5-7525-4F4F-82E4-C3CD1E6B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F6E3-75D3-4FDB-AD63-B2FBC9B0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0903E-5216-4140-8752-954297F0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01687-29B3-4838-8695-3B811B97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01D25-1508-4CE6-AF72-0F0C4F4A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B1D4C-6AF8-4236-996D-404B37DB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DDC63-71D7-4D31-9740-EA27E98B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E31C4-A2CB-4D6A-B2F4-120E6D66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16AA4-99E0-4154-8035-F3021D0E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AA72B-22BF-4611-A231-70A6F99B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31158-55C8-47B3-9C97-7B944B1A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4F302-2A62-4622-9F02-75203EAB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0436-96AC-4ED3-82A8-FB24D5B3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6BD04-236F-4D44-8937-95639607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F6C98-9AEC-4B3D-B3A4-1CD4D6B6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322A2-9DB6-4183-9C42-4181F89F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AE2DF-20E9-4ECC-BDBC-AF4DE38E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EADBB-4C03-45B2-ADF6-0D7DCF3E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866C9-B2EC-4C7D-A543-6B7F0144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1CD71-C8E3-497E-B83B-CB8F920B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1EC7E-B3ED-453E-848A-2101916E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6033F-D88A-4DD0-915B-0AF920E7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D6CE1-041C-43C9-9453-B5547612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570F-169E-4694-9BE9-34D99BFA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3EE54-0624-4CB5-B006-8C250998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A0AC2-E3D3-4A56-BEB0-9FF49CF9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FDF91-DDF5-4E72-A5E6-AF66093E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E3724-69EC-49EE-BE83-7848FB51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945C7-C36B-4A33-8B8E-24047204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4C633-A717-44A1-A888-DF660E7B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E609D-85E2-4B3B-AA39-D5A95B22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7CA70-7FF5-405C-A647-CB12D467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6AD7E-FDF2-4DD1-B96E-5B59EAF6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E5BD7-2A8B-4859-944B-A5BDF8C5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D1A1-340C-4FAD-8EC7-B83D0245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353B5-A754-41BE-B9B0-93BEE907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EDFCC-B230-484B-9D79-25A9F941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C13BE-3DC5-4F84-B8C4-52F827CA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7E5CF-D72B-4DE7-958A-5E58DDCD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5C4FF-20D2-4342-91BB-BC940773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CD5E-15F0-49A8-8F04-FF3DDF79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4F68-D9FE-4DBC-876B-E70FA5C7D93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6E8B-3B3B-4CD1-B824-6E00CFB1B5A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8430-3C0F-4610-8B82-F567B06F1F8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9889-8802-4CFF-94A0-5130B6A6049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C50D-6992-41A5-BB28-14B395C00CB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F776-B24D-4A8A-8513-00E988A31AD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5FCA-4B40-4A93-A16A-F9BF26CB16C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Lesson 5.8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mportant things to know!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adius of the Earth’s sphere is 3960 mil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ime meridian –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0˚ longitud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ternational Date Line – 180˚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an ordered pair,  (longitude, latitud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pherical Law of Cosines –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s c = cos a cos b + sin a sin b cos 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ndependent work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rbel"/>
              </a:rPr>
              <a:t>Pages 358 – 359</a:t>
            </a:r>
            <a:endParaRPr b="0" lang="en-US" sz="9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rbel"/>
              </a:rPr>
              <a:t>10 - 23</a:t>
            </a:r>
            <a:endParaRPr b="0" lang="en-US" sz="9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0T01:04:11Z</dcterms:created>
  <dc:creator>Laura Helbing</dc:creator>
  <dc:description/>
  <dc:language>en-US</dc:language>
  <cp:lastModifiedBy>Laura Helbing</cp:lastModifiedBy>
  <dcterms:modified xsi:type="dcterms:W3CDTF">2010-12-30T01:11:38Z</dcterms:modified>
  <cp:revision>1</cp:revision>
  <dc:subject/>
  <dc:title>From Washington to Beijing</dc:title>
</cp:coreProperties>
</file>