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F25C-ADFA-44DE-A781-AA89EB018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40AF-5D89-41BA-8DE1-55DCB783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2F63-0623-4C63-86E2-8C632634B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D58B-6EB5-499A-9FF4-40D2B5655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2181-2FA8-4492-BDF2-59A9C35E5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7CCB8-C2E5-4729-B7E9-3380DA1F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C706-4AD5-413C-9BAC-676D0CAF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9109-5E33-40FB-8B25-1D2111E1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2ECE-3846-446B-8CE5-75EDA636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E6AC-A0B9-406B-B995-C12FCFAE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FD54-748F-4FD9-8E1D-735CDD2E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7A9D-F777-412A-B10B-7E428E4D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F0C3-1F8B-4232-A115-DA28EAC6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4701-9004-4B09-BAF5-9F7BD167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7BA8-6DFE-426E-9F8C-522C4600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EC9B-F30E-4558-928C-1BBA0D8D7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7641-F9F7-47D3-8E0F-40F7EE19E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4A937-DD50-48B8-A09E-6773B6042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A51BB-98C0-4772-83B5-9C8024FB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122C8-E919-401E-9121-044ABE45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8345A-1359-4D36-AAFE-2704A7C2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121E0-F3FA-4963-903B-AE8FD866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A126-DDAB-4CFC-BFBA-CFD3219B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81866-7577-4C0C-A6AF-469E656F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D10EF-3FA2-4499-8B5A-4C478476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34192-7ED3-4417-8D13-63F61173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4E7AD-60C7-4DBF-A2D3-C3B75EF9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FE7DB-E8C2-4009-82D5-B236F4F1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E052A-2FF9-4F83-BDA1-4056692EF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706A0-C4D2-4AA0-A901-E0C27BE81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B8D56-B2CB-49D4-8364-E43740EFF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89422-01C4-461E-9747-8B2FAFD5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E467A-2701-44A6-94DD-9288D1DB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EB78-74C2-4A70-84F7-76AC7FB7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5C052-B31B-4F2D-B157-1B1AB637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CE84C-C277-421C-B3BD-F311E114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96C22-7154-468A-8F96-3281A789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4407D-DCBF-423F-A170-5A25EAF5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33703-1BFA-4776-ADEF-8D543AC3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BB183-2833-442A-A6EA-9F0D7529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FA1C1-66EA-4E99-A0D9-55910A10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E5A14-819E-4216-A3C8-626D52172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9696D-F641-43B8-ADF9-E75386FDD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958FD-6E2C-4B9E-9864-A226776CB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8A0B-5CFE-427B-8796-27373A34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BB064-6A4E-4EA0-AFCC-53F300DF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A735A-3EEB-4EA0-A6A7-78CA734F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717D0-3E84-4BD7-9C01-F6F02133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2975A-E04B-44F5-9B45-C65F52E9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3CB01-B949-4CEE-9F43-88EF7B87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8DF38-AEE9-4E29-9DCA-A8B48E17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91F49-AB4C-49E1-92F0-FD328251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E3624-EADD-49F7-9665-595BD96F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1B0D7-7987-4CD7-B226-05DBA55C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C06DC-ED14-4C0E-99EB-5A1A44F3A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9830-D972-45F3-B2A0-CDB37EC0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C014B-82BA-4770-A3AB-208584104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F5E53-E3C9-49D8-A5A2-B0748C588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E4801-D712-43FC-86C0-E0E3A3FF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05EE7-B24A-4F07-920E-0FCEC97F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E59AA-4912-4144-A80A-50AD6431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8C79E-82CC-4E42-9B60-B9615BD2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4CA85-7E29-4B1C-B1C8-793B01F3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67DB1-58C9-465D-A6D8-EF618897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E782B-8CAE-4789-8893-70CC5D06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02F29-DBEC-4BAB-899A-951798B5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9B10-B82D-4DF9-A8C1-EF7B2DB0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71866-6F64-4181-8919-E91A7DA5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A8CA2-4560-47A5-9B93-BC0ADDBAC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73A9C-C215-4A00-AD7C-A8F60F667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1A772-F230-4514-9B2E-2DE5DE6D3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BBA34-E9FF-41EE-9074-BE230B88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1EC9B-FF49-44B7-9DDC-E3D43DEA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EC354-0422-4590-A487-A7FA45C2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49163-AEE3-41CA-A8F6-F5374D44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C2DB7-964E-4F9C-9B96-8A5A8827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CCA42-0FF7-4B44-93A5-B0ACFFFD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33BB-E133-4336-A11D-4E6D0BC6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211C0-A651-4292-BC05-02032BD2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25311-9443-4C50-9C2C-1E629B4E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9B35B-87D8-48E8-9DAF-69D19A10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C6291-6FB4-45BA-B19B-32A6D2185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1797E-0CF1-4B73-ABEF-D0C7B87F6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0EFB-DBC4-441A-B601-0DFB1C8C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10C0-EA32-4180-842C-CAB6CB79D72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B66F-CA33-4ABC-A3B7-2912783DE18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AADA-E812-4FF9-84C1-F11AEC28F4E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099A-EDB8-4292-8B83-7F3F7A9AF59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6628-A3F8-43E1-9007-59E4C40612B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8F68-024B-416F-8369-E7211DB970F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8E65-C376-4D76-AF9D-ADF0D14976E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Lesson 5.8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Important things to know!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adius of the Earth’s sphere is 3960 mil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ime meridian –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0˚ longitud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ternational Date Line – 180˚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 an ordered pair,  (longitude, latitude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pherical Law of Cosines –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s c = cos a cos b + sin a sin b cos C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Independent work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orbel"/>
              </a:rPr>
              <a:t>Pages 358 – 359</a:t>
            </a:r>
            <a:endParaRPr b="0" lang="en-US" sz="9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orbel"/>
              </a:rPr>
              <a:t>10 - 23</a:t>
            </a:r>
            <a:endParaRPr b="0" lang="en-US" sz="9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30T01:04:11Z</dcterms:created>
  <dc:creator>Laura Helbing</dc:creator>
  <dc:description/>
  <dc:language>en-US</dc:language>
  <cp:lastModifiedBy>Laura Helbing</cp:lastModifiedBy>
  <dcterms:modified xsi:type="dcterms:W3CDTF">2010-12-30T01:11:38Z</dcterms:modified>
  <cp:revision>1</cp:revision>
  <dc:subject/>
  <dc:title>From Washington to Beijing</dc:title>
</cp:coreProperties>
</file>