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70F87-3D94-4762-B005-92C94EC60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58B23-9982-4932-92F7-0AE7AFEE3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C8455-1D53-4E5E-B7DC-B2F3CA6D9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8D0D2-4231-4814-9379-1A318CE2B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63802-E222-4CD9-A1B1-562BA5AA0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D11CD-ACEF-413A-AAC1-B37BA6D38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0C13C-5013-47B9-AA5E-F617BAA90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03D8A-0DAB-4D39-873A-3D24CCC74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9567A-E3B0-420B-8834-A51446BAE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810C1-C3F9-4A15-8FC6-662FE1DC0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DE719-2865-493C-B84B-0AD966D6B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96BE4-327A-4856-B5D8-BB7D24B00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1419B-D751-4417-A2CB-440DD2E7B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651C4-CBD0-4C77-AC94-AA5A16786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C22AC-8BAE-43E6-9F32-60567A303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09A10-0078-4A7C-B102-BC20BAC4F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C575A-83DD-4D7B-B1FC-E8462734C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F213C3-E517-49BA-914B-1FB23F619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7811DE-DB4D-4E67-8DD0-8520AAA79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E9C2EE-B816-414D-A7C8-3B5C29F5F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C4532A-D77A-4EFD-A5CC-8ADFA9E54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0FDBDB-EF17-46B2-8731-E51C389CE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4BBB0-7CCC-40FC-94C7-3A561F4E7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C19F4B-D20B-4BFA-87AF-315071990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96EBD5-8EB4-43F5-965E-1EF4B71B7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EE7C81-EE3C-4BEB-80ED-BF3ADF712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26F87D-D6F6-4713-A18A-A5829DC86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C4AE95-7731-4324-8A8B-8799DCE2E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4E9B63-22B1-4C5F-AB88-E16589802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950A78-5E8A-455B-A3F9-1DA6AEA94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26E3CA-1875-4F72-BB62-436313AED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38081C-9623-4F16-9FE4-1FDB7FA77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A27AA2-8DCB-4856-A5F8-490142EC3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77F6E-28FF-4F4C-97EA-4A7AA1225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6C6018-CBE2-4B1B-9344-0564DC959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3C7C88-8334-4F69-B954-BA50D1F1F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D07C8A-C790-47FD-9892-DB24B6BEB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96986B-8203-4B6D-BE48-DD64DA933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458BA8-BE59-4AE9-9FD1-1C8E5595B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2496D8-621E-431E-B62C-ACB69BD2F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D1C0A2-C249-4B83-B1F6-86E8C4A2B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F1ABD1-3269-450A-9214-9FDCD6DF4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48A33D-9CA8-4EF1-8231-59B7D9679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9B1C75-5526-4A9B-8078-C6618E887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D0AA7-C07A-4B58-A515-3563C3BE6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6CF948-3C77-42FA-9F0B-4D26A0BC6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B76635-2D9B-4BA8-90CB-906456B05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1B36E5-1E90-4822-AE23-4BC6B7694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656AD8-0244-4170-A729-D5D8F0ECA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034A01-F5FC-49D1-B3D7-E70916C69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39F235-A4C0-4A6B-9A0F-9E3C347AC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553CB8-FAA9-49E8-8688-89C36636E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EFC9F2-A99D-4678-9D15-FFE170F0A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8C8149-11BC-4AA9-8367-523129F99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04C9EC-01EB-4535-939C-7F1F5EC84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B9D9E-92CA-4965-B7F7-4AE8A1F29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F40245-AFC6-4D81-8DA7-E53A22CC6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8B36CC-AF14-421B-91E5-E4A326D36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CD48FC-6200-44F3-9FFA-5C5B030D7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6232C1-5BC0-4E01-BD07-2F02EB4CB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546B69-6CBC-444F-BF20-CB8647CA2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8B5D3F-E290-4BA1-BCC2-6726F7A80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573AF1-7D5A-4A20-9483-0D020CED7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679B5B-BBE7-432D-952E-C0F48B807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299F38-5942-4874-9AEA-CAF43ABA7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94084A-A38E-484C-9F33-47876B4B8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A429D-BB14-4001-974B-5680A0647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0E543A-2CE6-4EF8-8179-35E25028C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F8EF64-0CF8-44A3-817B-5B8B15E46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A02428-7A6B-45F0-8A7F-3B8DC4B56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B3EE60-306E-4AEE-BA9F-1765177CE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196639-CA57-4752-B1B3-DC2C0413A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F26AE6-2A43-47C0-8D6A-58E2B3DCE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A444BF-5271-4CA2-AB0D-F5AE6EEAC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4FDED5-F833-49BB-AD2E-A7C178A79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BD1777-E5D5-4D61-94EF-D544C6507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16DEFA-FF6A-4B05-9E92-83AAE7C21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7B829-33B9-4807-A203-0E3B86F72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E10C45-9856-4BC1-BC40-7C9DCA184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9ACA8D-2501-4F33-8190-D4C4F75A5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2EFA7E-1D28-4026-98DF-9A66BF813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DFC124-19B3-493E-A7B4-E1F842F12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6887B1-AD06-4C75-9382-7F8BA37D8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02B20-D376-4617-BB93-D8BBEF17E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0A19D-2A3A-4875-9A29-4E193C20C3DE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" name="Rectangle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" name="Rectangle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" name="Rectangle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" name="Rectangle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5" name="Rectangle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" name="Rectangle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" name="Rectangle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CD6D6-089D-4F31-84C2-A0ABE5A97520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9" name="Freeform 17"/>
          <p:cNvSpPr/>
          <p:nvPr/>
        </p:nvSpPr>
        <p:spPr>
          <a:xfrm>
            <a:off x="4829040" y="1073160"/>
            <a:ext cx="4321440" cy="5791320"/>
          </a:xfrm>
          <a:prstGeom prst="pie">
            <a:avLst/>
          </a:pr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0" name="Freeform 18"/>
          <p:cNvSpPr/>
          <p:nvPr/>
        </p:nvSpPr>
        <p:spPr>
          <a:xfrm>
            <a:off x="374760" y="0"/>
            <a:ext cx="5513400" cy="6615000"/>
          </a:xfrm>
          <a:prstGeom prst="pie">
            <a:avLst/>
          </a:pr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1" name="Freeform 19"/>
          <p:cNvSpPr/>
          <p:nvPr/>
        </p:nvSpPr>
        <p:spPr>
          <a:xfrm rot="5236200">
            <a:off x="4461120" y="1483200"/>
            <a:ext cx="4114800" cy="1189080"/>
          </a:xfrm>
          <a:prstGeom prst="pie">
            <a:avLst/>
          </a:pr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2" name="Freeform 20"/>
          <p:cNvSpPr/>
          <p:nvPr/>
        </p:nvSpPr>
        <p:spPr>
          <a:xfrm>
            <a:off x="5943600" y="0"/>
            <a:ext cx="2743200" cy="42670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3" name="Freeform 23"/>
          <p:cNvSpPr/>
          <p:nvPr/>
        </p:nvSpPr>
        <p:spPr>
          <a:xfrm>
            <a:off x="5943600" y="4267080"/>
            <a:ext cx="3200400" cy="11430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4" name="Freeform 24"/>
          <p:cNvSpPr/>
          <p:nvPr/>
        </p:nvSpPr>
        <p:spPr>
          <a:xfrm>
            <a:off x="5943600" y="0"/>
            <a:ext cx="1371600" cy="42670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5" name="Freeform 25"/>
          <p:cNvSpPr/>
          <p:nvPr/>
        </p:nvSpPr>
        <p:spPr>
          <a:xfrm>
            <a:off x="5948280" y="4246560"/>
            <a:ext cx="2090880" cy="261144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6" name="Freeform 26"/>
          <p:cNvSpPr/>
          <p:nvPr/>
        </p:nvSpPr>
        <p:spPr>
          <a:xfrm>
            <a:off x="5943600" y="4267080"/>
            <a:ext cx="160020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7" name="Freeform 27"/>
          <p:cNvSpPr/>
          <p:nvPr/>
        </p:nvSpPr>
        <p:spPr>
          <a:xfrm>
            <a:off x="5943600" y="1371600"/>
            <a:ext cx="3200400" cy="28954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8" name="Freeform 28"/>
          <p:cNvSpPr/>
          <p:nvPr/>
        </p:nvSpPr>
        <p:spPr>
          <a:xfrm>
            <a:off x="5943600" y="1752480"/>
            <a:ext cx="3200400" cy="25146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9" name="Freeform 29"/>
          <p:cNvSpPr/>
          <p:nvPr/>
        </p:nvSpPr>
        <p:spPr>
          <a:xfrm>
            <a:off x="990720" y="4267080"/>
            <a:ext cx="495288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0" name="Freeform 30"/>
          <p:cNvSpPr/>
          <p:nvPr/>
        </p:nvSpPr>
        <p:spPr>
          <a:xfrm>
            <a:off x="533520" y="4267080"/>
            <a:ext cx="533376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1" name="Freeform 31"/>
          <p:cNvSpPr/>
          <p:nvPr/>
        </p:nvSpPr>
        <p:spPr>
          <a:xfrm>
            <a:off x="366840" y="2438280"/>
            <a:ext cx="5638680" cy="18288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2" name="Freeform 32"/>
          <p:cNvSpPr/>
          <p:nvPr/>
        </p:nvSpPr>
        <p:spPr>
          <a:xfrm>
            <a:off x="366840" y="2133720"/>
            <a:ext cx="5638680" cy="213336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3" name="Freeform 33"/>
          <p:cNvSpPr/>
          <p:nvPr/>
        </p:nvSpPr>
        <p:spPr>
          <a:xfrm>
            <a:off x="4572000" y="4267080"/>
            <a:ext cx="1371600" cy="2590920"/>
          </a:xfrm>
          <a:prstGeom prst="pie">
            <a:avLst/>
          </a:pr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4" name="Rectangle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5" name="Rectangle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6" name="Rectangle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7" name="Rectangle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8" name="Rectangle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9" name="Rectangle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2E442-97A3-46A3-B20D-34F9997486F3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E667A-4C9D-45BD-95D1-A30F21D25F85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3" name="Rectangle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4" name="Rectangle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5" name="Rectangle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6" name="Rectangle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7" name="Rectangle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8" name="Rectangle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9" name="Rectangle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0" name="Rectangle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1" name="Rectangle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D9661-8CB0-405F-9B5A-EBB2F4E69597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BC7EF-4C80-4155-B5D3-8D268DFF4B37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5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6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7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8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9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0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1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2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3" name="Rectangle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4" name="Straight Connector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grpSp>
        <p:nvGrpSpPr>
          <p:cNvPr id="315" name="Group 19"/>
          <p:cNvGrpSpPr/>
          <p:nvPr/>
        </p:nvGrpSpPr>
        <p:grpSpPr>
          <a:xfrm>
            <a:off x="8516880" y="1217520"/>
            <a:ext cx="128160" cy="131760"/>
            <a:chOff x="8516880" y="1217520"/>
            <a:chExt cx="128160" cy="131760"/>
          </a:xfrm>
        </p:grpSpPr>
        <p:sp>
          <p:nvSpPr>
            <p:cNvPr id="316" name="Straight Connector 20"/>
            <p:cNvSpPr/>
            <p:nvPr/>
          </p:nvSpPr>
          <p:spPr>
            <a:xfrm>
              <a:off x="8572320" y="121752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17" name="Straight Connector 23"/>
            <p:cNvSpPr/>
            <p:nvPr/>
          </p:nvSpPr>
          <p:spPr>
            <a:xfrm>
              <a:off x="8516880" y="1283040"/>
              <a:ext cx="1033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18" name="Straight Connector 24"/>
            <p:cNvSpPr/>
            <p:nvPr/>
          </p:nvSpPr>
          <p:spPr>
            <a:xfrm flipV="1">
              <a:off x="8572320" y="128232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grpSp>
        <p:nvGrpSpPr>
          <p:cNvPr id="319" name="Group 25"/>
          <p:cNvGrpSpPr/>
          <p:nvPr/>
        </p:nvGrpSpPr>
        <p:grpSpPr>
          <a:xfrm>
            <a:off x="8669160" y="1370160"/>
            <a:ext cx="128880" cy="131760"/>
            <a:chOff x="8669160" y="1370160"/>
            <a:chExt cx="128880" cy="131760"/>
          </a:xfrm>
        </p:grpSpPr>
        <p:sp>
          <p:nvSpPr>
            <p:cNvPr id="320" name="Straight Connector 26"/>
            <p:cNvSpPr/>
            <p:nvPr/>
          </p:nvSpPr>
          <p:spPr>
            <a:xfrm>
              <a:off x="8725320" y="137016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21" name="Straight Connector 27"/>
            <p:cNvSpPr/>
            <p:nvPr/>
          </p:nvSpPr>
          <p:spPr>
            <a:xfrm>
              <a:off x="8669160" y="1435680"/>
              <a:ext cx="1036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22" name="Straight Connector 28"/>
            <p:cNvSpPr/>
            <p:nvPr/>
          </p:nvSpPr>
          <p:spPr>
            <a:xfrm flipV="1">
              <a:off x="8725320" y="143496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grpSp>
        <p:nvGrpSpPr>
          <p:cNvPr id="323" name="Group 29"/>
          <p:cNvGrpSpPr/>
          <p:nvPr/>
        </p:nvGrpSpPr>
        <p:grpSpPr>
          <a:xfrm>
            <a:off x="8321760" y="1473120"/>
            <a:ext cx="128160" cy="131760"/>
            <a:chOff x="8321760" y="1473120"/>
            <a:chExt cx="128160" cy="131760"/>
          </a:xfrm>
        </p:grpSpPr>
        <p:sp>
          <p:nvSpPr>
            <p:cNvPr id="324" name="Straight Connector 30"/>
            <p:cNvSpPr/>
            <p:nvPr/>
          </p:nvSpPr>
          <p:spPr>
            <a:xfrm>
              <a:off x="8377200" y="147312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25" name="Straight Connector 31"/>
            <p:cNvSpPr/>
            <p:nvPr/>
          </p:nvSpPr>
          <p:spPr>
            <a:xfrm>
              <a:off x="8321760" y="1538640"/>
              <a:ext cx="1033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26" name="Straight Connector 32"/>
            <p:cNvSpPr/>
            <p:nvPr/>
          </p:nvSpPr>
          <p:spPr>
            <a:xfrm flipV="1">
              <a:off x="8377200" y="153792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872AF-3BB0-45C2-9875-66FC99FF801F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Title 1" descr=""/>
          <p:cNvPicPr/>
          <p:nvPr/>
        </p:nvPicPr>
        <p:blipFill>
          <a:blip r:embed="rId1"/>
          <a:stretch/>
        </p:blipFill>
        <p:spPr>
          <a:xfrm>
            <a:off x="682560" y="4237200"/>
            <a:ext cx="8010720" cy="2090520"/>
          </a:xfrm>
          <a:prstGeom prst="rect">
            <a:avLst/>
          </a:prstGeom>
          <a:ln w="0">
            <a:noFill/>
          </a:ln>
        </p:spPr>
      </p:pic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914400" y="2835000"/>
            <a:ext cx="7772400" cy="1508040"/>
          </a:xfrm>
          <a:prstGeom prst="rect">
            <a:avLst/>
          </a:prstGeom>
          <a:noFill/>
          <a:ln w="0">
            <a:noFill/>
          </a:ln>
        </p:spPr>
        <p:txBody>
          <a:bodyPr lIns="100440" rIns="900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Lesson 5.8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Important things to know!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94560" indent="-32868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Radius of the Earth’s sphere is 3960 mile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94560" indent="-32868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94560" indent="-32868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Prime meridian – 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0˚ longitude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94560" indent="-32868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International Date Line – 180˚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94560" indent="-32868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94560" indent="-32868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In an ordered pair,  (longitude, latitude)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94560" indent="-32868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pherical Law of Cosines –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94560" indent="-328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  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os c = cos a cos b + sin a sin b cos C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94560" indent="-328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94560" indent="-328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Independent work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Corbel"/>
              </a:rPr>
              <a:t>Pages 358 – 359</a:t>
            </a:r>
            <a:endParaRPr b="0" lang="en-US" sz="9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Corbel"/>
              </a:rPr>
              <a:t>10 - 23</a:t>
            </a:r>
            <a:endParaRPr b="0" lang="en-US" sz="96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30T01:04:11Z</dcterms:created>
  <dc:creator>Laura Helbing</dc:creator>
  <dc:description/>
  <dc:language>en-US</dc:language>
  <cp:lastModifiedBy>Laura Helbing</cp:lastModifiedBy>
  <dcterms:modified xsi:type="dcterms:W3CDTF">2010-12-30T01:11:38Z</dcterms:modified>
  <cp:revision>1</cp:revision>
  <dc:subject/>
  <dc:title>From Washington to Beijing</dc:title>
</cp:coreProperties>
</file>