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768-C5D3-46B3-9F08-8CBFE681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033-CBDC-4B9D-80B2-540F70F3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E169-A1B8-4784-888E-155D4FF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9E2-F189-4C9F-BD7E-D224C4E8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801C-BAAF-4C03-8E08-F3577E8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135-9E93-497E-8605-CFAE4F6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C92-B120-46C3-888D-A05F6DB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4C65-E31F-4DD6-A684-35F2D354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BB0-BD7D-41FF-A921-0532790C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3F5-95E1-4B09-9BED-5F7CB77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2FD-69B6-4979-B6BD-F379AC4E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77F-3EC1-4F88-88B2-63D6518C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DE20-4BA5-4B06-8441-1F52255CB26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9997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1b92b2"/>
                </a:solidFill>
                <a:latin typeface="Calibri"/>
              </a:rPr>
              <a:t>General Solutions to Trigonometr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1b92b2"/>
                </a:solidFill>
                <a:latin typeface="Calibri"/>
              </a:rPr>
              <a:t>Lesson 5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rigonometric equa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WATCH OUT FOR THE DOMAI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FIGURE OUT IF YOU ARE IN DEGREES OR RADIANS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152388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b9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Consider the equation cos x = .4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the solution between 0 and 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 to the nearest thousand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Estimate all solutions between 0 and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, 5.1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b92b2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Describe all real sol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1.097 + 2πn, 5.186+ 2</a:t>
            </a:r>
            <a:r>
              <a:rPr b="0" lang="el-GR" sz="2800" spc="-1" strike="noStrike">
                <a:solidFill>
                  <a:srgbClr val="1b92b2"/>
                </a:solidFill>
                <a:latin typeface="Calibri"/>
              </a:rPr>
              <a:t>π</a:t>
            </a:r>
            <a:r>
              <a:rPr b="0" lang="en-US" sz="2800" spc="-1" strike="noStrike">
                <a:solidFill>
                  <a:srgbClr val="1b92b2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Solve for x in degree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3 tan</a:t>
            </a:r>
            <a:r>
              <a:rPr b="1" lang="en-US" sz="4800" spc="-1" strike="noStrike" baseline="30000">
                <a:solidFill>
                  <a:srgbClr val="1b92b2"/>
                </a:solidFill>
                <a:latin typeface="Calibri"/>
              </a:rPr>
              <a:t>2 </a:t>
            </a:r>
            <a:r>
              <a:rPr b="1" lang="en-US" sz="4800" spc="-1" strike="noStrike">
                <a:solidFill>
                  <a:srgbClr val="1b92b2"/>
                </a:solidFill>
                <a:latin typeface="Calibri"/>
              </a:rPr>
              <a:t>x + 4tan x + 1 =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(3tanx + 1) (tan x + 1)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3 tan x + 1 = 0                 tan x + 1 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an x = -1/3                           tan x = 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x = 34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13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161.6 + 360n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    x = 315 + 36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05280" y="228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92b2"/>
                </a:solidFill>
                <a:latin typeface="Calibri"/>
              </a:rPr>
              <a:t>This estimates the number of hours y of daylight on the xth day of the year at the latitude of Seattle.  Approximately when is a daylight period 11 hours long in Seatt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3886200" y="0"/>
                <a:ext cx="5029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6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307800" y="4038480"/>
                <a:ext cx="38484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60" y="5459400"/>
                <a:ext cx="42451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648320" y="4114800"/>
                <a:ext cx="4311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98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4500720" y="5334120"/>
                <a:ext cx="4047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7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7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5226120" y="6064200"/>
                <a:ext cx="2884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2852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Pages 351 – 35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7  - 14, 19, 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b92b2"/>
                </a:solidFill>
                <a:latin typeface="Calibri"/>
              </a:rPr>
              <a:t>Skip 11 b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6:59:35Z</dcterms:created>
  <dc:creator>Laura Helbing</dc:creator>
  <dc:description/>
  <dc:language>en-US</dc:language>
  <cp:lastModifiedBy>Laura Helbing</cp:lastModifiedBy>
  <dcterms:modified xsi:type="dcterms:W3CDTF">2011-01-11T19:24:01Z</dcterms:modified>
  <cp:revision>9</cp:revision>
  <dc:subject/>
  <dc:title>General Solutions to Trigonometric Equations</dc:title>
</cp:coreProperties>
</file>