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A9B6-D7A6-4469-9049-458C2E53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9482-D714-45FE-91F7-040B3A19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D4E8-E896-4F5F-B6BD-A34AC078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B280-DAB8-4EC1-A211-D3A28FAE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7E4-D34D-474A-B115-DD3DA7F7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F6DA-24EF-4B52-A433-8BC48CBF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A08C-0E77-491A-B509-03AA55BC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9854-5085-4F83-B06A-0215F8B5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B86-B3DB-4896-9A07-352C3C38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1D79-F5D3-4314-A8C3-6795517F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9306-B231-4157-88CD-D79E5984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A736-19AB-434F-A945-09661A9F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8215-5A62-4F3E-B7F8-26D68A30086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8640" y="99972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1b92b2"/>
                </a:solidFill>
                <a:latin typeface="Calibri"/>
              </a:rPr>
              <a:t>General Solutions to Trigonometric Equ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1b92b2"/>
                </a:solidFill>
                <a:latin typeface="Calibri"/>
              </a:rPr>
              <a:t>Lesson 5.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285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b9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Trigonometric equation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WATCH OUT FOR THE DOMAIN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FIGURE OUT IF YOU ARE IN DEGREES OR RADIANS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880" y="152388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b9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Consider the equation cos x = .4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9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Estimate the solution between 0 and </a:t>
            </a:r>
            <a:r>
              <a:rPr b="0" lang="el-GR" sz="2800" spc="-1" strike="noStrike">
                <a:solidFill>
                  <a:srgbClr val="1b92b2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 to the nearest thousan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1.09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9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Estimate all solutions between 0 and 2</a:t>
            </a:r>
            <a:r>
              <a:rPr b="0" lang="el-GR" sz="2800" spc="-1" strike="noStrike">
                <a:solidFill>
                  <a:srgbClr val="1b92b2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1.097, 5.1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92b2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Describe all real solu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1.097 + 2πn, 5.186+ 2</a:t>
            </a:r>
            <a:r>
              <a:rPr b="0" lang="el-GR" sz="2800" spc="-1" strike="noStrike">
                <a:solidFill>
                  <a:srgbClr val="1b92b2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520"/>
            <a:ext cx="82296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b92b2"/>
                </a:solidFill>
                <a:latin typeface="Calibri"/>
              </a:rPr>
              <a:t>Solve for x in degrees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b92b2"/>
                </a:solidFill>
                <a:latin typeface="Calibri"/>
              </a:rPr>
              <a:t>3 tan</a:t>
            </a:r>
            <a:r>
              <a:rPr b="1" lang="en-US" sz="4800" spc="-1" strike="noStrike" baseline="30000">
                <a:solidFill>
                  <a:srgbClr val="1b92b2"/>
                </a:solidFill>
                <a:latin typeface="Calibri"/>
              </a:rPr>
              <a:t>2 </a:t>
            </a:r>
            <a:r>
              <a:rPr b="1" lang="en-US" sz="4800" spc="-1" strike="noStrike">
                <a:solidFill>
                  <a:srgbClr val="1b92b2"/>
                </a:solidFill>
                <a:latin typeface="Calibri"/>
              </a:rPr>
              <a:t>x + 4tan x + 1 =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(3tanx + 1) (tan x + 1)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3 tan x + 1 = 0                 tan x + 1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tan x = -1/3                           tan x = 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x = 341.6 + 360n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   x = 135 + 360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161.6 + 360n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   x = 315 + 360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0528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This estimates the number of hours y of daylight on the xth day of the year at the latitude of Seattle.  Approximately when is a daylight period 11 hours long in Seattl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3886200" y="0"/>
                <a:ext cx="50292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6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5"/>
              <p:cNvSpPr txBox="1"/>
              <p:nvPr/>
            </p:nvSpPr>
            <p:spPr>
              <a:xfrm>
                <a:off x="307800" y="4038480"/>
                <a:ext cx="384840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185760" y="5459400"/>
                <a:ext cx="42451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7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7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7"/>
              <p:cNvSpPr txBox="1"/>
              <p:nvPr/>
            </p:nvSpPr>
            <p:spPr>
              <a:xfrm>
                <a:off x="4648320" y="4114800"/>
                <a:ext cx="4311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98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7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7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8"/>
              <p:cNvSpPr txBox="1"/>
              <p:nvPr/>
            </p:nvSpPr>
            <p:spPr>
              <a:xfrm>
                <a:off x="4500720" y="5334120"/>
                <a:ext cx="40478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7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7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9"/>
              <p:cNvSpPr txBox="1"/>
              <p:nvPr/>
            </p:nvSpPr>
            <p:spPr>
              <a:xfrm>
                <a:off x="5226120" y="6064200"/>
                <a:ext cx="28843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285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b92b2"/>
                </a:solidFill>
                <a:latin typeface="Calibri"/>
              </a:rPr>
              <a:t>Pages 351 – 35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b92b2"/>
                </a:solidFill>
                <a:latin typeface="Calibri"/>
              </a:rPr>
              <a:t>7  - 14, 19, 2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b92b2"/>
                </a:solidFill>
                <a:latin typeface="Calibri"/>
              </a:rPr>
              <a:t>Skip 11 b.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16:59:35Z</dcterms:created>
  <dc:creator>Laura Helbing</dc:creator>
  <dc:description/>
  <dc:language>en-US</dc:language>
  <cp:lastModifiedBy>Laura Helbing</cp:lastModifiedBy>
  <dcterms:modified xsi:type="dcterms:W3CDTF">2011-01-11T19:24:01Z</dcterms:modified>
  <cp:revision>9</cp:revision>
  <dc:subject/>
  <dc:title>General Solutions to Trigonometric Equations</dc:title>
</cp:coreProperties>
</file>