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DE4B-5255-4896-A1D2-8085923E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0EC8-C1C6-4F73-BA82-A448F530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1490-F959-45D0-B019-7DA9DFF5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3433-8814-416A-8807-958CB0AB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F374-A98B-4654-813C-2FD3A1A5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45EB-FB96-4707-9DA4-F60F6022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560C-BC67-4D86-8D47-AF998D5C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04ED-0391-4FBD-9017-1F481DF7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3C0-311A-45DD-A252-BC99F0AD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4ECA-1E3E-4E0D-A4A3-107C8558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0AF7-91B7-4BCC-B11F-5E7384EE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DAF9-4522-44C6-AF34-E4A9393B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F64C-EC44-4A8A-BCDC-1843864C875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8640" y="99972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1b92b2"/>
                </a:solidFill>
                <a:latin typeface="Calibri"/>
              </a:rPr>
              <a:t>General Solutions to Trigonometric Equ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1b92b2"/>
                </a:solidFill>
                <a:latin typeface="Calibri"/>
              </a:rPr>
              <a:t>Lesson 5.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2852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b9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Trigonometric equation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WATCH OUT FOR THE DOMAIN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FIGURE OUT IF YOU ARE IN DEGREES OR RADIANS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880" y="152388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b9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Consider the equation cos x = .4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b9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Estimate the solution between 0 and </a:t>
            </a:r>
            <a:r>
              <a:rPr b="0" lang="el-GR" sz="2800" spc="-1" strike="noStrike">
                <a:solidFill>
                  <a:srgbClr val="1b92b2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 to the nearest thousan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1.09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b9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Estimate all solutions between 0 and 2</a:t>
            </a:r>
            <a:r>
              <a:rPr b="0" lang="el-GR" sz="2800" spc="-1" strike="noStrike">
                <a:solidFill>
                  <a:srgbClr val="1b92b2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1.097, 5.18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b92b2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Describe all real solu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1.097 + 2πn, 5.186+ 2</a:t>
            </a:r>
            <a:r>
              <a:rPr b="0" lang="el-GR" sz="2800" spc="-1" strike="noStrike">
                <a:solidFill>
                  <a:srgbClr val="1b92b2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28520"/>
            <a:ext cx="82296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b92b2"/>
                </a:solidFill>
                <a:latin typeface="Calibri"/>
              </a:rPr>
              <a:t>Solve for x in degrees: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b92b2"/>
                </a:solidFill>
                <a:latin typeface="Calibri"/>
              </a:rPr>
              <a:t>3 tan</a:t>
            </a:r>
            <a:r>
              <a:rPr b="1" lang="en-US" sz="4800" spc="-1" strike="noStrike" baseline="30000">
                <a:solidFill>
                  <a:srgbClr val="1b92b2"/>
                </a:solidFill>
                <a:latin typeface="Calibri"/>
              </a:rPr>
              <a:t>2 </a:t>
            </a:r>
            <a:r>
              <a:rPr b="1" lang="en-US" sz="4800" spc="-1" strike="noStrike">
                <a:solidFill>
                  <a:srgbClr val="1b92b2"/>
                </a:solidFill>
                <a:latin typeface="Calibri"/>
              </a:rPr>
              <a:t>x + 4tan x + 1 =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(3tanx + 1) (tan x + 1)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3 tan x + 1 = 0                 tan x + 1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tan x = -1/3                           tan x = 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x = 341.6 + 360n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    x = 135 + 360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161.6 + 360n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    x = 315 + 360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0528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This estimates the number of hours y of daylight on the xth day of the year at the latitude of Seattle.  Approximately when is a daylight period 11 hours long in Seattl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3886200" y="0"/>
                <a:ext cx="50292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6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5"/>
              <p:cNvSpPr txBox="1"/>
              <p:nvPr/>
            </p:nvSpPr>
            <p:spPr>
              <a:xfrm>
                <a:off x="307800" y="4038480"/>
                <a:ext cx="384840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185760" y="5459400"/>
                <a:ext cx="42451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7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7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7"/>
              <p:cNvSpPr txBox="1"/>
              <p:nvPr/>
            </p:nvSpPr>
            <p:spPr>
              <a:xfrm>
                <a:off x="4648320" y="4114800"/>
                <a:ext cx="4311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98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7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7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8"/>
              <p:cNvSpPr txBox="1"/>
              <p:nvPr/>
            </p:nvSpPr>
            <p:spPr>
              <a:xfrm>
                <a:off x="4500720" y="5334120"/>
                <a:ext cx="40478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1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7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7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9"/>
              <p:cNvSpPr txBox="1"/>
              <p:nvPr/>
            </p:nvSpPr>
            <p:spPr>
              <a:xfrm>
                <a:off x="5226120" y="6064200"/>
                <a:ext cx="28843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2852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b92b2"/>
                </a:solidFill>
                <a:latin typeface="Calibri"/>
              </a:rPr>
              <a:t>Pages 351 – 35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b92b2"/>
                </a:solidFill>
                <a:latin typeface="Calibri"/>
              </a:rPr>
              <a:t>7  - 14, 19, 2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b92b2"/>
                </a:solidFill>
                <a:latin typeface="Calibri"/>
              </a:rPr>
              <a:t>Skip 11 b.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16:59:35Z</dcterms:created>
  <dc:creator>Laura Helbing</dc:creator>
  <dc:description/>
  <dc:language>en-US</dc:language>
  <cp:lastModifiedBy>Laura Helbing</cp:lastModifiedBy>
  <dcterms:modified xsi:type="dcterms:W3CDTF">2011-01-11T19:24:01Z</dcterms:modified>
  <cp:revision>9</cp:revision>
  <dc:subject/>
  <dc:title>General Solutions to Trigonometric Equations</dc:title>
</cp:coreProperties>
</file>