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27AE-EA24-4B13-A17B-D3505F45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BAC-F169-499E-8D5C-0FB1E5B0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9BD-AF32-448A-8D8D-184359CE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664-F0B8-431E-8BC9-0E26F116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C9F-6CAB-4A93-9D88-F6FBBB2A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8875-6464-4C79-A00B-779FAA52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CAA-7D5B-4F4C-B230-DC6C59D8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637-3B9C-4C07-95D7-42780C43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051-E8C2-4468-981C-7B313638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608D-017F-4B6F-A106-65AA5D2F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3EC-2EB6-43D0-A843-20174502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C5EA-995F-4AE0-9607-A5D846E0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C107-5E5E-43DC-B494-77C751E32DB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Calibri"/>
              </a:rPr>
              <a:t>Inverse Tangent Func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2499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Lesson 5.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Pages 342 – 343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4 – 12, 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14 – 15,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17 - 18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Remember… y = tan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785880" y="1714680"/>
            <a:ext cx="8001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y = tan</a:t>
            </a:r>
            <a:r>
              <a:rPr b="0" lang="fr-CA" sz="4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space réservé du contenu 4"/>
          <p:cNvSpPr/>
          <p:nvPr/>
        </p:nvSpPr>
        <p:spPr>
          <a:xfrm>
            <a:off x="2428920" y="1200240"/>
            <a:ext cx="65008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f we took y = tan x on its entire domain, the inverse would not be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o, we restrict the range of tan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to –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2  ≤ y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≤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Different calculators </a:t>
            </a:r>
            <a:r>
              <a:rPr b="0" lang="en-US" sz="3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an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x = arctan= a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Remember… y = tan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785880" y="1714680"/>
            <a:ext cx="8001000" cy="5143320"/>
          </a:xfrm>
          <a:prstGeom prst="rect">
            <a:avLst/>
          </a:prstGeom>
          <a:ln w="0">
            <a:noFill/>
          </a:ln>
        </p:spPr>
      </p:pic>
      <p:sp>
        <p:nvSpPr>
          <p:cNvPr id="50" name="Freeform 6"/>
          <p:cNvSpPr/>
          <p:nvPr/>
        </p:nvSpPr>
        <p:spPr>
          <a:xfrm>
            <a:off x="3244680" y="1841400"/>
            <a:ext cx="1773360" cy="481644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y = tan</a:t>
            </a:r>
            <a:r>
              <a:rPr b="0" lang="fr-CA" sz="4400" spc="-1" strike="noStrike" baseline="30000">
                <a:solidFill>
                  <a:srgbClr val="ffffff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tan_atan.gif"/>
          <p:cNvPicPr/>
          <p:nvPr/>
        </p:nvPicPr>
        <p:blipFill>
          <a:blip r:embed="rId2"/>
          <a:stretch/>
        </p:blipFill>
        <p:spPr>
          <a:xfrm>
            <a:off x="357120" y="1571760"/>
            <a:ext cx="82155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Evaluate Arctan 30 to the nearest thousandth of a deg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an x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= 88.091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Evaluate tan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             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n ra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an x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= arc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= 30˚ so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5072040" y="1143000"/>
                <a:ext cx="7858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5500800" y="2214720"/>
                <a:ext cx="78588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5929200" y="3286080"/>
                <a:ext cx="7858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Give the angle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θ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the line y = mx makes with the positive part of the x – axis as a function of the slope of the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2286000" y="3595680"/>
            <a:ext cx="3262320" cy="3262320"/>
          </a:xfrm>
          <a:prstGeom prst="rect">
            <a:avLst/>
          </a:prstGeom>
          <a:ln w="0">
            <a:noFill/>
          </a:ln>
        </p:spPr>
      </p:pic>
      <p:cxnSp>
        <p:nvCxnSpPr>
          <p:cNvPr id="64" name="Straight Arrow Connector 8"/>
          <p:cNvCxnSpPr/>
          <p:nvPr/>
        </p:nvCxnSpPr>
        <p:spPr>
          <a:xfrm flipV="1">
            <a:off x="2786040" y="3785760"/>
            <a:ext cx="2215440" cy="28584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65" name="TextBox 9"/>
          <p:cNvSpPr/>
          <p:nvPr/>
        </p:nvSpPr>
        <p:spPr>
          <a:xfrm>
            <a:off x="4074840" y="485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1"/>
          <p:cNvCxnSpPr/>
          <p:nvPr/>
        </p:nvCxnSpPr>
        <p:spPr>
          <a:xfrm flipH="1">
            <a:off x="4785480" y="3787920"/>
            <a:ext cx="2520" cy="2000880"/>
          </a:xfrm>
          <a:prstGeom prst="straightConnector1">
            <a:avLst/>
          </a:prstGeom>
          <a:ln w="57240">
            <a:solidFill>
              <a:srgbClr val="ff0000"/>
            </a:solidFill>
            <a:prstDash val="dash"/>
            <a:miter/>
            <a:tailEnd len="med" type="arrow" w="med"/>
          </a:ln>
        </p:spPr>
      </p:cxnSp>
      <p:sp>
        <p:nvSpPr>
          <p:cNvPr id="67" name="TextBox 12"/>
          <p:cNvSpPr/>
          <p:nvPr/>
        </p:nvSpPr>
        <p:spPr>
          <a:xfrm>
            <a:off x="4931640" y="4429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4217760" y="5286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5854320" y="3571920"/>
            <a:ext cx="22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n 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6157080" y="4714920"/>
            <a:ext cx="24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atan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summariz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400960" cy="3718080"/>
        </p:xfrm>
        <a:graphic>
          <a:graphicData uri="http://schemas.openxmlformats.org/drawingml/2006/table">
            <a:tbl>
              <a:tblPr/>
              <a:tblGrid>
                <a:gridCol w="1916280"/>
                <a:gridCol w="3098520"/>
                <a:gridCol w="33861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a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g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</a:t>
                      </a:r>
                      <a:r>
                        <a:rPr b="1" lang="en-US" sz="44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≤ x ≤ 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 ≤ y ≤ 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</a:t>
                      </a:r>
                      <a:r>
                        <a:rPr b="1" lang="en-US" sz="44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≤ x ≤ 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 ≤ y ≤ 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n</a:t>
                      </a:r>
                      <a:r>
                        <a:rPr b="1" lang="en-US" sz="44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of all real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 ≤ y ≤ 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18:59Z</dcterms:created>
  <dc:creator>Éric Vadeboncoeur</dc:creator>
  <dc:description/>
  <dc:language>en-US</dc:language>
  <cp:lastModifiedBy>Laura Helbing</cp:lastModifiedBy>
  <dcterms:modified xsi:type="dcterms:W3CDTF">2011-01-10T20:23:20Z</dcterms:modified>
  <cp:revision>43</cp:revision>
  <dc:subject/>
  <dc:title>PRESENTATION  NAME</dc:title>
</cp:coreProperties>
</file>