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7D3-8F97-4A77-8688-12834082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AAC-589B-4B46-B384-2ADD044A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007-60B7-457F-A9F1-0DBC5CA4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B59-FB03-484B-86B8-5E1B407A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EB1-C7B6-46CB-82A2-8F96973E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299-4A7C-416B-A688-1D85638B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90D-5771-4CC7-864A-B6107A46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0CC-A362-4AFB-A58F-4BC07A2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FF7-94E6-433C-AF4E-4ADEAB2E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458-D57E-4A1C-B2E0-E5205FE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979-B31F-491F-BB5C-913EA9B9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401-B592-4E3A-B4A6-9F1A674E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7A06-FF61-488A-8840-6B81AC6303C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Inverse Tangent F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Lesson 5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Pages 342 – 343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4 – 15,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7 - 18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contenu 4"/>
          <p:cNvSpPr/>
          <p:nvPr/>
        </p:nvSpPr>
        <p:spPr>
          <a:xfrm>
            <a:off x="2428920" y="1200240"/>
            <a:ext cx="65008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tan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range of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–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  ≤ y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tan= 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Freeform 6"/>
          <p:cNvSpPr/>
          <p:nvPr/>
        </p:nvSpPr>
        <p:spPr>
          <a:xfrm>
            <a:off x="3244680" y="1841400"/>
            <a:ext cx="1773360" cy="48164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ffffff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tan_atan.gif"/>
          <p:cNvPicPr/>
          <p:nvPr/>
        </p:nvPicPr>
        <p:blipFill>
          <a:blip r:embed="rId2"/>
          <a:stretch/>
        </p:blipFill>
        <p:spPr>
          <a:xfrm>
            <a:off x="357120" y="1571760"/>
            <a:ext cx="8215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Arctan 30 to the nearest thousandth of a de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88.091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            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arc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30˚ so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072040" y="114300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5500800" y="2214720"/>
                <a:ext cx="78588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5929200" y="328608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Give the angle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the line y = mx makes with the positive part of the x – axis as a function of the slope of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286000" y="3595680"/>
            <a:ext cx="3262320" cy="326232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8"/>
          <p:cNvCxnSpPr/>
          <p:nvPr/>
        </p:nvCxnSpPr>
        <p:spPr>
          <a:xfrm flipV="1">
            <a:off x="2786040" y="3785760"/>
            <a:ext cx="2215440" cy="2858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TextBox 9"/>
          <p:cNvSpPr/>
          <p:nvPr/>
        </p:nvSpPr>
        <p:spPr>
          <a:xfrm>
            <a:off x="4074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1"/>
          <p:cNvCxnSpPr/>
          <p:nvPr/>
        </p:nvCxnSpPr>
        <p:spPr>
          <a:xfrm flipH="1">
            <a:off x="4785480" y="3787920"/>
            <a:ext cx="2520" cy="2000880"/>
          </a:xfrm>
          <a:prstGeom prst="straightConnector1">
            <a:avLst/>
          </a:prstGeom>
          <a:ln w="5724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67" name="TextBox 12"/>
          <p:cNvSpPr/>
          <p:nvPr/>
        </p:nvSpPr>
        <p:spPr>
          <a:xfrm>
            <a:off x="4931640" y="4429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217760" y="5286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854320" y="3571920"/>
            <a:ext cx="22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6157080" y="471492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atan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400960" cy="37180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20:23:20Z</dcterms:modified>
  <cp:revision>43</cp:revision>
  <dc:subject/>
  <dc:title>PRESENTATION  NAME</dc:title>
</cp:coreProperties>
</file>