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705-861F-425E-992B-22BB42346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91F-A783-4A6D-9A49-D7B70E20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965E-A72F-456D-82F3-2E3C32E8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144-F4DC-4302-BC0F-E53A00B9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5984-A705-4EB4-AAD1-36E85D07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086-9112-4906-B8BB-DF9AE6B4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40CE-3B54-4057-B2FF-8A2608F4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2385-0998-4046-B862-19CBC1F3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EDA-1745-4894-9146-E2FEC388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05D-38DC-474D-8931-B7EF163C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6E2-0F75-48F3-8AF1-A16E16A4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298-ADEA-4E43-8440-683DF2F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2A95-EFA9-474C-A9BA-DFB38C71275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Inverse Tangent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Lesson 5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Pages 342 – 343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4 – 15,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7 - 18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2428920" y="1200240"/>
            <a:ext cx="65008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tan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range of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–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  ≤ y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tan= 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6"/>
          <p:cNvSpPr/>
          <p:nvPr/>
        </p:nvSpPr>
        <p:spPr>
          <a:xfrm>
            <a:off x="3244680" y="1841400"/>
            <a:ext cx="1773360" cy="48164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tan_atan.gif"/>
          <p:cNvPicPr/>
          <p:nvPr/>
        </p:nvPicPr>
        <p:blipFill>
          <a:blip r:embed="rId2"/>
          <a:stretch/>
        </p:blipFill>
        <p:spPr>
          <a:xfrm>
            <a:off x="357120" y="1571760"/>
            <a:ext cx="8215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Arctan 30 to the nearest thousandth of a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88.091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           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arc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30˚ so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072040" y="114300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5500800" y="2214720"/>
                <a:ext cx="7858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929200" y="328608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Give the angle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the line y = mx makes with the positive part of the x – axis as a function of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286000" y="3595680"/>
            <a:ext cx="3262320" cy="32623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8"/>
          <p:cNvCxnSpPr/>
          <p:nvPr/>
        </p:nvCxnSpPr>
        <p:spPr>
          <a:xfrm flipV="1">
            <a:off x="2786040" y="3785760"/>
            <a:ext cx="2215440" cy="2858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4074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1"/>
          <p:cNvCxnSpPr/>
          <p:nvPr/>
        </p:nvCxnSpPr>
        <p:spPr>
          <a:xfrm flipH="1">
            <a:off x="4785480" y="3787920"/>
            <a:ext cx="2520" cy="2000880"/>
          </a:xfrm>
          <a:prstGeom prst="straightConnector1">
            <a:avLst/>
          </a:prstGeom>
          <a:ln w="5724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931640" y="4429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217760" y="528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854320" y="357192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6157080" y="471492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ta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00960" cy="37180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20:23:20Z</dcterms:modified>
  <cp:revision>43</cp:revision>
  <dc:subject/>
  <dc:title>PRESENTATION  NAME</dc:title>
</cp:coreProperties>
</file>