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046E-FBAC-45D8-9E36-4E966474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64F4-ED4B-47BE-B3E6-C533AF10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39F4-E82D-4CA7-A82F-6EF22B47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3E48-1D05-47BF-AD42-14DFD6CE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BD2A-2323-4BA1-AA02-B25253AB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F37D-3E4F-42D9-8C6E-B1B2C9B6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45C6-04FB-4964-B63A-E96A2F40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55A5-4F8B-4B66-9519-E072C62E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BAFA-9593-4237-9630-00642C99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3578-C0A5-42F8-8023-E984B7C2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B619-AFB0-46C6-8EB5-A1F3029D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C42A-F837-4E12-838E-8EC6DBDC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1DA4-9A47-4FD1-8DB4-3D2F4292F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The Inverse Sin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8732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Calibri"/>
              </a:rPr>
              <a:t>Lesson 5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219320" y="1276200"/>
            <a:ext cx="6933960" cy="32767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921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Remember… y = sin 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42600" y="1428840"/>
            <a:ext cx="80010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sinx.gif"/>
          <p:cNvPicPr/>
          <p:nvPr/>
        </p:nvPicPr>
        <p:blipFill>
          <a:blip r:embed="rId2"/>
          <a:stretch/>
        </p:blipFill>
        <p:spPr>
          <a:xfrm>
            <a:off x="1219320" y="1276200"/>
            <a:ext cx="693396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2720" y="205920"/>
            <a:ext cx="654372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Sin </a:t>
            </a:r>
            <a:r>
              <a:rPr b="0" lang="fr-CA" sz="4000" spc="-1" strike="noStrike" baseline="30000">
                <a:solidFill>
                  <a:srgbClr val="000000"/>
                </a:solidFill>
                <a:latin typeface="Calibri"/>
              </a:rPr>
              <a:t>-1 </a:t>
            </a: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42720" y="1071720"/>
            <a:ext cx="6543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If we took y = sin x on its entire domain, the inverse would not be a fun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o, we restrict the domain of sin</a:t>
            </a:r>
            <a:r>
              <a:rPr b="0" lang="en-US" sz="28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x to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–</a:t>
            </a:r>
            <a:r>
              <a:rPr b="0" lang="el-GR" sz="28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/2 ≤ y </a:t>
            </a:r>
            <a:r>
              <a:rPr b="0" lang="el-GR" sz="2800" spc="-1" strike="noStrike">
                <a:solidFill>
                  <a:srgbClr val="404040"/>
                </a:solidFill>
                <a:latin typeface="Calibri"/>
              </a:rPr>
              <a:t>≤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Different calculators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sin</a:t>
            </a:r>
            <a:r>
              <a:rPr b="0" lang="en-US" sz="28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x = arcsin = as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219320" y="1276200"/>
            <a:ext cx="6933960" cy="32767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921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Remember… y = sin 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sinx.gif"/>
          <p:cNvPicPr/>
          <p:nvPr/>
        </p:nvPicPr>
        <p:blipFill>
          <a:blip r:embed="rId2"/>
          <a:stretch/>
        </p:blipFill>
        <p:spPr>
          <a:xfrm>
            <a:off x="1219320" y="1276200"/>
            <a:ext cx="6933960" cy="3235320"/>
          </a:xfrm>
          <a:prstGeom prst="rect">
            <a:avLst/>
          </a:prstGeom>
          <a:ln w="0">
            <a:noFill/>
          </a:ln>
        </p:spPr>
      </p:pic>
      <p:sp>
        <p:nvSpPr>
          <p:cNvPr id="52" name="Freeform 5"/>
          <p:cNvSpPr/>
          <p:nvPr/>
        </p:nvSpPr>
        <p:spPr>
          <a:xfrm>
            <a:off x="3962520" y="1335240"/>
            <a:ext cx="1349280" cy="270324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219320" y="1276200"/>
            <a:ext cx="6933960" cy="32767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921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Remember… y = sin 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286000" y="1352520"/>
            <a:ext cx="4572000" cy="3571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42720" y="205920"/>
            <a:ext cx="654372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42720" y="1071720"/>
            <a:ext cx="6543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Find the exact value of sin </a:t>
            </a:r>
            <a:r>
              <a:rPr b="0" lang="en-US" sz="28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in</a:t>
            </a:r>
            <a:r>
              <a:rPr b="0" lang="en-US" sz="28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(       ) = 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in x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x = -60</a:t>
            </a:r>
            <a:r>
              <a:rPr b="0" lang="el-GR" sz="2800" spc="-1" strike="noStrike">
                <a:solidFill>
                  <a:srgbClr val="404040"/>
                </a:solidFill>
                <a:latin typeface="Calibri"/>
              </a:rPr>
              <a:t>˚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or –</a:t>
            </a:r>
            <a:r>
              <a:rPr b="0" lang="el-GR" sz="28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/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6629400" y="1047600"/>
                <a:ext cx="6094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5181480" y="1886040"/>
                <a:ext cx="6098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5943600" y="2800440"/>
                <a:ext cx="609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57040" y="1199880"/>
            <a:ext cx="6629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 s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sin 1000˚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-.984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 x = -.98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-80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– what is 1000˚ in the domain of arcsin?   -80˚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057040" y="1200240"/>
            <a:ext cx="66294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lagpole is 60 feet high.  If you sight the top of the pole from ground level, express the angle of elevation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top of the flagpole as a function of your distance d from the t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ight Triangle 3"/>
          <p:cNvSpPr/>
          <p:nvPr/>
        </p:nvSpPr>
        <p:spPr>
          <a:xfrm>
            <a:off x="4724280" y="3333600"/>
            <a:ext cx="914400" cy="152424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4118400" y="4019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5184360" y="447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5259960" y="3867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6477120" y="3029040"/>
                <a:ext cx="1574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6400800" y="4019400"/>
                <a:ext cx="202896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71432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Pages 338 – 33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6 – 28 evens!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03:55:19Z</dcterms:created>
  <dc:creator>Laura Helbing</dc:creator>
  <dc:description/>
  <dc:language>en-US</dc:language>
  <cp:lastModifiedBy>Laura Helbing</cp:lastModifiedBy>
  <dcterms:modified xsi:type="dcterms:W3CDTF">2012-12-19T02:37:32Z</dcterms:modified>
  <cp:revision>4</cp:revision>
  <dc:subject/>
  <dc:title>The Inverse Sine Function</dc:title>
</cp:coreProperties>
</file>