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40F-1092-4F82-9C25-EBEF4549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85E-6817-4284-A5BE-1D23A27A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1894-DD7A-4A23-A129-19DB37FF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79A-563B-4954-9F58-CFEBFDEF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4576-8F13-4943-9C91-1426C7DB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7F5-8EBF-4289-92A5-B23A949D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C69-9023-447B-8C09-3529A21C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761-9BA4-4AE5-820B-7BC471CA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CC0-A3A8-4562-922A-984228A7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C0B-9874-466A-B36F-E6959663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287-CABD-459C-8025-F0DCDD34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7390-0024-49DB-A856-F8CA21ED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7960-8CF7-45C4-9E28-058005C74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The Inverse Sin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87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Calibri"/>
              </a:rPr>
              <a:t>Lesson 5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42600" y="1428840"/>
            <a:ext cx="80010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Sin </a:t>
            </a:r>
            <a:r>
              <a:rPr b="0" lang="fr-CA" sz="4000" spc="-1" strike="noStrike" baseline="30000">
                <a:solidFill>
                  <a:srgbClr val="000000"/>
                </a:solidFill>
                <a:latin typeface="Calibri"/>
              </a:rPr>
              <a:t>-1 </a:t>
            </a: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If we took y = sin x on its entire domain, the inverse would not be a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o, we restrict the domain of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to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 ≤ y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x = arcsin = as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sinx.gif"/>
          <p:cNvPicPr/>
          <p:nvPr/>
        </p:nvPicPr>
        <p:blipFill>
          <a:blip r:embed="rId2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2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2720" y="205920"/>
            <a:ext cx="654372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720" y="1071720"/>
            <a:ext cx="6543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Find the exact value of sin 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</a:t>
            </a:r>
            <a:r>
              <a:rPr b="0" lang="en-US" sz="28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(       ) =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Sin x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x = -60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˚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or –</a:t>
            </a:r>
            <a:r>
              <a:rPr b="0" lang="el-GR" sz="28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/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6629400" y="1047600"/>
                <a:ext cx="609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5181480" y="1886040"/>
                <a:ext cx="6098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5943600" y="2800440"/>
                <a:ext cx="609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57040" y="119988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 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in 1000˚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-.984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 x = -.98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80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– what is 1000˚ in the domain of arcsin?   -80˚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57040" y="1200240"/>
            <a:ext cx="66294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lagpole is 60 feet high.  If you sight the top of the pole from ground level, express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top of the flagpole as a function of your distance d from the 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Triangle 3"/>
          <p:cNvSpPr/>
          <p:nvPr/>
        </p:nvSpPr>
        <p:spPr>
          <a:xfrm>
            <a:off x="4724280" y="3333600"/>
            <a:ext cx="914400" cy="152424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118400" y="4019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18436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259960" y="3867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6477120" y="3029040"/>
                <a:ext cx="1574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6400800" y="4019400"/>
                <a:ext cx="202896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143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ages 338 – 33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6 – 28 evens!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3:55:19Z</dcterms:created>
  <dc:creator>Laura Helbing</dc:creator>
  <dc:description/>
  <dc:language>en-US</dc:language>
  <cp:lastModifiedBy>Laura Helbing</cp:lastModifiedBy>
  <dcterms:modified xsi:type="dcterms:W3CDTF">2012-12-19T02:37:32Z</dcterms:modified>
  <cp:revision>4</cp:revision>
  <dc:subject/>
  <dc:title>The Inverse Sine Function</dc:title>
</cp:coreProperties>
</file>