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B6B-1094-4766-98FE-05E9524E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B743-21DB-4F4E-AB16-4336C598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C89-7EBA-45A5-87EB-892FDF86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2EBE-1C1B-4F3E-9652-DD5B1BDF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1FD-1EF1-4C89-A5B7-AFE879B0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6D5A-17CE-4605-B75C-8B1DD42E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3D4E-6D53-4093-8799-01F80F00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BDA-D00F-4930-92D6-B82F3540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657-9A9B-4EB4-AA84-5D9E6960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98F-A6D0-41C6-A3ED-F8479ADA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D69-6B31-4F76-9816-36B3FED3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29D-F53F-45E9-A6B8-47106C1A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9A21-11C5-43A6-B55A-3D62B152A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The Inverse Sin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87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Calibri"/>
              </a:rPr>
              <a:t>Lesson 5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42600" y="1428840"/>
            <a:ext cx="80010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sinx.gif"/>
          <p:cNvPicPr/>
          <p:nvPr/>
        </p:nvPicPr>
        <p:blipFill>
          <a:blip r:embed="rId2"/>
          <a:stretch/>
        </p:blipFill>
        <p:spPr>
          <a:xfrm>
            <a:off x="1219320" y="1276200"/>
            <a:ext cx="69339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720" y="205920"/>
            <a:ext cx="65437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Sin </a:t>
            </a:r>
            <a:r>
              <a:rPr b="0" lang="fr-CA" sz="4000" spc="-1" strike="noStrike" baseline="30000">
                <a:solidFill>
                  <a:srgbClr val="000000"/>
                </a:solidFill>
                <a:latin typeface="Calibri"/>
              </a:rPr>
              <a:t>-1 </a:t>
            </a: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42720" y="1071720"/>
            <a:ext cx="6543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If we took y = sin x on its entire domain, the inverse would not be a 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o, we restrict the domain of sin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x to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–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/2 ≤ y 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≤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Different calculators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sin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x = arcsin = as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sinx.gif"/>
          <p:cNvPicPr/>
          <p:nvPr/>
        </p:nvPicPr>
        <p:blipFill>
          <a:blip r:embed="rId2"/>
          <a:stretch/>
        </p:blipFill>
        <p:spPr>
          <a:xfrm>
            <a:off x="1219320" y="1276200"/>
            <a:ext cx="6933960" cy="3235320"/>
          </a:xfrm>
          <a:prstGeom prst="rect">
            <a:avLst/>
          </a:prstGeom>
          <a:ln w="0">
            <a:noFill/>
          </a:ln>
        </p:spPr>
      </p:pic>
      <p:sp>
        <p:nvSpPr>
          <p:cNvPr id="52" name="Freeform 5"/>
          <p:cNvSpPr/>
          <p:nvPr/>
        </p:nvSpPr>
        <p:spPr>
          <a:xfrm>
            <a:off x="3962520" y="1335240"/>
            <a:ext cx="1349280" cy="27032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286000" y="1352520"/>
            <a:ext cx="4572000" cy="3571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42720" y="205920"/>
            <a:ext cx="65437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42720" y="1071720"/>
            <a:ext cx="6543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Find the exact value of sin 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in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(       ) =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in x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x = -60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˚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or –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/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6629400" y="1047600"/>
                <a:ext cx="6094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5181480" y="1886040"/>
                <a:ext cx="6098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5943600" y="2800440"/>
                <a:ext cx="609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57040" y="119988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s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in 1000˚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-.984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 x = -.98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-80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– what is 1000˚ in the domain of arcsin?   -80˚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057040" y="1200240"/>
            <a:ext cx="66294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lagpole is 60 feet high.  If you sight the top of the pole from ground level, express the angle of elevation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top of the flagpole as a function of your distance d from the t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ight Triangle 3"/>
          <p:cNvSpPr/>
          <p:nvPr/>
        </p:nvSpPr>
        <p:spPr>
          <a:xfrm>
            <a:off x="4724280" y="3333600"/>
            <a:ext cx="914400" cy="152424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4118400" y="4019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5184360" y="447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5259960" y="3867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6477120" y="3029040"/>
                <a:ext cx="1574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6400800" y="4019400"/>
                <a:ext cx="202896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7143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Pages 338 – 33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6 – 28 evens!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3:55:19Z</dcterms:created>
  <dc:creator>Laura Helbing</dc:creator>
  <dc:description/>
  <dc:language>en-US</dc:language>
  <cp:lastModifiedBy>Laura Helbing</cp:lastModifiedBy>
  <dcterms:modified xsi:type="dcterms:W3CDTF">2012-12-19T02:37:32Z</dcterms:modified>
  <cp:revision>4</cp:revision>
  <dc:subject/>
  <dc:title>The Inverse Sine Function</dc:title>
</cp:coreProperties>
</file>