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64E7-D02D-466B-91CC-F106CD1D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145-251C-4D2A-AEFD-A572AC02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F1A-3805-4DAE-9ED4-000A3863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502-794B-4CE7-8A00-E590A185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C07-F397-4899-918B-01828184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080-75DA-47D8-A255-BE0E4DCF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C5F-780D-4669-92D8-4B4DEC39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6C5-ABF6-41E2-9D54-E456BB88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509-D395-4CFE-ACD5-DAB0D3C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D6B-258C-460C-87EA-A4C732AF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224-C79F-4278-B29D-CA6DBD0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944-3ED0-402D-8236-C2C76968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229-BCF2-4913-AF1B-4843AD71C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Cosine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5.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325 – 32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15, 16 (skip 4 a and b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Reminder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y = cos</a:t>
            </a:r>
            <a:r>
              <a:rPr b="0" lang="fr-CA" sz="44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cos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domain of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0 ≤ y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cos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cos = a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50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arccos (1/2), giving an answer in radi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cos(1/2) =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½       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6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exact value of cos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x =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between 0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135˚ or 3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5562720" y="89532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971800" y="1962000"/>
                <a:ext cx="1174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.9925341) to the nearest deg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7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 (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/2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 (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s(-30˚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200400" y="3486240"/>
                <a:ext cx="812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04T13:19:36Z</dcterms:modified>
  <cp:revision>13</cp:revision>
  <dc:subject/>
  <dc:title>The Inverse Cosine Function</dc:title>
</cp:coreProperties>
</file>