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B53-DA0C-4EC3-A837-568CB0C8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E87-12BF-4436-9E46-DBA7BE3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C2D-D828-469F-A891-CEAEF573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8B8-0AAF-474F-9862-07C11437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A50-872B-452F-81DE-8F987E5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676-A2AE-4090-8F2F-1BE85FF6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214-9409-4E3F-8F86-0459AD50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EBD-DC37-4BB8-A252-6AF3743F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A60-73D3-4F39-8FEB-8D867F3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117-B10A-4998-8C1D-D0D892A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63C-21F3-452D-9189-555F880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ABF-0840-4787-9B3C-34DA805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428E-5B4A-452E-8F3B-468212277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Cosin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5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325 – 32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15, 16 (skip 4 a and b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Reminder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y = cos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cos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domain of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0 ≤ y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cos = a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50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arccos (1/2), giving an answer in radi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cos(1/2) =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½       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6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exact value of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135˚ or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5562720" y="89532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971800" y="196200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.9925341) to the nearest de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7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 (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/2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s(-30˚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3200400" y="3486240"/>
                <a:ext cx="81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04T13:19:36Z</dcterms:modified>
  <cp:revision>13</cp:revision>
  <dc:subject/>
  <dc:title>The Inverse Cosine Function</dc:title>
</cp:coreProperties>
</file>