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312-8462-471B-8B81-774FF825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F64-5F41-4F30-ABE4-E4867458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5BB-0D1F-460A-B96A-646FF7F9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5A6-5588-488F-BDF9-88530328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826-C1B0-476B-849D-182E5D50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185-662B-4657-A84D-06848B23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BD9-DBCA-4417-81DB-69F37F10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FE8-511F-41B9-B9B2-344A8FFA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274-0C0A-4E37-A998-8A6F5F41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BB6-BA9D-4C35-A679-DEDC2424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3FE-BC34-4A65-A2B6-EA1F94A4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FBE-18E8-457A-94C9-B08087D2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CF91-6F76-4739-8BDF-6FFD414F0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he Inverse Cosine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04040"/>
                </a:solidFill>
                <a:latin typeface="Calibri"/>
              </a:rPr>
              <a:t>Lesson 5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Pages 325 – 32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4 – 12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15, 16 (skip 4 a and b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Reminder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y = cos</a:t>
            </a:r>
            <a:r>
              <a:rPr b="0" lang="fr-CA" sz="44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f we took y = cos x on its entire domain, the inverse would not be a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o, we restrict the domain of cos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to 0 ≤ y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3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cos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x = arccos = a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  <p:sp>
        <p:nvSpPr>
          <p:cNvPr id="50" name="Freeform 5"/>
          <p:cNvSpPr/>
          <p:nvPr/>
        </p:nvSpPr>
        <p:spPr>
          <a:xfrm>
            <a:off x="1600200" y="1581120"/>
            <a:ext cx="1455840" cy="293040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3714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905120" y="1733400"/>
            <a:ext cx="4647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arccos (1/2), giving an answer in radi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cos(1/2) =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x = ½       (between 0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60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exact value of cos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x =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etween 0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135˚ or 3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5562720" y="895320"/>
                <a:ext cx="1174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971800" y="1962000"/>
                <a:ext cx="1174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.9925341) to the nearest deg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7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s (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/2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(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os(-30˚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3200400" y="3486240"/>
                <a:ext cx="812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1:06:07Z</dcterms:created>
  <dc:creator>Laura Helbing</dc:creator>
  <dc:description/>
  <dc:language>en-US</dc:language>
  <cp:lastModifiedBy>Laura Helbing</cp:lastModifiedBy>
  <dcterms:modified xsi:type="dcterms:W3CDTF">2011-01-04T13:19:36Z</dcterms:modified>
  <cp:revision>13</cp:revision>
  <dc:subject/>
  <dc:title>The Inverse Cosine Function</dc:title>
</cp:coreProperties>
</file>