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ED0A-FA9C-42C8-A0C0-4AFE6712C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670F-F752-4CA6-9F35-39E0E6D5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4514-1B8D-4D08-B532-605765247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D3BF-9B24-45F0-B182-A85C45B6C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6A8A-BDC6-442D-A2B3-66F989D0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00F8-7104-4E4F-B590-8BA88849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E667-0B33-4CC5-A261-698B9917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2632-8891-4C89-B909-9FB4EE91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91D8-4187-4C6A-ACA2-80C02DF0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CC15-FB80-4F7C-9F1F-C5748CA8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0304-D173-4086-86E3-377AEBFD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E420-4BCB-43C5-99AE-88502AEA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4F1B-C103-49EF-B44A-00D5295643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4308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The Inverse Cosine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30320"/>
            <a:ext cx="64008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404040"/>
                </a:solidFill>
                <a:latin typeface="Calibri"/>
              </a:rPr>
              <a:t>Lesson 5.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Calibri"/>
              </a:rPr>
              <a:t>Pages 325 – 32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Calibri"/>
              </a:rPr>
              <a:t>4 – 12,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Calibri"/>
              </a:rPr>
              <a:t>15, 16 (skip 4 a and b)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Calibri"/>
              </a:rPr>
              <a:t>Reminder</a:t>
            </a: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… y = cos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1143000" y="1200240"/>
            <a:ext cx="64864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y = cos</a:t>
            </a:r>
            <a:r>
              <a:rPr b="0" lang="fr-CA" sz="44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If we took y = cos x on its entire domain, the inverse would not be a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So, we restrict the domain of cos</a:t>
            </a:r>
            <a:r>
              <a:rPr b="0" lang="en-US" sz="32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x to 0 ≤ y</a:t>
            </a:r>
            <a:r>
              <a:rPr b="0" lang="el-GR" sz="3200" spc="-1" strike="noStrike">
                <a:solidFill>
                  <a:srgbClr val="404040"/>
                </a:solidFill>
                <a:latin typeface="Calibri"/>
              </a:rPr>
              <a:t>≤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l-GR" sz="3200" spc="-1" strike="noStrike">
                <a:solidFill>
                  <a:srgbClr val="404040"/>
                </a:solidFill>
                <a:latin typeface="Calibri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Different calculators </a:t>
            </a:r>
            <a:r>
              <a:rPr b="0" lang="en-US" sz="3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 cos</a:t>
            </a:r>
            <a:r>
              <a:rPr b="0" lang="en-US" sz="32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 x = arccos = a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Reminder… y = cos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143000" y="1200240"/>
            <a:ext cx="6486480" cy="3457440"/>
          </a:xfrm>
          <a:prstGeom prst="rect">
            <a:avLst/>
          </a:prstGeom>
          <a:ln w="0">
            <a:noFill/>
          </a:ln>
        </p:spPr>
      </p:pic>
      <p:sp>
        <p:nvSpPr>
          <p:cNvPr id="50" name="Freeform 5"/>
          <p:cNvSpPr/>
          <p:nvPr/>
        </p:nvSpPr>
        <p:spPr>
          <a:xfrm>
            <a:off x="1600200" y="1581120"/>
            <a:ext cx="1455840" cy="2930400"/>
          </a:xfrm>
          <a:prstGeom prst="pi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Reminder… y = cos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5867640" cy="3714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1905120" y="1733400"/>
            <a:ext cx="46479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e arccos (1/2), giving an answer in radia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ccos(1/2) =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 x = ½       (between 0 and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= 60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exact value of cos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 x =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etween 0 and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= 135˚ or 3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2"/>
              <p:cNvSpPr txBox="1"/>
              <p:nvPr/>
            </p:nvSpPr>
            <p:spPr>
              <a:xfrm>
                <a:off x="5562720" y="895320"/>
                <a:ext cx="117468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2971800" y="1962000"/>
                <a:ext cx="117468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e co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.9925341) to the nearest degre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= 7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4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0024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cos (co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/2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 (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co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os(-30˚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     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2"/>
              <p:cNvSpPr txBox="1"/>
              <p:nvPr/>
            </p:nvSpPr>
            <p:spPr>
              <a:xfrm>
                <a:off x="3200400" y="3486240"/>
                <a:ext cx="8128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9T01:06:07Z</dcterms:created>
  <dc:creator>Laura Helbing</dc:creator>
  <dc:description/>
  <dc:language>en-US</dc:language>
  <cp:lastModifiedBy>Laura Helbing</cp:lastModifiedBy>
  <dcterms:modified xsi:type="dcterms:W3CDTF">2011-01-04T13:19:36Z</dcterms:modified>
  <cp:revision>13</cp:revision>
  <dc:subject/>
  <dc:title>The Inverse Cosine Function</dc:title>
</cp:coreProperties>
</file>