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DD0-1F85-47BE-A0F7-7AF1E258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684-30E0-413B-A55E-9668AFEE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367-9CD3-4D25-89A2-22DFFBA4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648-7C2B-4524-A1CD-D7E466AE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3402-2385-493B-A1CC-6A5601A8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54E-6E88-4C4A-8598-FBF80260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12A-6F37-47D4-A8BB-960E52B5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9D05-967E-46B7-A4FE-959D2F42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F7D-931A-4006-BE0C-52149C03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49A-29A9-41A9-97ED-AA0D1224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EDB-6D0A-4E66-952D-327E154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DE0-CB40-414B-9AF4-67872565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3F07-4B0A-46BD-A4B2-CA2BD18C1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he Law of Cos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esson 5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w of Cosines: In any triangle ABC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bc cos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+ c</a:t>
            </a:r>
            <a:r>
              <a:rPr b="0" lang="en-US" sz="3200" spc="-1" strike="noStrike" baseline="30000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-2ac cos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006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o the nearest degree, find the measure  of the smallest angle in a triangle whose sides have lengths 4 cm, 5 cm , and 6 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sosceles Triangle 3"/>
          <p:cNvSpPr/>
          <p:nvPr/>
        </p:nvSpPr>
        <p:spPr>
          <a:xfrm>
            <a:off x="457200" y="3429000"/>
            <a:ext cx="4495680" cy="1828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366280" y="48769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60416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3052080" y="4267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19328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849200" y="3276720"/>
            <a:ext cx="391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b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698360" y="388620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5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+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2*5*6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874760" y="457200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971600" y="5334120"/>
            <a:ext cx="39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 = 25+36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041800" y="601992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45= -60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1077840" y="541008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75 = co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1229400" y="60958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 = 41.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llelogram has a 70° angle and sides of length 10 in. and 15 in.  What is the length of its longer diagon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+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2ab co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+ 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-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(10)(15)cos(1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= 100 + 225 – 300*(-.34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427.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 = 20.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18181" t="22571" r="19193" b="19751"/>
          <a:stretch/>
        </p:blipFill>
        <p:spPr>
          <a:xfrm>
            <a:off x="366840" y="3276720"/>
            <a:ext cx="3214440" cy="21938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2863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3172320" y="3959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059560" y="521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9"/>
          <p:cNvSpPr/>
          <p:nvPr/>
        </p:nvSpPr>
        <p:spPr>
          <a:xfrm flipH="1" flipV="1">
            <a:off x="490320" y="3446280"/>
            <a:ext cx="3028680" cy="1820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>
            <a:off x="2412360" y="3675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175760" y="486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576360" y="3618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266760" y="4300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1751040" y="344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pages 318 – 3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2 –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11 - 1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overy 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player.discoveryeducation.com/index.cfm?guidAssetId=A691574C-39AB-4E4A-9B27-7643422C3F6B&amp;blnFromSearch=1&amp;productcode=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01:47:02Z</dcterms:created>
  <dc:creator>teacher</dc:creator>
  <dc:description/>
  <dc:language>en-US</dc:language>
  <cp:lastModifiedBy>Laura Helbing</cp:lastModifiedBy>
  <dcterms:modified xsi:type="dcterms:W3CDTF">2010-12-22T01:16:32Z</dcterms:modified>
  <cp:revision>3</cp:revision>
  <dc:subject/>
  <dc:title>The Law of Cosines</dc:title>
</cp:coreProperties>
</file>