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5416-10CD-49BA-9310-CD3E6C2AF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5D77-515C-4009-94FE-101FCBF1D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0F48-AA9D-4843-8D45-9B0FED21B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2AE8-B511-492E-A8E0-663E4FB80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A2AA-8708-4E2F-BC82-84898F33B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9C70-6041-42A3-AE52-725E574DF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46C5-EFB9-4DC8-995A-DF063A154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5600-C999-48EF-9BBC-DE1DB75EC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E5CD-947F-4041-BE9C-76CBC1081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6F7B-F346-43A4-A1DA-83D786E1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5351-3192-4D48-A516-E8CECB19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81F9-BF59-4F59-8BDF-23C4B770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4BE30-7432-4FE6-9A17-4E79B2F83B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The Law of Cos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Lesson 5.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or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Law of Cosines: In any triangle ABC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c</a:t>
            </a:r>
            <a:r>
              <a:rPr b="0" lang="en-US" sz="3200" spc="-1" strike="noStrike" baseline="30000">
                <a:solidFill>
                  <a:srgbClr val="ffff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= a</a:t>
            </a:r>
            <a:r>
              <a:rPr b="0" lang="en-US" sz="3200" spc="-1" strike="noStrike" baseline="30000">
                <a:solidFill>
                  <a:srgbClr val="ffff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+b</a:t>
            </a:r>
            <a:r>
              <a:rPr b="0" lang="en-US" sz="3200" spc="-1" strike="noStrike" baseline="30000">
                <a:solidFill>
                  <a:srgbClr val="ffff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-2ab cos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a</a:t>
            </a:r>
            <a:r>
              <a:rPr b="0" lang="en-US" sz="3200" spc="-1" strike="noStrike" baseline="30000">
                <a:solidFill>
                  <a:srgbClr val="ffff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= b</a:t>
            </a:r>
            <a:r>
              <a:rPr b="0" lang="en-US" sz="3200" spc="-1" strike="noStrike" baseline="30000">
                <a:solidFill>
                  <a:srgbClr val="ffff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+ c</a:t>
            </a:r>
            <a:r>
              <a:rPr b="0" lang="en-US" sz="3200" spc="-1" strike="noStrike" baseline="30000">
                <a:solidFill>
                  <a:srgbClr val="ffff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-2bc cos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b</a:t>
            </a:r>
            <a:r>
              <a:rPr b="0" lang="en-US" sz="3200" spc="-1" strike="noStrike" baseline="30000">
                <a:solidFill>
                  <a:srgbClr val="ffff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= a</a:t>
            </a:r>
            <a:r>
              <a:rPr b="0" lang="en-US" sz="3200" spc="-1" strike="noStrike" baseline="30000">
                <a:solidFill>
                  <a:srgbClr val="ffff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+ c</a:t>
            </a:r>
            <a:r>
              <a:rPr b="0" lang="en-US" sz="3200" spc="-1" strike="noStrike" baseline="30000">
                <a:solidFill>
                  <a:srgbClr val="ffff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-2ac cos 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0060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Example 1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To the nearest degree, find the measure  of the smallest angle in a triangle whose sides have lengths 4 cm, 5 cm , and 6 c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Isosceles Triangle 3"/>
          <p:cNvSpPr/>
          <p:nvPr/>
        </p:nvSpPr>
        <p:spPr>
          <a:xfrm>
            <a:off x="457200" y="3429000"/>
            <a:ext cx="4495680" cy="1828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2366280" y="48769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1604160" y="426708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3052080" y="426708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4193280" y="48769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4849200" y="3276720"/>
            <a:ext cx="391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= a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+b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2ab co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4698360" y="3886200"/>
            <a:ext cx="418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= 5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+6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2*5*6 co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4874760" y="4572000"/>
            <a:ext cx="392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6 = 25+36-60 co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4971600" y="5334120"/>
            <a:ext cx="392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6 = 25+36-60 co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5041800" y="6019920"/>
            <a:ext cx="281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45= -60 co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3"/>
          <p:cNvSpPr/>
          <p:nvPr/>
        </p:nvSpPr>
        <p:spPr>
          <a:xfrm>
            <a:off x="1077840" y="5410080"/>
            <a:ext cx="220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75 = co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4"/>
          <p:cNvSpPr/>
          <p:nvPr/>
        </p:nvSpPr>
        <p:spPr>
          <a:xfrm>
            <a:off x="1229400" y="6095880"/>
            <a:ext cx="195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 = 41.4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16002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parallelogram has a 70° angle and sides of length 10 in. and 15 in.  What is the length of its longer diagona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= a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+b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-2ab cos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=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+ 1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-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(10)(15)cos(11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= 100 + 225 – 300*(-.34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= 427.6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 = 20.6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rcRect l="18181" t="22571" r="19193" b="19751"/>
          <a:stretch/>
        </p:blipFill>
        <p:spPr>
          <a:xfrm>
            <a:off x="366840" y="3276720"/>
            <a:ext cx="3214440" cy="2193840"/>
          </a:xfrm>
          <a:prstGeom prst="rect">
            <a:avLst/>
          </a:prstGeom>
          <a:ln w="0">
            <a:noFill/>
          </a:ln>
        </p:spPr>
      </p:pic>
      <p:sp>
        <p:nvSpPr>
          <p:cNvPr id="63" name="TextBox 5"/>
          <p:cNvSpPr/>
          <p:nvPr/>
        </p:nvSpPr>
        <p:spPr>
          <a:xfrm>
            <a:off x="286380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3172320" y="3959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2059560" y="5210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traight Connector 9"/>
          <p:cNvSpPr/>
          <p:nvPr/>
        </p:nvSpPr>
        <p:spPr>
          <a:xfrm flipH="1" flipV="1">
            <a:off x="490320" y="3446280"/>
            <a:ext cx="3028680" cy="1820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1"/>
          <p:cNvSpPr/>
          <p:nvPr/>
        </p:nvSpPr>
        <p:spPr>
          <a:xfrm>
            <a:off x="2412360" y="3675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2"/>
          <p:cNvSpPr/>
          <p:nvPr/>
        </p:nvSpPr>
        <p:spPr>
          <a:xfrm>
            <a:off x="1175760" y="48690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3"/>
          <p:cNvSpPr/>
          <p:nvPr/>
        </p:nvSpPr>
        <p:spPr>
          <a:xfrm>
            <a:off x="576360" y="3618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4"/>
          <p:cNvSpPr/>
          <p:nvPr/>
        </p:nvSpPr>
        <p:spPr>
          <a:xfrm>
            <a:off x="266760" y="43005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5"/>
          <p:cNvSpPr/>
          <p:nvPr/>
        </p:nvSpPr>
        <p:spPr>
          <a:xfrm>
            <a:off x="1751040" y="344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pages 318 – 319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2 – 7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11 - 12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covery E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player.discoveryeducation.com/index.cfm?guidAssetId=A691574C-39AB-4E4A-9B27-7643422C3F6B&amp;blnFromSearch=1&amp;productcode=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01:47:02Z</dcterms:created>
  <dc:creator>teacher</dc:creator>
  <dc:description/>
  <dc:language>en-US</dc:language>
  <cp:lastModifiedBy>Laura Helbing</cp:lastModifiedBy>
  <dcterms:modified xsi:type="dcterms:W3CDTF">2010-12-22T01:16:32Z</dcterms:modified>
  <cp:revision>3</cp:revision>
  <dc:subject/>
  <dc:title>The Law of Cosines</dc:title>
</cp:coreProperties>
</file>