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9C8E-1795-47E3-BCF4-CF15E89A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05BB-14EF-4900-A259-C961E62A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3C8B-1109-4E84-9B6A-0EB29AB7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31FA-8E44-475A-A5C7-E8246E31D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5C45-900A-4CB8-B53C-A27E5C2D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AD43-38BB-48F6-BD8A-0BDB7846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5A09-E37B-4523-AD75-AE60E865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763A-FEC0-44BE-B9EF-1B22C4E4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8162-B71F-44D9-9A26-4A424F73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9000-69BA-4B26-B7F4-57C6C405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8201-2A2C-419D-B78A-948E6CC9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3B8D-7139-4D4E-A1DC-FF655B99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EAA2-40BF-415B-85A3-74C2438DB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he Law of Cos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esson 5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or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aw of Cosines: In any triangle ABC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= a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+b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-2ab cos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= b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+ c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-2bc cos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= a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+ c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-2ac cos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006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xample 1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o the nearest degree, find the measure  of the smallest angle in a triangle whose sides have lengths 4 cm, 5 cm , and 6 c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Isosceles Triangle 3"/>
          <p:cNvSpPr/>
          <p:nvPr/>
        </p:nvSpPr>
        <p:spPr>
          <a:xfrm>
            <a:off x="457200" y="3429000"/>
            <a:ext cx="4495680" cy="1828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366280" y="48769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604160" y="426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052080" y="426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193280" y="4876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849200" y="3276720"/>
            <a:ext cx="391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b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2ab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698360" y="3886200"/>
            <a:ext cx="41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5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6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2*5*6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4874760" y="4572000"/>
            <a:ext cx="39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 = 25+36-60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4971600" y="5334120"/>
            <a:ext cx="39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 = 25+36-60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5041800" y="6019920"/>
            <a:ext cx="281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45= -60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1077840" y="5410080"/>
            <a:ext cx="22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75 =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1229400" y="6095880"/>
            <a:ext cx="19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 = 41.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parallelogram has a 70° angle and sides of length 10 in. and 15 in.  What is the length of its longer diagon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= 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+b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2ab cos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=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+ 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-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(10)(15)cos(1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 100 + 225 – 300*(-.34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= 427.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 = 20.6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rcRect l="18181" t="22571" r="19193" b="19751"/>
          <a:stretch/>
        </p:blipFill>
        <p:spPr>
          <a:xfrm>
            <a:off x="366840" y="3276720"/>
            <a:ext cx="3214440" cy="219384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286380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3172320" y="3959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059560" y="521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9"/>
          <p:cNvSpPr/>
          <p:nvPr/>
        </p:nvSpPr>
        <p:spPr>
          <a:xfrm flipH="1" flipV="1">
            <a:off x="490320" y="3446280"/>
            <a:ext cx="3028680" cy="1820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2412360" y="3675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1175760" y="4869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576360" y="3618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266760" y="4300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1751040" y="344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pages 318 – 319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2 – 7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11 - 1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overy E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player.discoveryeducation.com/index.cfm?guidAssetId=A691574C-39AB-4E4A-9B27-7643422C3F6B&amp;blnFromSearch=1&amp;productcode=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01:47:02Z</dcterms:created>
  <dc:creator>teacher</dc:creator>
  <dc:description/>
  <dc:language>en-US</dc:language>
  <cp:lastModifiedBy>Laura Helbing</cp:lastModifiedBy>
  <dcterms:modified xsi:type="dcterms:W3CDTF">2010-12-22T01:16:32Z</dcterms:modified>
  <cp:revision>3</cp:revision>
  <dc:subject/>
  <dc:title>The Law of Cosines</dc:title>
</cp:coreProperties>
</file>