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2F0-0CBC-430F-BDC5-E6EE1B1A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54C2-DB8B-4178-83C1-67ECDFAE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19EE7A-2CC6-460D-9055-DDF29426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42A62C-83C1-417D-A654-3C74B600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C93F09-76A9-4F7E-89EC-7220A9EC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956C47-63EC-4B52-BBBC-DE67B9FE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371F57-C767-4185-8B43-DA3ECD33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229FDA-430A-479F-A9D3-D226C920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1247A5-96C6-4363-9779-024CA1BF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84924D-1E86-4DB7-926D-26E252DD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7BF5FC-CC37-4081-8B17-2E000EDC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C30-F74E-4E23-AD62-0515FFEC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E2C-7A23-4953-A6C7-0E9545F7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E142A-DEE0-44F3-99D3-ECB25FD7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8B6E3-FD76-437A-A020-DDE99E55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14FA3-DA65-42B9-8B90-F100C4E4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9C473-D0D1-44F9-A54D-0D909612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DC3FE-AAB5-4B83-898A-FF482C71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30E82-8265-4E54-95D7-ED59518D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3E6A3-963D-42D3-AC9E-8CC5FAED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5B28-0C74-4D3C-B6EC-1E03261F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385A9-9C45-430C-9544-1A7120F3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933B6-EAE7-4A11-A895-2927706D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3E346-8E7B-4040-93B6-BA94BD35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1AE56-9C16-41B7-A9E2-7D29718F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1466A-76CD-4E8A-9FDC-33D6E325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F852E-3205-4E75-9CD4-3FEF4DBC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57FB6-5A47-4963-9366-7194580B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7E021-ED83-422F-A526-99247729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AB47A-D397-4A18-86C2-67113899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E7FB1-88EC-4C59-A62C-CB4F0AA0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40A-2A87-453D-9382-F3B96552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71ABF-5580-444F-835C-2FA3A278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FD779-F3A4-4DA7-A956-81FFABA1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C3431-8F35-478A-AEEB-4155B98F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847AC-9032-4CF6-A33F-AA5914AE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7F82D-977D-42F0-B466-D20C0E57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B6CA7-9268-49CC-BBCB-DB1596B0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B5FB4-4DC1-4E57-AF44-6A311D53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D32415-90B7-4A12-9EF3-ED4936F3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0F1B7F-497D-476E-8BED-B222CF70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DDDCAC-4825-418F-9D24-A2AD1A9C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699-C68C-4A54-956C-0AD252CC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2DB1B7-BC87-405F-8A3D-EF25F1D4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AD8FA9-F51B-4120-A6FC-E4BD30F8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09E449-65FA-420C-860F-C4DD4854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F35748-4AEC-44EE-A3D9-037B1399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BA1724-F727-40F2-B4C0-7A4A7E1F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AF1FE3-390C-4E53-AF27-E8BE1565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E2B313-8510-40D6-8DC2-9D2AA6A1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939E86-229D-4080-82DE-CD7762AB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22F0E1-5228-455D-BDE5-F82E11DB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7C998-C36B-4E94-98BC-3EA4E093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B914-490F-4E70-908C-D6BF503D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3BB4E-C8D1-4CF7-BF33-9C5065D9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D7C80-0C61-455A-96DF-326D9948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0D888-B497-4DAA-A201-A9A71929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44769-B0C4-4B40-963D-7A069C07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E1356-3D2A-490F-AB67-B33E8C19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4136E-A620-4F62-A364-A521A14E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0E210-6861-4492-B232-0A704270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E48B2-C43B-4D70-B528-2772E84F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6312A-51C6-4F6D-9FCA-A683D8B2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99DF4-990F-4E53-804E-B4C28471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430-BC13-4E23-9B10-E1CE803F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B0B50-EED3-4E1D-8B4B-4A175BB3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1D670-4E51-4BD4-8575-DE107AF6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690F0-496C-490A-A623-14777970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9F0E9-87C3-4E6E-93CA-01199C9C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37D7A-069D-475F-986B-C8E3F34E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2DDB0-4B97-421D-B6DC-67862E66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2D380-32F2-4BE6-917A-FA42C6FD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4C82A-3A1E-4EB4-BDC2-87C7D8CA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E37A7-3E9C-4ECD-A2F7-248E9677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7E780-84B2-4F52-A39B-1CFB35AF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5AD-66A2-4B8D-9F26-3F59D876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DCD5D-A3AC-4467-ABB4-FF42DA27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86798-38B0-4808-9175-965AE306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4DC5F-4827-4075-986C-AC896AF8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A3A2B-C288-43A4-8A19-B83E9CE3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28C5B-5DB6-4C25-A1F6-5D4CE052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AB0C8-8CDB-49D8-AAFC-8C6F4E18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CF857-D521-460D-AFC4-277A5024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3BDA6-F688-4AB6-BCAD-76E57F5C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0C084-2D97-4571-A689-C960ECC1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93874-9D8E-430A-A6AE-F064E8D0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FAC-15CC-4214-834D-37D51FE9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AC15B-DA9B-48B8-AD3E-A597B648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F3494-3684-4EEE-B2F9-7F1356CA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C4F4C-3500-424C-9DF7-B34DB7CA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13A85-95B9-47F9-831F-D6ECDBDA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A43A9-E199-4006-BBBB-34A1FA9D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C94413-E178-42B4-B7C6-6D86B902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A27660-F9DC-43A2-A042-E4579EE5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0080A6-4623-4BC9-87E5-84644D7E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674003-FB12-4BC2-AF4D-3C630EC3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FF1A18-5601-4C99-BB2C-A26CEA00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EC9-E063-4F1C-B08F-4DD4A63F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A61370-6AEC-4CCE-B90B-8DCF48EF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D5BE22-A04E-45A8-BD21-2DA86885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2F927B-D37C-4701-A11A-F2706169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FADF40-1A31-4B61-8425-57CE4FE7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58BEDB-F269-403E-B2B2-23ECCF1E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5E0195-E111-47F4-BBC0-CAEC0402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E0875C-9E9F-4A08-8348-9374EE55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718F75-99A2-48D7-BDB1-C725CF29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321474-1D5A-4832-A6C5-3472582D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8C3CC1-0125-498F-A100-89A8409B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8A2B-9C7B-4344-8BFC-53A02DDCE68E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89DA-5FB5-42CE-8FB2-1A9368CF3E92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10D1-9590-4F8F-A6BF-BF7471A7D523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0AAD-9507-4535-89FD-833A7972393C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31C4-D10C-4639-97AA-CD8C1575467E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268B-B526-46E2-A47B-CCB81E59FE12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5CE4-BBAE-4A93-976F-18EA17E0FACD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6DEC-17C1-4ECB-9FBA-0461C3C490D1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5008-6DDF-4666-B96F-79F7A82B2C9C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tion 4.10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281160" y="92160"/>
            <a:ext cx="8710560" cy="9619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Rockwell"/>
              </a:rPr>
              <a:t>SOH – CAH - TOA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8" name="Right Triangle 3"/>
          <p:cNvSpPr/>
          <p:nvPr/>
        </p:nvSpPr>
        <p:spPr>
          <a:xfrm>
            <a:off x="6095880" y="2971800"/>
            <a:ext cx="2362320" cy="2133720"/>
          </a:xfrm>
          <a:prstGeom prst="rtTriangle">
            <a:avLst/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4"/>
              <p:cNvSpPr txBox="1"/>
              <p:nvPr/>
            </p:nvSpPr>
            <p:spPr>
              <a:xfrm>
                <a:off x="1600200" y="1981080"/>
                <a:ext cx="2660760" cy="455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d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dj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0" name="TextBox 5"/>
          <p:cNvSpPr/>
          <p:nvPr/>
        </p:nvSpPr>
        <p:spPr>
          <a:xfrm>
            <a:off x="7696080" y="457200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ambria"/>
              </a:rPr>
              <a:t>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6"/>
          <p:cNvSpPr/>
          <p:nvPr/>
        </p:nvSpPr>
        <p:spPr>
          <a:xfrm>
            <a:off x="5295600" y="38862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o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"/>
          <p:cNvSpPr/>
          <p:nvPr/>
        </p:nvSpPr>
        <p:spPr>
          <a:xfrm>
            <a:off x="6822720" y="5181480"/>
            <a:ext cx="6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ad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8"/>
          <p:cNvSpPr/>
          <p:nvPr/>
        </p:nvSpPr>
        <p:spPr>
          <a:xfrm>
            <a:off x="7193160" y="3581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hy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86800" cy="116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grees &gt; minutes &gt; second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re are 60 minutes in a degree (noted’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600 seconds in a degree (noted ”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. 57°34’15’’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7 + 34/60 + 15/3600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7 + .567 + .0041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7.5711°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1"/>
          <p:cNvSpPr/>
          <p:nvPr/>
        </p:nvSpPr>
        <p:spPr>
          <a:xfrm>
            <a:off x="4572000" y="3886200"/>
            <a:ext cx="3581280" cy="1523880"/>
          </a:xfrm>
          <a:prstGeom prst="rect">
            <a:avLst/>
          </a:prstGeom>
          <a:solidFill>
            <a:srgbClr val="ffff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-55440"/>
            <a:ext cx="8491680" cy="853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14400" y="8380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ppose that the distance from the top of a balcony to the edge of the pool is 86 feet.  The view from the balcony to the edge of the pool forms an angle of 60° along the horizon.  How high above the ground is the balcony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9" name="Straight Connector 4"/>
          <p:cNvSpPr/>
          <p:nvPr/>
        </p:nvSpPr>
        <p:spPr>
          <a:xfrm>
            <a:off x="152280" y="4800600"/>
            <a:ext cx="914400" cy="1440"/>
          </a:xfrm>
          <a:prstGeom prst="line">
            <a:avLst/>
          </a:prstGeom>
          <a:ln w="76320">
            <a:solidFill>
              <a:srgbClr val="4774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4724280" y="6095880"/>
            <a:ext cx="2514600" cy="533520"/>
          </a:xfrm>
          <a:prstGeom prst="rect">
            <a:avLst/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2"/>
          <a:stretch/>
        </p:blipFill>
        <p:spPr>
          <a:xfrm>
            <a:off x="152280" y="3352680"/>
            <a:ext cx="914400" cy="1352520"/>
          </a:xfrm>
          <a:prstGeom prst="rect">
            <a:avLst/>
          </a:prstGeom>
          <a:ln w="0">
            <a:noFill/>
          </a:ln>
        </p:spPr>
      </p:pic>
      <p:sp>
        <p:nvSpPr>
          <p:cNvPr id="412" name="Right Triangle 7"/>
          <p:cNvSpPr/>
          <p:nvPr/>
        </p:nvSpPr>
        <p:spPr>
          <a:xfrm flipH="1" rot="5400000">
            <a:off x="2056320" y="3733560"/>
            <a:ext cx="1905120" cy="3886200"/>
          </a:xfrm>
          <a:prstGeom prst="rtTriangle">
            <a:avLst/>
          </a:prstGeom>
          <a:solidFill>
            <a:srgbClr val="ffff00">
              <a:alpha val="30000"/>
            </a:srgbClr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8"/>
          <p:cNvSpPr/>
          <p:nvPr/>
        </p:nvSpPr>
        <p:spPr>
          <a:xfrm>
            <a:off x="2574360" y="502920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6 f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9"/>
          <p:cNvSpPr/>
          <p:nvPr/>
        </p:nvSpPr>
        <p:spPr>
          <a:xfrm flipH="1">
            <a:off x="3809160" y="6324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6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4"/>
              <p:cNvSpPr txBox="1"/>
              <p:nvPr/>
            </p:nvSpPr>
            <p:spPr>
              <a:xfrm>
                <a:off x="4648320" y="3886200"/>
                <a:ext cx="341316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rPr>
                            <m:lit/>
                            <m:nor/>
                          </m:rPr>
                          <m:t xml:space="preserve">fee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TextBox 12"/>
          <p:cNvSpPr/>
          <p:nvPr/>
        </p:nvSpPr>
        <p:spPr>
          <a:xfrm>
            <a:off x="7603560" y="571500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74 f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3" descr="C:\Program Files\Microsoft Office 2007\MEDIA\CAGCAT10\j0185604.wmf"/>
          <p:cNvPicPr/>
          <p:nvPr/>
        </p:nvPicPr>
        <p:blipFill>
          <a:blip r:embed="rId1"/>
          <a:stretch/>
        </p:blipFill>
        <p:spPr>
          <a:xfrm>
            <a:off x="380880" y="3124080"/>
            <a:ext cx="3119400" cy="3124440"/>
          </a:xfrm>
          <a:prstGeom prst="rect">
            <a:avLst/>
          </a:prstGeom>
          <a:ln w="0">
            <a:noFill/>
          </a:ln>
        </p:spPr>
      </p:pic>
      <p:pic>
        <p:nvPicPr>
          <p:cNvPr id="418" name="Title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491680" cy="8604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beam supporting a roof is slanted at an angle of 38° from the horizontal.  If the horizontal distance under the beam is 4.6 meters, how long is the beam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0" name="Straight Connector 7"/>
          <p:cNvSpPr/>
          <p:nvPr/>
        </p:nvSpPr>
        <p:spPr>
          <a:xfrm>
            <a:off x="2818800" y="4343400"/>
            <a:ext cx="1066680" cy="1143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traight Connector 8"/>
          <p:cNvSpPr/>
          <p:nvPr/>
        </p:nvSpPr>
        <p:spPr>
          <a:xfrm>
            <a:off x="2819520" y="5486400"/>
            <a:ext cx="106668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Callout 1 (Accent Bar) 15"/>
          <p:cNvSpPr/>
          <p:nvPr/>
        </p:nvSpPr>
        <p:spPr>
          <a:xfrm>
            <a:off x="4114800" y="5029200"/>
            <a:ext cx="12193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ff0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Rockwell"/>
              </a:rPr>
              <a:t>38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5056200" y="3244680"/>
                <a:ext cx="27478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4" name="Rectangle 19"/>
          <p:cNvSpPr/>
          <p:nvPr/>
        </p:nvSpPr>
        <p:spPr>
          <a:xfrm>
            <a:off x="685800" y="5638680"/>
            <a:ext cx="2590920" cy="381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17"/>
          <p:cNvSpPr/>
          <p:nvPr/>
        </p:nvSpPr>
        <p:spPr>
          <a:xfrm>
            <a:off x="2831040" y="5486400"/>
            <a:ext cx="6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4.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20"/>
          <p:cNvSpPr/>
          <p:nvPr/>
        </p:nvSpPr>
        <p:spPr>
          <a:xfrm>
            <a:off x="5500800" y="5410080"/>
            <a:ext cx="23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Rockwell"/>
              </a:rPr>
              <a:t>X = 5.8 f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 the nearest tenth of a degree, give the measures of the angles in a right triangle whose sides have the given measure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1, 60, 61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Right Triangle 5"/>
          <p:cNvSpPr/>
          <p:nvPr/>
        </p:nvSpPr>
        <p:spPr>
          <a:xfrm flipH="1" flipV="1">
            <a:off x="3048120" y="3733200"/>
            <a:ext cx="5410080" cy="1447560"/>
          </a:xfrm>
          <a:prstGeom prst="rtTriangle">
            <a:avLst/>
          </a:prstGeom>
          <a:solidFill>
            <a:srgbClr val="17dbf5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6"/>
          <p:cNvSpPr/>
          <p:nvPr/>
        </p:nvSpPr>
        <p:spPr>
          <a:xfrm>
            <a:off x="5863680" y="45720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ckwell"/>
              </a:rPr>
              <a:t>6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7"/>
          <p:cNvSpPr/>
          <p:nvPr/>
        </p:nvSpPr>
        <p:spPr>
          <a:xfrm>
            <a:off x="8388000" y="41911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ckwell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Box 8"/>
          <p:cNvSpPr/>
          <p:nvPr/>
        </p:nvSpPr>
        <p:spPr>
          <a:xfrm>
            <a:off x="5940000" y="31240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ckwell"/>
              </a:rPr>
              <a:t>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4"/>
              <p:cNvSpPr txBox="1"/>
              <p:nvPr/>
            </p:nvSpPr>
            <p:spPr>
              <a:xfrm>
                <a:off x="1081080" y="4191120"/>
                <a:ext cx="2260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34" name="Straight Arrow Connector 11"/>
          <p:cNvCxnSpPr/>
          <p:nvPr/>
        </p:nvCxnSpPr>
        <p:spPr>
          <a:xfrm flipV="1">
            <a:off x="2133720" y="3733560"/>
            <a:ext cx="1296000" cy="4579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435" name="TextBox 14"/>
          <p:cNvSpPr/>
          <p:nvPr/>
        </p:nvSpPr>
        <p:spPr>
          <a:xfrm>
            <a:off x="4198320" y="3733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Rockwell"/>
              </a:rPr>
              <a:t>10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15"/>
          <p:cNvSpPr/>
          <p:nvPr/>
        </p:nvSpPr>
        <p:spPr>
          <a:xfrm>
            <a:off x="4390200" y="5334120"/>
            <a:ext cx="34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eb47"/>
                </a:solidFill>
                <a:latin typeface="Rockwell"/>
              </a:rPr>
              <a:t>90 + 10.4 + y = 180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Box 16"/>
          <p:cNvSpPr/>
          <p:nvPr/>
        </p:nvSpPr>
        <p:spPr>
          <a:xfrm>
            <a:off x="4596840" y="594360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eb47"/>
                </a:solidFill>
                <a:latin typeface="Rockwell"/>
              </a:rPr>
              <a:t>y = 79.6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723920" y="16462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nd the measure of the acute angle formed by the line with equation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y = 3x and the x – axi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4495680" cy="5600880"/>
          </a:xfrm>
          <a:prstGeom prst="rect">
            <a:avLst/>
          </a:prstGeom>
          <a:ln w="0">
            <a:noFill/>
          </a:ln>
        </p:spPr>
      </p:pic>
      <p:cxnSp>
        <p:nvCxnSpPr>
          <p:cNvPr id="441" name="Straight Arrow Connector 6"/>
          <p:cNvCxnSpPr/>
          <p:nvPr/>
        </p:nvCxnSpPr>
        <p:spPr>
          <a:xfrm flipV="1">
            <a:off x="914400" y="1219320"/>
            <a:ext cx="1372320" cy="4953240"/>
          </a:xfrm>
          <a:prstGeom prst="straightConnector1">
            <a:avLst/>
          </a:prstGeom>
          <a:ln w="57240">
            <a:solidFill>
              <a:srgbClr val="4774a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42" name="Straight Arrow Connector 9"/>
          <p:cNvCxnSpPr/>
          <p:nvPr/>
        </p:nvCxnSpPr>
        <p:spPr>
          <a:xfrm flipV="1">
            <a:off x="1749960" y="2210760"/>
            <a:ext cx="3960" cy="3734280"/>
          </a:xfrm>
          <a:prstGeom prst="straightConnector1">
            <a:avLst/>
          </a:prstGeom>
          <a:ln w="76320">
            <a:solidFill>
              <a:srgbClr val="4774a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43" name="TextBox 12"/>
          <p:cNvSpPr/>
          <p:nvPr/>
        </p:nvSpPr>
        <p:spPr>
          <a:xfrm>
            <a:off x="1903680" y="41148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Rockwel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Box 13"/>
          <p:cNvSpPr/>
          <p:nvPr/>
        </p:nvSpPr>
        <p:spPr>
          <a:xfrm>
            <a:off x="1141560" y="5562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Rockwel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4"/>
              <p:cNvSpPr txBox="1"/>
              <p:nvPr/>
            </p:nvSpPr>
            <p:spPr>
              <a:xfrm>
                <a:off x="5499000" y="4572000"/>
                <a:ext cx="20829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6" name="TextBox 15"/>
          <p:cNvSpPr/>
          <p:nvPr/>
        </p:nvSpPr>
        <p:spPr>
          <a:xfrm>
            <a:off x="5902560" y="6019920"/>
            <a:ext cx="23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Rockwell"/>
              </a:rPr>
              <a:t>X = 71.57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Rockwell"/>
              </a:rPr>
              <a:t>Pages 313 – 314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Rockwell"/>
              </a:rPr>
              <a:t>5 - 14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23:56:11Z</dcterms:created>
  <dc:creator>student</dc:creator>
  <dc:description/>
  <dc:language>en-US</dc:language>
  <cp:lastModifiedBy>student</cp:lastModifiedBy>
  <dcterms:modified xsi:type="dcterms:W3CDTF">2010-12-15T15:31:50Z</dcterms:modified>
  <cp:revision>9</cp:revision>
  <dc:subject/>
  <dc:title>Trigonometric Ratios in Right Triangles</dc:title>
</cp:coreProperties>
</file>