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4AE-68AF-40D7-B4BA-D1BF4E10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17A1-D218-4624-9ADC-5A36ED2A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3ECEC4-4D6A-4BD0-A7B3-EFD31E6C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8A110B-FFBB-4A37-A7B3-C1F0D13C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CBB0B2-EF71-454B-894E-805D5B12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0E27F5-FE58-4C93-AEEC-A983413F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00D893-ED23-4133-9891-C19AF1A2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ACF1D5-8EFE-448E-B5D4-26A9C63B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1B974A-0911-45E5-A7B5-A6683514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A6CAB5-DB84-466A-9CEE-B4DFC9FA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7CD32B-75C3-44B2-BB6F-0C7F209D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6E3A-BA77-47B4-B763-D24BA163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B1E7-94B1-406D-837E-1CD74C7D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F553F-5070-4095-ABB6-A4E8819A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AF842-BF3D-4B92-9D48-1DD7B1AE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EB3AB-4188-4666-AA8D-35D2751A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C070E-66E4-4F24-8B04-6510C152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44270-2588-4BDA-84C0-CFD61A9B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36BF4-5386-4012-9F99-8077218A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FCD92-B18A-42DB-B3FF-51713EBE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6305-4CC8-44A4-9469-CD52CB79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56050-D4C7-47C7-BF9A-C96D41B9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BECBE-FCBD-49FB-8FD8-4CAF4FEA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E2255-C448-440D-AE68-28BDDA0B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94F09-046F-4B9E-B6BA-52DBB797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FB7A4-F68D-4EAD-929E-67E9A284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FD5F8-8210-4013-BD95-248BD7C8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22872-79C0-49C4-AAF2-A6191684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67A51-3FE1-4A06-98E9-D74B4C11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7AF38-4CE2-4250-97E5-F40F9EF5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F91E0-65F7-44B5-B100-AAA57EED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712C-1005-4167-94C1-D80261EE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F9E72-3C9B-443E-A48E-C36BC968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23528-333D-4187-9598-D62D33C8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483CB-0009-4960-95EC-59232695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C3206-AFF5-40FC-A7D9-48CEE7A9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3BB65-E861-4EC2-9E46-671B3D0E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AD7FC-5742-4F79-8C6C-2A581C6D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3BB52-34C5-4AA9-96EB-D0D31464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7E17CF-AA44-456C-9C3E-7AB03CA2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421E3D-BF60-42CC-8532-752A3469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BC831B-277F-421C-93B1-0D4CD3CA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1F44-8B19-4628-9482-5D83CA6A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C83FBD-D6AA-4CC0-9053-9DC9E64E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2BB887-6083-4CEC-BD89-78240DEB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FA8930-62E1-4419-BFED-A7411618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439E0D-DD61-4975-9ECA-01AC0BAB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2B79A7-2347-4EB8-8ACA-DDC53410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C957E7-26F7-420E-95FE-3F4F79BA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61CAE1-0097-4501-905E-FF5B4226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3C0B37-3566-4FAD-9A3C-182FF297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BE217A-EA1E-4840-B599-AD0FD268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9E670-9CEF-49D6-8704-D1F0E42F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4E41-479A-4753-AF32-96D0F9C8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7966E-D903-4049-A903-4063505C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09874-3BF1-4096-8033-F9E4F6A2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57651-1234-4A43-89B8-6A1626CC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AB8ED-5500-4B1E-88E2-706BCEF4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398A8-F8D7-4157-92D5-C3A2788A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6088A-0500-4A0C-9305-FD216719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6D5AA-EAB5-40A9-84AF-E172647C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DA969-9641-41AC-9368-18BB466B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8B242-12B4-4758-AF84-4429FC13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8CB19-C84B-4DD9-A0C0-DD674B36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76C8-0A65-49E8-A433-6D2234FF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438CC-F5E0-4B06-AAF0-3A88F947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9077D-80B1-4699-B959-22C5FF27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DB47F-DCFF-48F2-81A4-F588817B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B233C-0166-4879-992B-8BAC1AD2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AF3FE-FFE3-46CD-BB4D-DAB33B58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9CCC8-F142-411D-AF7D-019686C6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AD4EE-2D7E-404B-927B-8B592B03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354C7-C2A4-4DBE-BD81-80B5C537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8CEC7-132D-4A46-9692-03FFB491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53352-E8D3-44CA-8CB3-E378983E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CA2-E92C-42B1-B1FB-662FCF72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57744-1C67-42D6-A032-6DEA1D84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A8416-2971-44A0-A317-836BF750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1CBF0-8356-4238-BB12-527EA632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340C6-642D-460B-9459-C701CAD2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29D4A-4645-4621-9443-CCBD6DDE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6ABB4-B270-46A8-BEC3-0A66AFE6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5BD7B-1037-406D-A987-5637C61B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ABEAE-345A-40C9-9050-CAFFFB51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2F025-BDBF-49C4-B6BF-5D55F402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F1B3D-2CFE-44F8-9B73-D9E6A350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A3B-0885-4634-844E-F9528292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0AF44-955A-4261-BE42-1E43DC38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9202B-AE44-4B3B-B942-8FD79419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D72A4-563A-4895-B2B6-69314650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CD0CE-F689-4718-B4FC-F7FE45E2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264CB-4209-45AA-B0CA-C2DDCCD4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E1B1CF-4231-48C5-A7DB-665BE8E5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052E6D-B5C5-457D-BFDB-A428F61C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EFF824-1D38-4670-8601-AF0A24B3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5A41B8-C4A2-4C39-8CF1-ACB83F1C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5EEB85-4A45-4350-B52D-A01D6998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686E-4018-42F9-85E2-F774E7ED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52B986-C79B-4844-99A0-A65716C2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16C05C-0D87-4A98-8AD0-C75521B1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3170CD-1633-4889-8D84-33DC32D4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C6BC90-CA94-4056-9BF4-1ED4B8CF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3036E7-9D65-427C-8A85-2F41C0B1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EE465B-CC1F-4BBC-B0F9-C2D0453B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637279-8262-4671-8E06-F52DBF71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D2EB0F-90C7-4898-A982-1AA242B7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454002-F9C0-4280-9DB5-6032FCE9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1ED0FC-CB69-4970-8B26-7486D299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B67A-8962-414D-BCF3-571416C4693C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DC51-6831-46F2-8BDD-23843BF080CC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297C-5F75-4D58-B656-0A1C9964C2A3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83CD-A70B-44C8-9042-BA0956796E6E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DA24-ECFC-47CB-910B-FBEB32547E8D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3CA9-B07B-4B26-9E8E-237036D788D3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909D-C4E3-4CA3-9FE1-7F0850FB3A84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7BD0-AC42-4E72-A984-F1D8F2E11F33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3e1d7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A0B8-BFE9-475C-97C0-A7491102F2DD}" type="slidenum">
              <a:rPr b="0" lang="en-US" sz="1600" spc="-1" strike="noStrike">
                <a:solidFill>
                  <a:srgbClr val="e3e1d7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tion 4.10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281160" y="92160"/>
            <a:ext cx="8710560" cy="9619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Rockwell"/>
              </a:rPr>
              <a:t>SOH – CAH - TOA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Right Triangle 3"/>
          <p:cNvSpPr/>
          <p:nvPr/>
        </p:nvSpPr>
        <p:spPr>
          <a:xfrm>
            <a:off x="6095880" y="2971800"/>
            <a:ext cx="2362320" cy="2133720"/>
          </a:xfrm>
          <a:prstGeom prst="rtTriangle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4"/>
              <p:cNvSpPr txBox="1"/>
              <p:nvPr/>
            </p:nvSpPr>
            <p:spPr>
              <a:xfrm>
                <a:off x="1600200" y="1981080"/>
                <a:ext cx="2660760" cy="455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y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op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dj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0" name="TextBox 5"/>
          <p:cNvSpPr/>
          <p:nvPr/>
        </p:nvSpPr>
        <p:spPr>
          <a:xfrm>
            <a:off x="7696080" y="457200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Cambria"/>
              </a:rPr>
              <a:t>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6"/>
          <p:cNvSpPr/>
          <p:nvPr/>
        </p:nvSpPr>
        <p:spPr>
          <a:xfrm>
            <a:off x="5295600" y="38862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o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"/>
          <p:cNvSpPr/>
          <p:nvPr/>
        </p:nvSpPr>
        <p:spPr>
          <a:xfrm>
            <a:off x="6822720" y="5181480"/>
            <a:ext cx="6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ad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8"/>
          <p:cNvSpPr/>
          <p:nvPr/>
        </p:nvSpPr>
        <p:spPr>
          <a:xfrm>
            <a:off x="7193160" y="358128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hy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68680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grees &gt; minutes &gt; second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re are 60 minutes in a degree (noted’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600 seconds in a degree (noted ”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. 57°34’15’’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7 + 34/60 + 15/3600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7 + .567 + .0041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7.5711°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1"/>
          <p:cNvSpPr/>
          <p:nvPr/>
        </p:nvSpPr>
        <p:spPr>
          <a:xfrm>
            <a:off x="4572000" y="3886200"/>
            <a:ext cx="3581280" cy="152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-55440"/>
            <a:ext cx="8491680" cy="853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14400" y="8380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ppose that the distance from the top of a balcony to the edge of the pool is 86 feet.  The view from the balcony to the edge of the pool forms an angle of 60° along the horizon.  How high above the ground is the balcony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9" name="Straight Connector 4"/>
          <p:cNvSpPr/>
          <p:nvPr/>
        </p:nvSpPr>
        <p:spPr>
          <a:xfrm>
            <a:off x="152280" y="4800600"/>
            <a:ext cx="914400" cy="1440"/>
          </a:xfrm>
          <a:prstGeom prst="line">
            <a:avLst/>
          </a:prstGeom>
          <a:ln w="76320">
            <a:solidFill>
              <a:srgbClr val="4774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4724280" y="6095880"/>
            <a:ext cx="2514600" cy="533520"/>
          </a:xfrm>
          <a:prstGeom prst="rect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2"/>
          <a:stretch/>
        </p:blipFill>
        <p:spPr>
          <a:xfrm>
            <a:off x="152280" y="3352680"/>
            <a:ext cx="914400" cy="1352520"/>
          </a:xfrm>
          <a:prstGeom prst="rect">
            <a:avLst/>
          </a:prstGeom>
          <a:ln w="0">
            <a:noFill/>
          </a:ln>
        </p:spPr>
      </p:pic>
      <p:sp>
        <p:nvSpPr>
          <p:cNvPr id="412" name="Right Triangle 7"/>
          <p:cNvSpPr/>
          <p:nvPr/>
        </p:nvSpPr>
        <p:spPr>
          <a:xfrm flipH="1" rot="5400000">
            <a:off x="2056320" y="3733560"/>
            <a:ext cx="1905120" cy="3886200"/>
          </a:xfrm>
          <a:prstGeom prst="rtTriangle">
            <a:avLst/>
          </a:prstGeom>
          <a:solidFill>
            <a:srgbClr val="ffff00">
              <a:alpha val="30000"/>
            </a:srgbClr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8"/>
          <p:cNvSpPr/>
          <p:nvPr/>
        </p:nvSpPr>
        <p:spPr>
          <a:xfrm>
            <a:off x="2574360" y="502920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6 f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9"/>
          <p:cNvSpPr/>
          <p:nvPr/>
        </p:nvSpPr>
        <p:spPr>
          <a:xfrm flipH="1">
            <a:off x="3809160" y="6324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60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4"/>
              <p:cNvSpPr txBox="1"/>
              <p:nvPr/>
            </p:nvSpPr>
            <p:spPr>
              <a:xfrm>
                <a:off x="4648320" y="3886200"/>
                <a:ext cx="341316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rPr>
                            <m:lit/>
                            <m:nor/>
                          </m:rPr>
                          <m:t xml:space="preserve">fee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TextBox 12"/>
          <p:cNvSpPr/>
          <p:nvPr/>
        </p:nvSpPr>
        <p:spPr>
          <a:xfrm>
            <a:off x="7603560" y="5715000"/>
            <a:ext cx="13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74 f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" descr="C:\Program Files\Microsoft Office 2007\MEDIA\CAGCAT10\j0185604.wmf"/>
          <p:cNvPicPr/>
          <p:nvPr/>
        </p:nvPicPr>
        <p:blipFill>
          <a:blip r:embed="rId1"/>
          <a:stretch/>
        </p:blipFill>
        <p:spPr>
          <a:xfrm>
            <a:off x="380880" y="3124080"/>
            <a:ext cx="3119400" cy="3124440"/>
          </a:xfrm>
          <a:prstGeom prst="rect">
            <a:avLst/>
          </a:prstGeom>
          <a:ln w="0">
            <a:noFill/>
          </a:ln>
        </p:spPr>
      </p:pic>
      <p:pic>
        <p:nvPicPr>
          <p:cNvPr id="418" name="Title 1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491680" cy="860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beam supporting a roof is slanted at an angle of 38° from the horizontal.  If the horizontal distance under the beam is 4.6 meters, how long is the beam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0" name="Straight Connector 7"/>
          <p:cNvSpPr/>
          <p:nvPr/>
        </p:nvSpPr>
        <p:spPr>
          <a:xfrm>
            <a:off x="2818800" y="4343400"/>
            <a:ext cx="1066680" cy="1143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traight Connector 8"/>
          <p:cNvSpPr/>
          <p:nvPr/>
        </p:nvSpPr>
        <p:spPr>
          <a:xfrm>
            <a:off x="2819520" y="5486400"/>
            <a:ext cx="106668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Callout 1 (Accent Bar) 15"/>
          <p:cNvSpPr/>
          <p:nvPr/>
        </p:nvSpPr>
        <p:spPr>
          <a:xfrm>
            <a:off x="4114800" y="5029200"/>
            <a:ext cx="12193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ff0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Rockwell"/>
              </a:rPr>
              <a:t>38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5056200" y="3244680"/>
                <a:ext cx="27478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4" name="Rectangle 19"/>
          <p:cNvSpPr/>
          <p:nvPr/>
        </p:nvSpPr>
        <p:spPr>
          <a:xfrm>
            <a:off x="685800" y="5638680"/>
            <a:ext cx="2590920" cy="381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17"/>
          <p:cNvSpPr/>
          <p:nvPr/>
        </p:nvSpPr>
        <p:spPr>
          <a:xfrm>
            <a:off x="2831040" y="5486400"/>
            <a:ext cx="6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4.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20"/>
          <p:cNvSpPr/>
          <p:nvPr/>
        </p:nvSpPr>
        <p:spPr>
          <a:xfrm>
            <a:off x="5500800" y="5410080"/>
            <a:ext cx="23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Rockwell"/>
              </a:rPr>
              <a:t>X = 5.8 f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o the nearest tenth of a degree, give the measures of the angles in a right triangle whose sides have the given measures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1, 60, 61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Right Triangle 5"/>
          <p:cNvSpPr/>
          <p:nvPr/>
        </p:nvSpPr>
        <p:spPr>
          <a:xfrm flipH="1" flipV="1">
            <a:off x="3048120" y="3733200"/>
            <a:ext cx="5410080" cy="1447560"/>
          </a:xfrm>
          <a:prstGeom prst="rtTriangle">
            <a:avLst/>
          </a:prstGeom>
          <a:solidFill>
            <a:srgbClr val="17dbf5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6"/>
          <p:cNvSpPr/>
          <p:nvPr/>
        </p:nvSpPr>
        <p:spPr>
          <a:xfrm>
            <a:off x="5863680" y="457200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"/>
              </a:rPr>
              <a:t>6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7"/>
          <p:cNvSpPr/>
          <p:nvPr/>
        </p:nvSpPr>
        <p:spPr>
          <a:xfrm>
            <a:off x="8388000" y="419112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Box 8"/>
          <p:cNvSpPr/>
          <p:nvPr/>
        </p:nvSpPr>
        <p:spPr>
          <a:xfrm>
            <a:off x="5940000" y="31240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Rockwell"/>
              </a:rPr>
              <a:t>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4"/>
              <p:cNvSpPr txBox="1"/>
              <p:nvPr/>
            </p:nvSpPr>
            <p:spPr>
              <a:xfrm>
                <a:off x="1081080" y="4191120"/>
                <a:ext cx="2260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34" name="Straight Arrow Connector 11"/>
          <p:cNvCxnSpPr/>
          <p:nvPr/>
        </p:nvCxnSpPr>
        <p:spPr>
          <a:xfrm flipV="1">
            <a:off x="2133720" y="3733560"/>
            <a:ext cx="1296000" cy="4579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435" name="TextBox 14"/>
          <p:cNvSpPr/>
          <p:nvPr/>
        </p:nvSpPr>
        <p:spPr>
          <a:xfrm>
            <a:off x="4198320" y="3733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Rockwell"/>
              </a:rPr>
              <a:t>10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15"/>
          <p:cNvSpPr/>
          <p:nvPr/>
        </p:nvSpPr>
        <p:spPr>
          <a:xfrm>
            <a:off x="4390200" y="5334120"/>
            <a:ext cx="34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eb47"/>
                </a:solidFill>
                <a:latin typeface="Rockwell"/>
              </a:rPr>
              <a:t>90 + 10.4 + y = 18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16"/>
          <p:cNvSpPr/>
          <p:nvPr/>
        </p:nvSpPr>
        <p:spPr>
          <a:xfrm>
            <a:off x="4596840" y="594360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7eb47"/>
                </a:solidFill>
                <a:latin typeface="Rockwell"/>
              </a:rPr>
              <a:t>y = 79.6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4723920" y="16462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nd the measure of the acute angle formed by the line with equation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y = 3x and the x – axi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4495680" cy="5600880"/>
          </a:xfrm>
          <a:prstGeom prst="rect">
            <a:avLst/>
          </a:prstGeom>
          <a:ln w="0">
            <a:noFill/>
          </a:ln>
        </p:spPr>
      </p:pic>
      <p:cxnSp>
        <p:nvCxnSpPr>
          <p:cNvPr id="441" name="Straight Arrow Connector 6"/>
          <p:cNvCxnSpPr/>
          <p:nvPr/>
        </p:nvCxnSpPr>
        <p:spPr>
          <a:xfrm flipV="1">
            <a:off x="914400" y="1219320"/>
            <a:ext cx="1372320" cy="4953240"/>
          </a:xfrm>
          <a:prstGeom prst="straightConnector1">
            <a:avLst/>
          </a:prstGeom>
          <a:ln w="57240">
            <a:solidFill>
              <a:srgbClr val="4774a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42" name="Straight Arrow Connector 9"/>
          <p:cNvCxnSpPr/>
          <p:nvPr/>
        </p:nvCxnSpPr>
        <p:spPr>
          <a:xfrm flipV="1">
            <a:off x="1749960" y="2210760"/>
            <a:ext cx="3960" cy="3734280"/>
          </a:xfrm>
          <a:prstGeom prst="straightConnector1">
            <a:avLst/>
          </a:prstGeom>
          <a:ln w="76320">
            <a:solidFill>
              <a:srgbClr val="4774a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43" name="TextBox 12"/>
          <p:cNvSpPr/>
          <p:nvPr/>
        </p:nvSpPr>
        <p:spPr>
          <a:xfrm>
            <a:off x="1903680" y="41148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Rockwell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13"/>
          <p:cNvSpPr/>
          <p:nvPr/>
        </p:nvSpPr>
        <p:spPr>
          <a:xfrm>
            <a:off x="1141560" y="5562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Rockwel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4"/>
              <p:cNvSpPr txBox="1"/>
              <p:nvPr/>
            </p:nvSpPr>
            <p:spPr>
              <a:xfrm>
                <a:off x="5499000" y="4572000"/>
                <a:ext cx="20829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6" name="TextBox 15"/>
          <p:cNvSpPr/>
          <p:nvPr/>
        </p:nvSpPr>
        <p:spPr>
          <a:xfrm>
            <a:off x="5902560" y="6019920"/>
            <a:ext cx="23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Rockwell"/>
              </a:rPr>
              <a:t>X = 71.57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Rockwell"/>
              </a:rPr>
              <a:t>Pages 313 – 314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Rockwell"/>
              </a:rPr>
              <a:t>5 - 14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23:56:11Z</dcterms:created>
  <dc:creator>student</dc:creator>
  <dc:description/>
  <dc:language>en-US</dc:language>
  <cp:lastModifiedBy>student</cp:lastModifiedBy>
  <dcterms:modified xsi:type="dcterms:W3CDTF">2010-12-15T15:31:50Z</dcterms:modified>
  <cp:revision>9</cp:revision>
  <dc:subject/>
  <dc:title>Trigonometric Ratios in Right Triangles</dc:title>
</cp:coreProperties>
</file>