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37A-D077-4DA9-8AAC-6DB3FC02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C3C-BDF8-421B-BDA3-46933011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45E70B-5AD8-41C7-9E3C-FCF04130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73C2E9-101A-49C5-909D-2B532CC6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53350-76B3-419C-83CB-337E0AD5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18429-2E85-48D7-A74D-E83AD1E8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E9E7B0-51EA-45F6-9295-FD0D1CF0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C96752-D70C-4CFC-A3CD-A6BC36C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67CDA0-3A30-42FB-89C5-A56C64C1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6D065D-1B77-4065-BD86-486B6A69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B4F3CF-28BB-44F9-9E6E-B2A3BA35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D55-98B4-4CB6-9E9D-65509747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8E3-E732-43A8-87DC-ECF7C151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08738-6AE6-4882-908A-13E38FCC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83A28-24B2-4236-9A5E-C504ED05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7C9ED-1B40-4818-AB48-A37F09A6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16A8A-6E32-46C4-B20F-F6C6D846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6AA4C-41CD-4726-A277-B37449D1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518A6-73D5-49B1-B206-C7CF9C2D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AE7EB-CAD0-42E8-AFEB-B00FD284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0AC-18ED-4B9A-8F74-54EBD721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CAE65-D04D-45FB-8779-ACB2D1E9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3A337-318A-4DA1-B870-7DB31993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0AC1C-1598-4609-9D02-906E43C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24951-38D6-4819-B256-6A37D557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98E03-6E0E-4E12-A38D-F908AA79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8C2F5-8185-48E7-A6A3-FC677B41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1C627-920D-4973-8E38-D779AF96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3DDD-A52F-4F6E-9118-92CD4169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39D5-1837-492C-AAC3-D56DFE8E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465A-ED85-49DE-893B-0C6CED2F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520-F171-4F7E-8856-FAB9FC66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52D0-A4D6-48C2-975C-3C9F07EF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AF8F-FF81-4284-9630-35FB4AEF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C172-2114-4428-B382-3231034C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B8D3E-262C-4D48-B2B5-8FC63061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55DA-CB8A-4C04-BB4B-CD1BFE1A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1D80-3EFD-4140-9927-DE1658D6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E3FA-F175-4F93-8E62-FCDD3A98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4D9838-7B64-40FE-B01E-7EC4FE6B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D3515-3284-43DD-896E-E0A7739B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AB9EF-7CF4-4405-AE55-204CB1D5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E20-EC61-4335-8009-5CBA4E04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B8DBD-1751-47B5-934F-2763C7FB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90504-B86A-42DB-86FE-D5BCF99D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6F264-37B0-46AC-992C-AF8716D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7BDA1-7F15-4B71-9FC8-B37AD45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1FF0F2-D7DB-4372-AACC-5F548EF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9F3B44-002F-4D6B-A781-C362296E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16753-BF43-4D2D-8E73-71538D7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88B89-7B8F-4DC6-99EB-14CF5C06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1FCF1-3DF8-43E1-8B97-40DD3DBE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B45D5-6E35-4931-B6E2-E752E1CF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ED2-AE74-4B13-9AA7-58FFF96A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6DC6A-FD27-4C2D-9D4E-FEDE8ED6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7BBB7-F9E1-4C7D-B47F-C2F7C7A2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44CE3-95A9-425B-9C16-AAA82EDE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22F6B-2A77-4DE8-9593-E03AED04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DEEC5-68F6-4445-9C98-D66775C9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9E7BE-A4A5-4BB6-ABE5-FA959E1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333BC-AD43-4920-8AD5-A03FF20A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8175C-2D89-4077-89A0-9C19310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2838-8A59-44DB-93AD-5844A258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911D0-E8D2-44DF-AC38-104576B2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490-D78B-4534-A020-B5B88A7F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37AC7-CA83-44C3-BCC5-BAD35366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9DC4B-2E03-4BEE-9177-3DA9F934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4B1E-DDCC-4436-BCE5-A18F974C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C9741-6947-4E19-8BDE-E9B8A8D1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3836B-83B8-4011-8CF0-268EFD8B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01740-F553-41D5-A9DA-4CBCE28F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2DD40-2BBE-4048-8C0D-EB2D1326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C88CF-1238-45CA-93B8-08EA9F23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A050D-7BCF-415F-9CA1-93AF82CA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D356D-0DD8-4D12-B5A8-9E2CDA4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609-8852-4DB2-AC5C-887F1CAF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C191E-4135-4F6C-A527-F3887FCC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925FE-A9B7-4B5B-915C-F8B1C545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CD2E1-7A42-4EDF-B1E5-1F35C565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93C8-8C4C-4A08-B4FA-533A1C24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1DFDF-DA43-4F3C-B196-EFA6D3D1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6AA32-D009-4556-BC5D-05252306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F64CC-C576-4FA0-BA9D-650C0910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F357-2A62-44CF-B715-8A661DD8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B1B3-8381-4003-BC85-DC89056F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2CDF-5669-4193-BACF-85FBEDF9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FCE-1A42-4E5A-9268-EBA79182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B2D85-6EE2-4A20-BE04-63B3414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8ED1F-043D-4C6F-A6EC-F327E76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E49E0-2B5E-4BDA-AC82-3E6F0FE7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70B5C-AEE7-4358-9F33-38EA2CDD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6A26B-0940-4C2F-8CC0-563C09F9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251360-D4CF-4953-8F16-520CCAC8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67A0B6-65D1-4CFE-BC59-796E5188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FCF08-95BA-4A57-8122-AD701432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6E5049-2B34-431B-9DCB-EE49D6C6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DA63BC-E01A-483D-88D2-5246D0F7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D6A-2B6E-432A-886C-B12776ED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02916-2604-4CC5-AA1C-080DF51C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F61D5F-02F8-44F2-B418-E989EE6E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BB1705-B226-4AD8-8982-7A379C3A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F92F80-6179-40F5-9030-160D2B6A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EA4BB1-38A3-456C-90B5-18E29195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669C4E-CA1D-4783-B308-BDA13313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234673-01FC-4947-BE61-95696B0B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DC1306-311E-4EE6-8E1F-DFCFA423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B5BCA0-5D47-43A6-A0F8-0C504460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1DCB01-7DBC-4AA1-A27A-BB31B208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597-70CC-4F34-B468-8545D06DDCF2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79C9-17F7-4F5C-8F2B-63F6FCC073EB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14EA-FF47-4AFA-B84D-B20816D977AB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30F7-A2F0-4E46-B0D4-2647BA90F92C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368B-3357-44AF-8537-F460D012487C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5289-5C56-4676-B197-FC799274A11A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0D51-7023-42AF-BB2D-17765B9562CF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E107-DCE2-4BBA-BC54-22638BEBAF58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9A4E-0A22-4B03-9B5A-B67FA87F2A9C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4.1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81160" y="92160"/>
            <a:ext cx="8710560" cy="961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ockwell"/>
              </a:rPr>
              <a:t>SOH – CAH - TOA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Right Triangle 3"/>
          <p:cNvSpPr/>
          <p:nvPr/>
        </p:nvSpPr>
        <p:spPr>
          <a:xfrm>
            <a:off x="6095880" y="2971800"/>
            <a:ext cx="2362320" cy="213372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600200" y="1981080"/>
                <a:ext cx="266076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TextBox 5"/>
          <p:cNvSpPr/>
          <p:nvPr/>
        </p:nvSpPr>
        <p:spPr>
          <a:xfrm>
            <a:off x="7696080" y="45720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mbria"/>
              </a:rPr>
              <a:t>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5295600" y="3886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o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6822720" y="518148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ad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7193160" y="3581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hy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grees &gt; minutes &gt; secon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re are 60 minutes in a degree (noted’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600 seconds in a degree (noted ”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. 57°34’15’’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34/60 + 15/360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.567 + .004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.5711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1"/>
          <p:cNvSpPr/>
          <p:nvPr/>
        </p:nvSpPr>
        <p:spPr>
          <a:xfrm>
            <a:off x="4572000" y="3886200"/>
            <a:ext cx="358128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14400" y="838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that the distance from the top of a balcony to the edge of the pool is 86 feet.  The view from the balcony to the edge of the pool forms an angle of 60° along the horizon.  How high above the ground is the balcony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Straight Connector 4"/>
          <p:cNvSpPr/>
          <p:nvPr/>
        </p:nvSpPr>
        <p:spPr>
          <a:xfrm>
            <a:off x="152280" y="4800600"/>
            <a:ext cx="914400" cy="1440"/>
          </a:xfrm>
          <a:prstGeom prst="line">
            <a:avLst/>
          </a:prstGeom>
          <a:ln w="76320">
            <a:solidFill>
              <a:srgbClr val="477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724280" y="6095880"/>
            <a:ext cx="2514600" cy="53352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914400" cy="1352520"/>
          </a:xfrm>
          <a:prstGeom prst="rect">
            <a:avLst/>
          </a:prstGeom>
          <a:ln w="0">
            <a:noFill/>
          </a:ln>
        </p:spPr>
      </p:pic>
      <p:sp>
        <p:nvSpPr>
          <p:cNvPr id="412" name="Right Triangle 7"/>
          <p:cNvSpPr/>
          <p:nvPr/>
        </p:nvSpPr>
        <p:spPr>
          <a:xfrm flipH="1" rot="5400000">
            <a:off x="2056320" y="3733560"/>
            <a:ext cx="1905120" cy="3886200"/>
          </a:xfrm>
          <a:prstGeom prst="rtTriangle">
            <a:avLst/>
          </a:prstGeom>
          <a:solidFill>
            <a:srgbClr val="ffff00">
              <a:alpha val="30000"/>
            </a:srgbClr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2574360" y="50292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6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9"/>
          <p:cNvSpPr/>
          <p:nvPr/>
        </p:nvSpPr>
        <p:spPr>
          <a:xfrm flipH="1">
            <a:off x="380916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4648320" y="3886200"/>
                <a:ext cx="34131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Box 12"/>
          <p:cNvSpPr/>
          <p:nvPr/>
        </p:nvSpPr>
        <p:spPr>
          <a:xfrm>
            <a:off x="7603560" y="57150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74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Program Files\Microsoft Office 2007\MEDIA\CAGCAT10\j0185604.wmf"/>
          <p:cNvPicPr/>
          <p:nvPr/>
        </p:nvPicPr>
        <p:blipFill>
          <a:blip r:embed="rId1"/>
          <a:stretch/>
        </p:blipFill>
        <p:spPr>
          <a:xfrm>
            <a:off x="380880" y="3124080"/>
            <a:ext cx="3119400" cy="3124440"/>
          </a:xfrm>
          <a:prstGeom prst="rect">
            <a:avLst/>
          </a:prstGeom>
          <a:ln w="0">
            <a:noFill/>
          </a:ln>
        </p:spPr>
      </p:pic>
      <p:pic>
        <p:nvPicPr>
          <p:cNvPr id="418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491680" cy="860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beam supporting a roof is slanted at an angle of 38° from the horizontal.  If the horizontal distance under the beam is 4.6 meters, how long is the bea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Straight Connector 7"/>
          <p:cNvSpPr/>
          <p:nvPr/>
        </p:nvSpPr>
        <p:spPr>
          <a:xfrm>
            <a:off x="2818800" y="434340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2819520" y="5486400"/>
            <a:ext cx="10666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Callout 1 (Accent Bar) 15"/>
          <p:cNvSpPr/>
          <p:nvPr/>
        </p:nvSpPr>
        <p:spPr>
          <a:xfrm>
            <a:off x="4114800" y="5029200"/>
            <a:ext cx="12193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Rockwell"/>
              </a:rPr>
              <a:t>38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5056200" y="3244680"/>
                <a:ext cx="2747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Rectangle 19"/>
          <p:cNvSpPr/>
          <p:nvPr/>
        </p:nvSpPr>
        <p:spPr>
          <a:xfrm>
            <a:off x="685800" y="5638680"/>
            <a:ext cx="2590920" cy="38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2831040" y="54864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4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5500800" y="541008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Rockwell"/>
              </a:rPr>
              <a:t>X = 5.8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nearest tenth of a degree, give the measures of the angles in a right triangle whose sides have the given measur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1, 60, 61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Right Triangle 5"/>
          <p:cNvSpPr/>
          <p:nvPr/>
        </p:nvSpPr>
        <p:spPr>
          <a:xfrm flipH="1" flipV="1">
            <a:off x="3048120" y="3733200"/>
            <a:ext cx="5410080" cy="1447560"/>
          </a:xfrm>
          <a:prstGeom prst="rtTriangle">
            <a:avLst/>
          </a:prstGeom>
          <a:solidFill>
            <a:srgbClr val="17dbf5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5863680" y="4572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8388000" y="4191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5940000" y="3124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1081080" y="4191120"/>
                <a:ext cx="2260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34" name="Straight Arrow Connector 11"/>
          <p:cNvCxnSpPr/>
          <p:nvPr/>
        </p:nvCxnSpPr>
        <p:spPr>
          <a:xfrm flipV="1">
            <a:off x="2133720" y="3733560"/>
            <a:ext cx="129600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35" name="TextBox 14"/>
          <p:cNvSpPr/>
          <p:nvPr/>
        </p:nvSpPr>
        <p:spPr>
          <a:xfrm>
            <a:off x="4198320" y="3733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Rockwell"/>
              </a:rPr>
              <a:t>10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4390200" y="5334120"/>
            <a:ext cx="34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90 + 10.4 + y = 18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16"/>
          <p:cNvSpPr/>
          <p:nvPr/>
        </p:nvSpPr>
        <p:spPr>
          <a:xfrm>
            <a:off x="4596840" y="594360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y = 79.6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723920" y="16462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nd the measure of the acute angle formed by the line with equation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 = 3x and the x – ax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495680" cy="5600880"/>
          </a:xfrm>
          <a:prstGeom prst="rect">
            <a:avLst/>
          </a:prstGeom>
          <a:ln w="0">
            <a:noFill/>
          </a:ln>
        </p:spPr>
      </p:pic>
      <p:cxnSp>
        <p:nvCxnSpPr>
          <p:cNvPr id="441" name="Straight Arrow Connector 6"/>
          <p:cNvCxnSpPr/>
          <p:nvPr/>
        </p:nvCxnSpPr>
        <p:spPr>
          <a:xfrm flipV="1">
            <a:off x="914400" y="1219320"/>
            <a:ext cx="1372320" cy="4953240"/>
          </a:xfrm>
          <a:prstGeom prst="straightConnector1">
            <a:avLst/>
          </a:prstGeom>
          <a:ln w="57240">
            <a:solidFill>
              <a:srgbClr val="4774a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42" name="Straight Arrow Connector 9"/>
          <p:cNvCxnSpPr/>
          <p:nvPr/>
        </p:nvCxnSpPr>
        <p:spPr>
          <a:xfrm flipV="1">
            <a:off x="1749960" y="2210760"/>
            <a:ext cx="3960" cy="3734280"/>
          </a:xfrm>
          <a:prstGeom prst="straightConnector1">
            <a:avLst/>
          </a:prstGeom>
          <a:ln w="76320">
            <a:solidFill>
              <a:srgbClr val="4774a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3" name="TextBox 12"/>
          <p:cNvSpPr/>
          <p:nvPr/>
        </p:nvSpPr>
        <p:spPr>
          <a:xfrm>
            <a:off x="1903680" y="4114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1141560" y="5562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4"/>
              <p:cNvSpPr txBox="1"/>
              <p:nvPr/>
            </p:nvSpPr>
            <p:spPr>
              <a:xfrm>
                <a:off x="5499000" y="4572000"/>
                <a:ext cx="20829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TextBox 15"/>
          <p:cNvSpPr/>
          <p:nvPr/>
        </p:nvSpPr>
        <p:spPr>
          <a:xfrm>
            <a:off x="5902560" y="601992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Rockwell"/>
              </a:rPr>
              <a:t>X = 71.57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Pages 313 – 3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5 - 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3:56:11Z</dcterms:created>
  <dc:creator>student</dc:creator>
  <dc:description/>
  <dc:language>en-US</dc:language>
  <cp:lastModifiedBy>student</cp:lastModifiedBy>
  <dcterms:modified xsi:type="dcterms:W3CDTF">2010-12-15T15:31:50Z</dcterms:modified>
  <cp:revision>9</cp:revision>
  <dc:subject/>
  <dc:title>Trigonometric Ratios in Right Triangles</dc:title>
</cp:coreProperties>
</file>