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B78-E432-47C2-82CB-009D13E9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1E6-3B7E-4927-B06E-6CA054B2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E47794-DDB3-4A1C-A6D7-0A470D07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7CDA24-AD8C-456E-9899-42A10665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FAB17C-0143-4498-A388-2C29EBBF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92497E-F115-4FFB-98B0-3690FEE7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4031A4-7E8C-4F05-B615-C667A58B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A39320-78EF-4D78-A952-6D447194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FA88EE-0B6E-4FE8-8EB9-2A2ECD7E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857EC7-8661-4B35-AC8A-8388CF9D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135CB6-C786-4FBF-9413-D93BB9C1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121-354A-4309-9316-A44D3751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AD7-A86F-44F6-8E87-03B00087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59752-1317-424D-BAEA-CA6BFB2D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52999-ADE1-42FC-B76E-72B43738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D2896-B37E-484A-9F70-A6F971B9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32157-0B54-405B-807A-0EE43253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E25D1-FE60-4968-A712-810EC0D5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FF670-EAD0-4F35-91B6-B0A7F0EC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DA7EA-A786-40DB-B200-200AF08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0A0-B62C-4323-B70A-55DDF921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87225-B10B-4BC4-82F4-57EA8712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DCD68-0D3E-47C6-9CC1-191D4905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C121A-2F87-4E4D-80C0-E8523EB3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C4D75-CD69-4807-A864-BBF74F07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787D5-772E-4BB6-A08F-3B7E059A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600D9-A22B-4BB2-93D0-43E98F17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0E85-3BBD-4965-903F-42695C46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8941-3C9E-495F-9451-391D8B46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76B4-BB69-4F3A-B8CE-F90D61CE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462F-5F97-4F60-B399-760EC8CA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3A1-CB74-4C9E-BA05-B11D62C0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7BB1A-7290-46A9-9A62-B8A63CE9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2B0E-CB59-4C4D-8E3F-F8897C4A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C62B2-64FD-4AB4-9F97-522D52F1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23676-5330-4F86-B6E1-F3CFF2F8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CCBF-786B-442C-9194-C61EF7EF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32542-8E4A-4CE4-BFBC-043A942B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35E14-FBEB-4C2C-AC7E-57C8B8EA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7F761-D52F-4A8F-AA6E-D726767C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72E713-7D9F-4320-8C11-2B635B7C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5D2AC-3A05-4556-8684-8FAF974F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86E-44A0-4351-9E01-2EBEE226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90802-A310-49BE-BCA3-BCDDC3AB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2B6DC-129F-4132-9287-D9A459E0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D98A4-9558-49CF-B73A-08E5A46E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A6275-A063-4EF5-BE0D-8C6B3CFB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28C6C-3D4F-4E9A-A0A4-FA4F91DB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D09D7-8A3A-41D5-BC88-F8AE621A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256BE-D940-43E1-9671-19608244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7A2B5-D163-458C-8028-01E12833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AED82E-F2DF-47E3-9FC8-5BD1C9F5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9F202-7947-4D49-955D-B53EC883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3AC-12BE-46C1-B546-0E5951DE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0B2DF-E1E4-4906-9257-855B0BA1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2490-C49F-4057-8AE2-BD9F3A54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590B3-A893-4D17-866A-A8DE5A40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5A4E8-B0D6-4398-894B-340F475B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5943D-4B55-42A5-9E61-6E6DBE92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7D4A5-8271-4659-83DE-EE48A527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D0DE8-6D89-437E-B5AB-81ADB7A0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892AC-2139-4BBB-A137-798A88B9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1BDB-0943-4FE4-A6F8-0265A3B2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309C4-47E5-4EB3-AA76-AE643B2B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F78-6C2B-42CB-ABC6-1D116D83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05993-BB3B-4375-922A-78A5891F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7C8E4-C4F9-4A04-A1E0-FF23AC04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308F2-398B-42B4-ACAC-5F52E598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E9D5D-6379-47C7-AE91-14251501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3C284-149A-497F-81BD-E7174ED0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D216B-5B38-4F9C-87F8-3CAA546A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8C672-B8B9-4304-BF2D-0A2FE4BB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937EB-0D70-4789-A911-0C99AFEC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AC306-E10D-49EA-B139-BDA78D27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C6D4D-B824-4D17-BE3B-F8D667F6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913-6B2C-4950-A2AE-8939C345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41D84-F250-4F68-B570-EE33DDF1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11C97-063D-4A5B-A4BD-5DB1D47D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C7322-E823-410A-A689-BA204652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32DE8-D138-48A7-AB23-ADDC8C49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BE8DE-91B3-4217-8ED9-715796D8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889A1-CDE1-4817-8794-8F05C173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865B9-A3EB-4D16-8552-CE6C4280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F7A79-D558-41B1-82E6-A0C59B4F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C947E-F9AB-4F85-9A7F-48BD8DA8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75C9A-985C-44A3-88C3-69E2D0D7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DC1-0057-4154-95D4-B2A66597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3D15F-52FC-4127-B19D-0A1DCFFB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6021F-5F54-43CD-BB27-F02D66AD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1A15F-C76D-4CAC-B1D8-718ABC52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B2498-3329-4255-AC3B-87637384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729CD-49F3-4759-9F25-65DE3B19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8E7659-A5B6-4B0E-A0D6-87B8AC1D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CBBD4-F753-4B91-94AB-5AC4C2A8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AD139-5234-49FB-A8D9-85C1B39D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038B40-4416-4E0E-9C3D-DE661B27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5E49B-5DCF-4068-BBB5-B54189B8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C24-A6BA-47B5-A6BE-A75BFBC7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42AFB9-A938-4AD1-8825-1FFF299D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8F416F-5246-4F0C-B62F-1461892F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96F8B0-7271-4F7E-AFE0-F712031E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AC1FC3-B940-49D1-8FCF-9411B1C8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0AFB57-AA07-408D-84C1-ADF53396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44DF15-5545-4E61-8634-9B0F3F17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CBFC0E-C2F3-4B9D-9409-D899279F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90C524-D0C8-46C6-9367-7D298F8B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D1DE4A-E633-4AD7-B84F-A2E08F83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137487-F145-4FFA-A17C-F15CF815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7B3F-9DF0-4197-ACEA-F5E162E17C4D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E10D-0624-4420-B559-633BE4BAF591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8714-3D12-47AB-A374-3071F40FDEB6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7C4B-735A-4611-A4A7-7019B3301F69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E6DE-D15E-4947-9108-8DE6D71B8E62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5A47-808B-4F7A-A808-D59B34AA8F24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717F-426A-4042-9D76-4541C6EA15AF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F4D3-F7E9-40CB-8CBE-EBD3C2AD6D3D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2AE6-A4C6-48AF-B2EF-534CFE4D6406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 4.1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81160" y="92160"/>
            <a:ext cx="8710560" cy="9619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ockwell"/>
              </a:rPr>
              <a:t>SOH – CAH - TOA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Right Triangle 3"/>
          <p:cNvSpPr/>
          <p:nvPr/>
        </p:nvSpPr>
        <p:spPr>
          <a:xfrm>
            <a:off x="6095880" y="2971800"/>
            <a:ext cx="2362320" cy="2133720"/>
          </a:xfrm>
          <a:prstGeom prst="rtTriangle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600200" y="1981080"/>
                <a:ext cx="2660760" cy="455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TextBox 5"/>
          <p:cNvSpPr/>
          <p:nvPr/>
        </p:nvSpPr>
        <p:spPr>
          <a:xfrm>
            <a:off x="7696080" y="45720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ambria"/>
              </a:rPr>
              <a:t>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5295600" y="38862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o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6822720" y="518148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ad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7193160" y="3581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hy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68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grees &gt; minutes &gt; secon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re are 60 minutes in a degree (noted’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600 seconds in a degree (noted ”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. 57°34’15’’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 + 34/60 + 15/360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 + .567 + .0041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.5711°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1"/>
          <p:cNvSpPr/>
          <p:nvPr/>
        </p:nvSpPr>
        <p:spPr>
          <a:xfrm>
            <a:off x="4572000" y="3886200"/>
            <a:ext cx="358128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491680" cy="853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14400" y="838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that the distance from the top of a balcony to the edge of the pool is 86 feet.  The view from the balcony to the edge of the pool forms an angle of 60° along the horizon.  How high above the ground is the balcony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Straight Connector 4"/>
          <p:cNvSpPr/>
          <p:nvPr/>
        </p:nvSpPr>
        <p:spPr>
          <a:xfrm>
            <a:off x="152280" y="4800600"/>
            <a:ext cx="914400" cy="1440"/>
          </a:xfrm>
          <a:prstGeom prst="line">
            <a:avLst/>
          </a:prstGeom>
          <a:ln w="76320">
            <a:solidFill>
              <a:srgbClr val="477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724280" y="6095880"/>
            <a:ext cx="2514600" cy="53352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914400" cy="1352520"/>
          </a:xfrm>
          <a:prstGeom prst="rect">
            <a:avLst/>
          </a:prstGeom>
          <a:ln w="0">
            <a:noFill/>
          </a:ln>
        </p:spPr>
      </p:pic>
      <p:sp>
        <p:nvSpPr>
          <p:cNvPr id="412" name="Right Triangle 7"/>
          <p:cNvSpPr/>
          <p:nvPr/>
        </p:nvSpPr>
        <p:spPr>
          <a:xfrm flipH="1" rot="5400000">
            <a:off x="2056320" y="3733560"/>
            <a:ext cx="1905120" cy="3886200"/>
          </a:xfrm>
          <a:prstGeom prst="rtTriangle">
            <a:avLst/>
          </a:prstGeom>
          <a:solidFill>
            <a:srgbClr val="ffff00">
              <a:alpha val="30000"/>
            </a:srgbClr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8"/>
          <p:cNvSpPr/>
          <p:nvPr/>
        </p:nvSpPr>
        <p:spPr>
          <a:xfrm>
            <a:off x="2574360" y="502920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6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9"/>
          <p:cNvSpPr/>
          <p:nvPr/>
        </p:nvSpPr>
        <p:spPr>
          <a:xfrm flipH="1">
            <a:off x="3809160" y="6324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6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4648320" y="3886200"/>
                <a:ext cx="341316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rPr>
                            <m:lit/>
                            <m:nor/>
                          </m:rPr>
                          <m:t xml:space="preserve">fe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Box 12"/>
          <p:cNvSpPr/>
          <p:nvPr/>
        </p:nvSpPr>
        <p:spPr>
          <a:xfrm>
            <a:off x="7603560" y="571500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74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C:\Program Files\Microsoft Office 2007\MEDIA\CAGCAT10\j0185604.wmf"/>
          <p:cNvPicPr/>
          <p:nvPr/>
        </p:nvPicPr>
        <p:blipFill>
          <a:blip r:embed="rId1"/>
          <a:stretch/>
        </p:blipFill>
        <p:spPr>
          <a:xfrm>
            <a:off x="380880" y="3124080"/>
            <a:ext cx="3119400" cy="3124440"/>
          </a:xfrm>
          <a:prstGeom prst="rect">
            <a:avLst/>
          </a:prstGeom>
          <a:ln w="0">
            <a:noFill/>
          </a:ln>
        </p:spPr>
      </p:pic>
      <p:pic>
        <p:nvPicPr>
          <p:cNvPr id="418" name="Title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491680" cy="860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beam supporting a roof is slanted at an angle of 38° from the horizontal.  If the horizontal distance under the beam is 4.6 meters, how long is the beam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0" name="Straight Connector 7"/>
          <p:cNvSpPr/>
          <p:nvPr/>
        </p:nvSpPr>
        <p:spPr>
          <a:xfrm>
            <a:off x="2818800" y="4343400"/>
            <a:ext cx="1066680" cy="1143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traight Connector 8"/>
          <p:cNvSpPr/>
          <p:nvPr/>
        </p:nvSpPr>
        <p:spPr>
          <a:xfrm>
            <a:off x="2819520" y="5486400"/>
            <a:ext cx="106668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Callout 1 (Accent Bar) 15"/>
          <p:cNvSpPr/>
          <p:nvPr/>
        </p:nvSpPr>
        <p:spPr>
          <a:xfrm>
            <a:off x="4114800" y="5029200"/>
            <a:ext cx="12193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Rockwell"/>
              </a:rPr>
              <a:t>38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5056200" y="3244680"/>
                <a:ext cx="2747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Rectangle 19"/>
          <p:cNvSpPr/>
          <p:nvPr/>
        </p:nvSpPr>
        <p:spPr>
          <a:xfrm>
            <a:off x="685800" y="5638680"/>
            <a:ext cx="2590920" cy="38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17"/>
          <p:cNvSpPr/>
          <p:nvPr/>
        </p:nvSpPr>
        <p:spPr>
          <a:xfrm>
            <a:off x="2831040" y="548640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4.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20"/>
          <p:cNvSpPr/>
          <p:nvPr/>
        </p:nvSpPr>
        <p:spPr>
          <a:xfrm>
            <a:off x="5500800" y="541008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Rockwell"/>
              </a:rPr>
              <a:t>X = 5.8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 the nearest tenth of a degree, give the measures of the angles in a right triangle whose sides have the given measur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1, 60, 61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Right Triangle 5"/>
          <p:cNvSpPr/>
          <p:nvPr/>
        </p:nvSpPr>
        <p:spPr>
          <a:xfrm flipH="1" flipV="1">
            <a:off x="3048120" y="3733200"/>
            <a:ext cx="5410080" cy="1447560"/>
          </a:xfrm>
          <a:prstGeom prst="rtTriangle">
            <a:avLst/>
          </a:prstGeom>
          <a:solidFill>
            <a:srgbClr val="17dbf5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5863680" y="45720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6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8388000" y="41911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5940000" y="3124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1081080" y="4191120"/>
                <a:ext cx="2260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34" name="Straight Arrow Connector 11"/>
          <p:cNvCxnSpPr/>
          <p:nvPr/>
        </p:nvCxnSpPr>
        <p:spPr>
          <a:xfrm flipV="1">
            <a:off x="2133720" y="3733560"/>
            <a:ext cx="1296000" cy="4579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35" name="TextBox 14"/>
          <p:cNvSpPr/>
          <p:nvPr/>
        </p:nvSpPr>
        <p:spPr>
          <a:xfrm>
            <a:off x="4198320" y="3733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Rockwell"/>
              </a:rPr>
              <a:t>10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15"/>
          <p:cNvSpPr/>
          <p:nvPr/>
        </p:nvSpPr>
        <p:spPr>
          <a:xfrm>
            <a:off x="4390200" y="5334120"/>
            <a:ext cx="34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b47"/>
                </a:solidFill>
                <a:latin typeface="Rockwell"/>
              </a:rPr>
              <a:t>90 + 10.4 + y = 18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16"/>
          <p:cNvSpPr/>
          <p:nvPr/>
        </p:nvSpPr>
        <p:spPr>
          <a:xfrm>
            <a:off x="4596840" y="594360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b47"/>
                </a:solidFill>
                <a:latin typeface="Rockwell"/>
              </a:rPr>
              <a:t>y = 79.6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723920" y="16462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nd the measure of the acute angle formed by the line with equation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 = 3x and the x – axi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495680" cy="5600880"/>
          </a:xfrm>
          <a:prstGeom prst="rect">
            <a:avLst/>
          </a:prstGeom>
          <a:ln w="0">
            <a:noFill/>
          </a:ln>
        </p:spPr>
      </p:pic>
      <p:cxnSp>
        <p:nvCxnSpPr>
          <p:cNvPr id="441" name="Straight Arrow Connector 6"/>
          <p:cNvCxnSpPr/>
          <p:nvPr/>
        </p:nvCxnSpPr>
        <p:spPr>
          <a:xfrm flipV="1">
            <a:off x="914400" y="1219320"/>
            <a:ext cx="1372320" cy="4953240"/>
          </a:xfrm>
          <a:prstGeom prst="straightConnector1">
            <a:avLst/>
          </a:prstGeom>
          <a:ln w="57240">
            <a:solidFill>
              <a:srgbClr val="4774a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42" name="Straight Arrow Connector 9"/>
          <p:cNvCxnSpPr/>
          <p:nvPr/>
        </p:nvCxnSpPr>
        <p:spPr>
          <a:xfrm flipV="1">
            <a:off x="1749960" y="2210760"/>
            <a:ext cx="3960" cy="3734280"/>
          </a:xfrm>
          <a:prstGeom prst="straightConnector1">
            <a:avLst/>
          </a:prstGeom>
          <a:ln w="76320">
            <a:solidFill>
              <a:srgbClr val="4774a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43" name="TextBox 12"/>
          <p:cNvSpPr/>
          <p:nvPr/>
        </p:nvSpPr>
        <p:spPr>
          <a:xfrm>
            <a:off x="1903680" y="41148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Rockwel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13"/>
          <p:cNvSpPr/>
          <p:nvPr/>
        </p:nvSpPr>
        <p:spPr>
          <a:xfrm>
            <a:off x="1141560" y="5562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Rockwel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4"/>
              <p:cNvSpPr txBox="1"/>
              <p:nvPr/>
            </p:nvSpPr>
            <p:spPr>
              <a:xfrm>
                <a:off x="5499000" y="4572000"/>
                <a:ext cx="20829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TextBox 15"/>
          <p:cNvSpPr/>
          <p:nvPr/>
        </p:nvSpPr>
        <p:spPr>
          <a:xfrm>
            <a:off x="5902560" y="601992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Rockwell"/>
              </a:rPr>
              <a:t>X = 71.57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Rockwell"/>
              </a:rPr>
              <a:t>Pages 313 – 314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Rockwell"/>
              </a:rPr>
              <a:t>5 - 14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23:56:11Z</dcterms:created>
  <dc:creator>student</dc:creator>
  <dc:description/>
  <dc:language>en-US</dc:language>
  <cp:lastModifiedBy>student</cp:lastModifiedBy>
  <dcterms:modified xsi:type="dcterms:W3CDTF">2010-12-15T15:31:50Z</dcterms:modified>
  <cp:revision>9</cp:revision>
  <dc:subject/>
  <dc:title>Trigonometric Ratios in Right Triangles</dc:title>
</cp:coreProperties>
</file>