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546-2F59-4738-AC2C-3FC2B233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DB5-8183-4446-A518-38D5211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796DEA-2737-4C0A-A034-FC4FB5C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BFD2FF-D20E-4BF1-A4B4-7E00114E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952AA-C7FA-4E35-834C-17D14E5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862D3D-8D95-4234-87F1-D9794F4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4E06D-7AFF-4551-B68F-874C124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8D767-19CF-4519-89BD-14CA63D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B21A9-A20E-43BD-A441-F56ACB51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B3653-5513-4AF1-AED4-F27B4D8F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1304B-D26F-45AC-A4D8-988A3022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378-C85A-4D88-A829-049A9309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FCD-6FC1-4211-B745-5E6AB80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FAFC-8D60-402F-BCCD-DAA7C065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363C3-3FA4-4105-8B09-78F2D1A8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511CB-B25C-41B4-9A6D-44C22BE4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5D53B-1B55-4B1A-B244-4FF65E3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1341A-D5C3-4746-8A3C-9F4A89E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CD43-363B-4738-A510-80D7AB8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F212-0BF0-4DE5-B62F-CBA8BF3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AD5-019F-443A-ABE6-8054D54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64749-9EFA-4332-A0C2-B3CA471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D94E-7E1D-4AEC-835D-EFAA792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EC7BC-0E9D-4A2A-9FB2-53F22D5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28D76-1687-4F42-84EF-EBBC22A6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8ADD-65CD-4517-A6A4-B3658E3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6E67-D767-4BA1-B81B-EB9E1E4E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9133-5234-4B3A-BB84-3793B359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0CA4-CC3A-4558-BD9C-690913C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EDFF-B126-4D9F-847C-F061E19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2306-E89B-4632-8D99-EFA4954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4DB-17F8-46E4-B682-C49F6F01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C062-1F23-4413-BA79-DCD07D6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1B7B-9248-4679-9481-3C10CB3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9A75-6693-402F-A4BB-E899395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4102-0E3F-4863-8F70-E469C67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D645-EDDC-4D59-A724-4E032BB8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3FC1-FD19-4409-94A7-BB9E649B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02DD-79CD-43C2-99A5-C856D95A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7A804-6C9F-4AE6-BB5E-F50A2717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178BD-4FBF-43CF-BFA5-53A97804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67699-0AC9-434B-AEA3-8041B5E0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E48-F1E3-49E9-A16D-AF4D9336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0B667-7EBA-43B8-9498-BEEE5F7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64CF4-8050-4DC8-9649-945081E1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ECDEC-1617-4E65-9C4A-804522A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F1D49-0C15-47CF-B98A-00266BA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534C3-B3A0-4BAA-B19D-02BD839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B520D-6F7E-4E76-992E-FF380DBA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2567D-629E-449E-95D4-A59D37DD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44F92-D455-4FF9-9BA5-93D07AFA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67A4B-53BD-4023-8CF0-89C57F2D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FC97-2781-4398-8714-62725996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06E-72DD-4F57-A4A3-C0DD80D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4A81-5B6F-412C-AC62-B7A7FF3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4ACB-37D6-4930-8CC9-2835CFD4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5ABC-A88D-4841-929A-E87E055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305E-A929-4443-B125-37A824CF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AFA8-E847-49C8-B120-1E22DEC0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56AA-DA26-4AA6-9622-9AE9037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A0CF-5920-4D97-A36C-0183665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1032-0496-4188-8A53-F03AD1A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5184-F9DE-4737-99B4-0399F612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A4FE-6DD1-48AB-B71F-F59E253F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7C4-6ECA-4136-A8B9-0DE2686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3411-3136-4B89-8281-ADA73DEF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4630-02F6-4437-BDF9-E644EBBD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B3508-059E-462F-ABF8-A070BA6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0492-C8F6-4996-AA0D-10F47F5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FCDE-DED0-4840-B238-374FB915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59C0-18A0-4D1E-8347-00C4C16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7290-3D77-4DCD-80AE-007F552F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B82C9-2570-4940-B536-1155090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3490A-1DA5-4512-9E21-D58AB96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5325-64F2-4DAB-9802-5D85F13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486-BE28-44EF-913A-6D42D6D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EBA5-628E-424C-BDE6-96482EB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9CD98-2811-4D15-972F-5539C215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6E93-6AA2-45B0-BC2A-7432CD5D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5C713-22C0-43AD-8403-EDF349A1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42229-AD68-4774-9F2C-C6B642A6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687B6-D9AF-47CF-B815-6AC2DB4B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3461-7600-410B-8635-662A1BC6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EA9D-A03F-4F13-905C-EDBAB33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7D7B-8DD6-4A65-921A-F3C736C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76211-E5F1-4A38-B2D6-7DBA7EF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452-71A5-46A7-8E08-707FCBD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E4C0-FE05-48A4-BC17-0AEE41C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310C1-8A18-4625-9487-5C20A8F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5D8F-4EFE-454A-9668-0C2697C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1E24-EBA7-44F4-A59F-7A1119E0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FADE-5B8D-4C93-B16C-7695DB88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E971C-7D61-44BC-85A0-581C58A3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CA4CB-B2E4-4EB6-B0E3-4E72611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AA082-3655-4B5F-8EE5-D9EF7C4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B3E85-EC5E-4D75-A63D-D8D315A8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A3EC9-0DF1-4810-BA31-F87BDBF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640-7ED0-4F4C-B147-BCEE076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9CDC1-0A3A-4647-8B28-24E6E76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1A80F-91C5-4863-BF7F-C3EA51C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5CC5CE-C24F-44CC-ADBE-FF8E5E1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9ABC2-ACAB-4ECA-9F5D-2867859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4103E3-68E3-4871-B1EE-79F0B27A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FA41B-C733-4B83-A488-2A938104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69B22-8BB8-4F03-AB05-D30A84F1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656665-41CA-49E2-B726-E5D20588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F95B5-7485-4A65-89BA-D10A8F5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1ADE8-E39A-4E56-A30B-39619E2B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AA6-D555-4C4E-9D11-81349A75F1D5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3840-3A3A-445C-B5E4-7FC573A85BE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C7F1-5092-4FA1-83CC-008867A51C2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500-551B-4DFC-B455-E5D6EAB62A0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791-F149-4072-ADB7-4F2BE294300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FC1-A4CA-4AE0-A61F-7F44F6BE1D7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4D95-B424-48F1-99F9-0B363DC0997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80F-9986-4C11-BD37-2826B09FC82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051-32B0-4C8E-942F-1DFE2C7B780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2.7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131 – 133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7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9 - 2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aluate functions described with Euler’s not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dentify the variables, domain, and range of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 step functions to model situ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aph step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erpret properties of relations from graph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2286000" y="2133720"/>
            <a:ext cx="45720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ep Functions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Content Placeholder 4" descr="step function.png"/>
          <p:cNvPicPr/>
          <p:nvPr/>
        </p:nvPicPr>
        <p:blipFill>
          <a:blip r:embed="rId2"/>
          <a:stretch/>
        </p:blipFill>
        <p:spPr>
          <a:xfrm>
            <a:off x="2057400" y="205740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reatest integer function is the function f such that for every real number x, f(x) is the greatest integer ≤ 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unding down or the floor fun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oted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your calculator, MATH, NUM, 5 (IN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1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"/>
          <p:cNvPicPr/>
          <p:nvPr/>
        </p:nvPicPr>
        <p:blipFill>
          <a:blip r:embed="rId4"/>
          <a:stretch/>
        </p:blipFill>
        <p:spPr>
          <a:xfrm>
            <a:off x="2743200" y="4529160"/>
            <a:ext cx="533520" cy="576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1055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 (2</a:t>
            </a:r>
            <a:r>
              <a:rPr b="0" lang="el-GR" sz="3200" spc="-1" strike="noStrike">
                <a:solidFill>
                  <a:srgbClr val="ff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439640" cy="685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295640" cy="7603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numbers x such th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the numbers x such that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many buses are needed to transport s students if each bus can hold 44 students and no other means of transportation is u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it costs $50 to rent a bus in the last example.  What will it cost to transport 300 student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2:01:23Z</dcterms:created>
  <dc:creator>teacher</dc:creator>
  <dc:description/>
  <dc:language>en-US</dc:language>
  <cp:lastModifiedBy>Laura Helbing</cp:lastModifiedBy>
  <dcterms:modified xsi:type="dcterms:W3CDTF">2011-10-02T02:21:27Z</dcterms:modified>
  <cp:revision>5</cp:revision>
  <dc:subject/>
  <dc:title>Step Functions</dc:title>
</cp:coreProperties>
</file>