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DD94-3C31-4B38-A60F-2B74E4270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591F-B031-4845-9F87-38ABAA87E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376AEEB-E455-4580-95F3-B042C5646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CED3303-AC73-4E5F-A98D-DB2BCA3F0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B558F25-9415-4D5C-A8D8-2E29B23DF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D56420D-335F-446A-8B08-FC0003293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367D61F-B113-4713-A364-9DBD9A22A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3643D31-1C3E-44C1-BCFE-EC80C65C4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490A100-AFF4-4EFC-A28D-27C03E51D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A7D0718-8E2C-42A1-8EC4-27F8146EB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1146F87-6D4F-4E76-84DE-EAAD2CAE4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5AD5-EA9A-4403-9F98-1F64B8B13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1EBC-F941-49BC-9F50-A32FF7286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30A5C9-846A-427C-A847-BCBAB5EFD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2ABC81-B9AE-4039-AE8D-E651EE287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27AEE7-4666-4336-BBEE-107428015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87CC38-1632-4D54-B68C-5B7890041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4D15AC-B397-48B4-BD95-C8BCDDA45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9BE9C0-46FA-445A-B15E-B9954080E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3D7200-B261-4592-9CC7-4A08423AA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B23A-96C0-4AEB-93DE-B45B0BC9D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1E425A-C297-4150-B9CC-9B57D303D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543C24-5342-494B-9B8A-84AB42AB7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5EC906-E506-4EA5-AF22-623415413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D7EF3C-7719-433D-91E9-C30FF9494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11A37C-EA2B-4916-9C18-E5788B3F3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5CE63-A4CD-495C-9B6B-67FB8E679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3E057-BD2F-42DB-A95E-1A626DA48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1F500-622F-453E-B59B-2D80A5CEB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6FB59-BB35-4210-8246-B341A1983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EC442-CA34-4669-8F23-A0460231F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FC2A-39CD-4E50-BFD9-75BFCA369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447AF-94D0-4BF3-A5C2-4AD62265C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490F6-9218-4736-AFAD-48FA34EA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9CA57-3EAB-49A5-93D0-E656289E0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87E42-696C-4E52-B0B1-839D5B1A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69FA1-626A-4105-B442-C368AF995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46E1D-1815-4475-82D2-D33190958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98CC1-BF03-44AB-840F-D394B21F0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EEB9BD-CC1B-4911-B3D4-A0B9EE0A8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913D62-BD1F-4E88-821B-8C17C69B8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838591-DBB1-48AF-A6A5-639D0DF6F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646E-34C3-4E1A-9103-F69C95CB0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E69D20-2F07-47C2-83C2-5E77006D4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CEA4C5-6882-4FBD-A87F-5AC856EC1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6EDBE1-C1E2-4428-9A09-DA226A24D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1086B7-DA42-47BC-BF9D-1F9302B0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0C00FB-6B5E-45C3-98A7-7D96D72DD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704A7E-A44D-4972-99C2-C02FFEBF9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DA9BEF-95D9-48BB-ACDC-BDF62AB4C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0F228D-7D9A-4436-851B-7CCF65075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138CC3-839F-4306-BBDD-548366A93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00AA3B-A6DC-4BA9-8622-5D9E7FC67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B92C-03B3-4692-A565-C44FB02B2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DCA0E-9993-49B6-A144-00DF96492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9F4FE-FFF0-4B92-9262-568A26FFC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5203BA-F0F8-4059-9B6F-B7FA53FB1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84EADD-29A6-44CC-BEC7-95FBB144A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88999-07F8-4D1A-B696-BDEFE6FD7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DF6E6-F21F-4360-A474-FD3CBB5B6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12F329-35D9-4608-9FA3-16366D5E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02C70F-E8DB-463F-935E-277B19F8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124E04-76DB-4269-A40A-83C7FE322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28ED17-7D14-4F67-8EF8-1B656B474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91C5-59EA-4C91-B355-A72DEDE42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EBCF9-AA63-47E9-8E94-49FD4F921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B14861-1BEF-4CBD-91EA-7EC41BDC2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63E69B-6517-4E9B-8CB8-FC425EC7C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04E32B-853E-4F53-92F2-E64586BF0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E4265-4582-4A3C-A046-AC02A193A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51CE39-8B32-4A70-B2E8-69FCEE4EC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C6B18A-D67E-420A-AACF-2530CE2BB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66110C-70BE-4B83-8376-7519B267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0AAEB9-7423-4037-A448-6DF1467F1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B95836-068E-4533-A20C-D4129A2C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790F-6B97-4214-9300-727D463C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94F0B9-34F1-4511-A6C1-3180F9ECE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3FD904-8402-4A94-8D50-40B19945D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2DDFB8-9ADD-4F5A-BDCE-27D405DC0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F54B64-2180-4D33-A36E-AB9945C5D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B62157-6A80-483D-83A3-892CDE041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35EBCD-39E2-4532-82F8-99C631170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C60407-D883-4695-B2DB-94EAE9D99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D32F56-566C-430D-A4DB-5DF7184F1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F54CA1-CBB4-4073-9691-C128ED108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43FD45-0076-4AF7-AAD1-C0186A3ED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3E05-29EB-4FCF-BA96-8F62835DE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DF8CA2-F514-4282-A409-3FA44957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B3B950-B13C-44CC-B6A8-24D0A16BD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EDBA84-A481-455C-86C6-44EB52053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AB0575-6887-4C87-A594-BD30A0B26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E876E7-B051-409B-BEAF-F8F3F631F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603BB86-459A-47C8-9CD9-2FC8AD4C0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51F2CA-283D-43A0-806E-675DF2FD3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619364-E088-4926-B9B0-4D4EAD9D6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819BC7-AD02-4047-AEBE-0EF3F1E8B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EA6463B-9E5F-4ED5-9FA4-ABBC6A892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A82F-6185-4257-810F-51FCD11D6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EE6AA57-D576-4014-B182-27A3D39A8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B9E2168-5935-4DD0-BF32-A097FFA4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128AA6-3585-496E-9B5D-1878336C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6C07E7-71E1-42EC-8E42-EE28FC82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C4F30E1-B853-4382-B651-62FA284E8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EEB3F02-B624-40EB-A88B-DB59AFC31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CFEA5A-EE62-4512-A496-70927E707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D9364CA-F518-408D-B7B7-3804E8347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D3C28B8-749C-447A-9C51-E07F2012A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E0AA99F-5FA2-4CF4-9E2B-6D2C71A4E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3e1d7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C9BAD-91C0-4384-AAF7-96D51C1BCFCF}" type="slidenum">
              <a:rPr b="0" lang="en-US" sz="1600" spc="-1" strike="noStrike">
                <a:solidFill>
                  <a:srgbClr val="e3e1d7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 Diagonal Corner Rectangle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3e1d7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34635-1D15-4B3F-85F7-47271399FFC4}" type="slidenum">
              <a:rPr b="0" lang="en-US" sz="1600" spc="-1" strike="noStrike">
                <a:solidFill>
                  <a:srgbClr val="e3e1d7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3e1d7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F8230-F072-4440-8085-EA08DA72051F}" type="slidenum">
              <a:rPr b="0" lang="en-US" sz="1600" spc="-1" strike="noStrike">
                <a:solidFill>
                  <a:srgbClr val="e3e1d7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3e1d7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60778-D5B9-43DB-97FA-0B8675199EA1}" type="slidenum">
              <a:rPr b="0" lang="en-US" sz="1600" spc="-1" strike="noStrike">
                <a:solidFill>
                  <a:srgbClr val="e3e1d7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3e1d7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0869E-03D1-4C9F-8577-AA07D9AA80E8}" type="slidenum">
              <a:rPr b="0" lang="en-US" sz="1600" spc="-1" strike="noStrike">
                <a:solidFill>
                  <a:srgbClr val="e3e1d7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3e1d7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615AF-6BEC-4A7B-B4BA-C9EE2DF600BD}" type="slidenum">
              <a:rPr b="0" lang="en-US" sz="1600" spc="-1" strike="noStrike">
                <a:solidFill>
                  <a:srgbClr val="e3e1d7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3e1d7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BF757-6447-4562-9920-881179463B99}" type="slidenum">
              <a:rPr b="0" lang="en-US" sz="1600" spc="-1" strike="noStrike">
                <a:solidFill>
                  <a:srgbClr val="e3e1d7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3e1d7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F096D-9258-4316-886D-BE93DFC0132A}" type="slidenum">
              <a:rPr b="0" lang="en-US" sz="1600" spc="-1" strike="noStrike">
                <a:solidFill>
                  <a:srgbClr val="e3e1d7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3e1d7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B3269-A4A1-409C-9B6C-35497E89A91C}" type="slidenum">
              <a:rPr b="0" lang="en-US" sz="1600" spc="-1" strike="noStrike">
                <a:solidFill>
                  <a:srgbClr val="e3e1d7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Lesson 2.7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Rockwell"/>
              </a:rPr>
              <a:t>Pages 131 – 133</a:t>
            </a:r>
            <a:endParaRPr b="0" lang="en-US" sz="8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Rockwell"/>
              </a:rPr>
              <a:t>1 - 17</a:t>
            </a:r>
            <a:endParaRPr b="0" lang="en-US" sz="8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Rockwell"/>
              </a:rPr>
              <a:t>19 - 21</a:t>
            </a:r>
            <a:endParaRPr b="0" lang="en-US" sz="8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Evaluate functions described with Euler’s notatio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Identify the variables, domain, and range of function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Use step functions to model situation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Graph step function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Interpret properties of relations from graphs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5"/>
          <p:cNvSpPr/>
          <p:nvPr/>
        </p:nvSpPr>
        <p:spPr>
          <a:xfrm>
            <a:off x="2286000" y="2133720"/>
            <a:ext cx="4572000" cy="457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9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tep Functions: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01" name="Content Placeholder 4" descr="step function.png"/>
          <p:cNvPicPr/>
          <p:nvPr/>
        </p:nvPicPr>
        <p:blipFill>
          <a:blip r:embed="rId2"/>
          <a:stretch/>
        </p:blipFill>
        <p:spPr>
          <a:xfrm>
            <a:off x="2057400" y="2057400"/>
            <a:ext cx="4524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85840" indent="-28584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e greatest integer function is the function f such that for every real number x, f(x) is the greatest integer ≤ x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85840" indent="-28584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85840" indent="-285840">
              <a:lnSpc>
                <a:spcPct val="100000"/>
              </a:lnSpc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Rounding down or the floor functio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85840" indent="-28584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85840" indent="-28584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Denoted,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85840" indent="-28584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85840" indent="-28584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On your calculator, MATH, NUM, 5 (INT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8" name="Picture 6" descr=""/>
          <p:cNvPicPr/>
          <p:nvPr/>
        </p:nvPicPr>
        <p:blipFill>
          <a:blip r:embed="rId2"/>
          <a:stretch/>
        </p:blipFill>
        <p:spPr>
          <a:xfrm>
            <a:off x="0" y="457200"/>
            <a:ext cx="352440" cy="380880"/>
          </a:xfrm>
          <a:prstGeom prst="rect">
            <a:avLst/>
          </a:prstGeom>
          <a:ln w="0">
            <a:noFill/>
          </a:ln>
        </p:spPr>
      </p:pic>
      <p:sp>
        <p:nvSpPr>
          <p:cNvPr id="409" name="Rectangle 8"/>
          <p:cNvSpPr/>
          <p:nvPr/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1" name="Picture 9" descr=""/>
          <p:cNvPicPr/>
          <p:nvPr/>
        </p:nvPicPr>
        <p:blipFill>
          <a:blip r:embed="rId3"/>
          <a:stretch/>
        </p:blipFill>
        <p:spPr>
          <a:xfrm>
            <a:off x="0" y="457200"/>
            <a:ext cx="352440" cy="380880"/>
          </a:xfrm>
          <a:prstGeom prst="rect">
            <a:avLst/>
          </a:prstGeom>
          <a:ln w="0">
            <a:noFill/>
          </a:ln>
        </p:spPr>
      </p:pic>
      <p:sp>
        <p:nvSpPr>
          <p:cNvPr id="412" name="Rectangle 11"/>
          <p:cNvSpPr/>
          <p:nvPr/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Rectangle 14"/>
          <p:cNvSpPr/>
          <p:nvPr/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6" name="Picture 15" descr=""/>
          <p:cNvPicPr/>
          <p:nvPr/>
        </p:nvPicPr>
        <p:blipFill>
          <a:blip r:embed="rId4"/>
          <a:stretch/>
        </p:blipFill>
        <p:spPr>
          <a:xfrm>
            <a:off x="2743200" y="4529160"/>
            <a:ext cx="533520" cy="576360"/>
          </a:xfrm>
          <a:prstGeom prst="rect">
            <a:avLst/>
          </a:prstGeom>
          <a:ln w="0">
            <a:noFill/>
          </a:ln>
        </p:spPr>
      </p:pic>
      <p:sp>
        <p:nvSpPr>
          <p:cNvPr id="417" name="Rectangle 17"/>
          <p:cNvSpPr/>
          <p:nvPr/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491680" cy="115884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3" descr=""/>
          <p:cNvPicPr/>
          <p:nvPr/>
        </p:nvPicPr>
        <p:blipFill>
          <a:blip r:embed="rId2"/>
          <a:stretch/>
        </p:blipFill>
        <p:spPr>
          <a:xfrm>
            <a:off x="1981080" y="2133720"/>
            <a:ext cx="5105520" cy="44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INT (2</a:t>
            </a:r>
            <a:r>
              <a:rPr b="0" lang="el-GR" sz="3200" spc="-1" strike="noStrike">
                <a:solidFill>
                  <a:srgbClr val="ffffff"/>
                </a:solidFill>
                <a:latin typeface="Cambria"/>
              </a:rPr>
              <a:t>π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3" name="Picture 1" descr=""/>
          <p:cNvPicPr/>
          <p:nvPr/>
        </p:nvPicPr>
        <p:blipFill>
          <a:blip r:embed="rId2"/>
          <a:stretch/>
        </p:blipFill>
        <p:spPr>
          <a:xfrm>
            <a:off x="990720" y="2133720"/>
            <a:ext cx="1439640" cy="68580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3"/>
          <p:cNvSpPr/>
          <p:nvPr/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6" name="Picture 4" descr=""/>
          <p:cNvPicPr/>
          <p:nvPr/>
        </p:nvPicPr>
        <p:blipFill>
          <a:blip r:embed="rId3"/>
          <a:stretch/>
        </p:blipFill>
        <p:spPr>
          <a:xfrm>
            <a:off x="1066680" y="4114800"/>
            <a:ext cx="1295640" cy="760320"/>
          </a:xfrm>
          <a:prstGeom prst="rect">
            <a:avLst/>
          </a:prstGeom>
          <a:ln w="0">
            <a:noFill/>
          </a:ln>
        </p:spPr>
      </p:pic>
      <p:sp>
        <p:nvSpPr>
          <p:cNvPr id="427" name="Rectangle 6"/>
          <p:cNvSpPr/>
          <p:nvPr/>
        </p:nvSpPr>
        <p:spPr>
          <a:xfrm>
            <a:off x="0" y="905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Rectangle 9"/>
          <p:cNvSpPr/>
          <p:nvPr/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Describe all numbers x such th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Describe all the numbers x such that 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3" name="Picture 1" descr=""/>
          <p:cNvPicPr/>
          <p:nvPr/>
        </p:nvPicPr>
        <p:blipFill>
          <a:blip r:embed="rId1"/>
          <a:stretch/>
        </p:blipFill>
        <p:spPr>
          <a:xfrm>
            <a:off x="3200400" y="2514600"/>
            <a:ext cx="2057400" cy="685800"/>
          </a:xfrm>
          <a:prstGeom prst="rect">
            <a:avLst/>
          </a:prstGeom>
          <a:ln w="0">
            <a:noFill/>
          </a:ln>
        </p:spPr>
      </p:pic>
      <p:sp>
        <p:nvSpPr>
          <p:cNvPr id="434" name="Rectangle 3"/>
          <p:cNvSpPr/>
          <p:nvPr/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6" name="Picture 4" descr=""/>
          <p:cNvPicPr/>
          <p:nvPr/>
        </p:nvPicPr>
        <p:blipFill>
          <a:blip r:embed="rId2"/>
          <a:stretch/>
        </p:blipFill>
        <p:spPr>
          <a:xfrm>
            <a:off x="3124080" y="4572000"/>
            <a:ext cx="2514600" cy="838080"/>
          </a:xfrm>
          <a:prstGeom prst="rect">
            <a:avLst/>
          </a:prstGeom>
          <a:ln w="0">
            <a:noFill/>
          </a:ln>
        </p:spPr>
      </p:pic>
      <p:sp>
        <p:nvSpPr>
          <p:cNvPr id="437" name="Rectangle 6"/>
          <p:cNvSpPr/>
          <p:nvPr/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How many buses are needed to transport s students if each bus can hold 44 students and no other means of transportation is used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uppose it costs $50 to rent a bus in the last example.  What will it cost to transport 300 students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02:01:23Z</dcterms:created>
  <dc:creator>teacher</dc:creator>
  <dc:description/>
  <dc:language>en-US</dc:language>
  <cp:lastModifiedBy>Laura Helbing</cp:lastModifiedBy>
  <dcterms:modified xsi:type="dcterms:W3CDTF">2011-10-02T02:21:27Z</dcterms:modified>
  <cp:revision>5</cp:revision>
  <dc:subject/>
  <dc:title>Step Functions</dc:title>
</cp:coreProperties>
</file>