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BB2-1E5B-488B-AEF0-8DD79C31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4E05-C7C9-4843-88FF-10E9775E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0823BC-1E6C-49B6-A957-A9A18B26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9F9C5F-EE2E-4800-86A1-5680B800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C6052C-AE45-4AC5-84F7-DE11F0C9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C30426-6416-4720-B1EB-3533263A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345FB-A356-4325-A591-A63AC729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C565DA-2827-4DCF-B374-C58CC9F0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EBA448-9620-4506-91F8-3BDB3047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8EC6B8-5098-480C-BAAC-902FAC84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245846-7985-4F9E-BCB7-2237936F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E87-F103-4C71-B33A-8678B94A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AF9-62B6-4AD2-A2E3-6F3EC0C8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7A776-0FEF-472F-8ED5-3B99CA95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63910-AF55-4678-AA64-FD3C1B7D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895B1-CE4B-403B-9657-AA81337F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C007F-6DE7-4E2E-B90D-6FB4795B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F61C2-F70B-41A8-B798-5F452160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D504A-4B8F-4600-80CB-8F6CCB72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824F5-2140-4070-AAA0-BC96B93E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DBDC-F558-4B2D-974A-01ADCE6A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4010B-DD88-4323-8816-2366BC40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53545-B047-4E23-B965-4083BD10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57791-B85C-40A9-9EF6-835335B7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6AC73-ABE1-4198-8FC8-CB1C57D4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C7E7F-2C05-423F-A086-412BA97E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BA65-EA98-427F-9CF2-FA0966CB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C171-101D-4D0B-80A1-A721A314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2EE6-F0AE-4EC4-AF51-55F23F50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5468-5683-4A86-B567-112E1981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5CD43-CEC5-47CA-B7B8-6F6D5EDE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67F-FCE5-4D3F-B3AE-3B8DD45B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F5E9-C0CF-4E2D-BAE2-C95392F1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AF90-D9EA-4FFF-9ADD-A12A056C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02D1-DB49-46B1-ADF5-B0CF1CF5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120F-6B8B-4130-A3A0-BC9579DA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9CF24-C698-401E-AC5E-2C251769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E9A41-9763-4B72-BA41-8AA2FAFE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0027-9451-44FA-B942-27329157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39C15-4477-4CE7-91FF-0A9DEFE4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54CD3-A0D1-4976-83A1-FAC353A3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24A82-7F6D-4208-8ACA-C13A0D34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6BF-BF76-4517-A325-F6EE28BE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CC09B-2D15-40ED-9AA5-39D9E2E6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6BD43-82E3-4F7D-9F01-673D9397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B4643B-941E-4534-9E7A-AA7DF77D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07500-9391-4527-BC43-971B6BC7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B13A2F-319B-4CF0-AB2E-42307070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9879D-36ED-47A5-85FD-B4466D9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1B502-ACD8-4F77-87C5-447B48A2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DE95B-80C6-4587-88A5-723F2FD1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5E7A7-96DE-4197-86B5-2C61CD44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5F455-094C-4FE7-9938-B3DB8078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8B6-E01C-484E-8D7C-DDCE1986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75269-5ED3-4B31-A104-55E5813B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A50AD-9E46-4C5E-9382-16BF19F7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03059-9112-41D6-A1D4-B39A6882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3CB4-0CA6-4509-A6DB-2D7831D9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10016-1409-4242-9350-4C1564FF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402AB-28B6-44FF-95B0-23D57ABC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BEFE4-F1AF-4652-8533-9107FCE8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112FC-7DE4-4AE9-9CB7-B952F6FE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BD4A-D099-42F6-95D6-766B2DE4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F337-E69C-4C05-A9BB-80642124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79B-7A89-49A1-8155-FBF35A17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E94D-B37C-408E-A3EF-61D8933B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FE100-2E14-4DB8-B9D1-C732D7E2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1704E-FB5A-4FEE-AF84-DE556DA1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F4CE-ADD9-4AD3-8DF8-3721884A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6368-FF5F-441B-9659-3FBD429A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8EA98-D85B-4119-89F7-F0196F7D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D63CD-8E77-4163-B8E9-0BEFFC1E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ACF83-6068-4FD2-8139-4A97F705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E6253-8BBD-497F-A513-67A3CC7D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07DCF-E6C9-4CC0-B402-50388549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9068-453E-4480-9470-00BD6946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64F8C-090E-41B6-8266-18A57733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119ED-814F-4E5D-BD17-059BEBFA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0FE0E-D595-4E95-BCE7-C040F224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CB5A1-5C3C-4318-9570-B6B989AF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8ED9B-60C3-4F2D-93D0-20B87503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F0679-B5EC-4FD0-92B4-48215477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5065C-6636-40E5-8561-9F16DA5F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44CF5-1266-4787-A7FF-0F1297AA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CA513-3C25-43DF-A9CA-33CDD8FC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12B9B-6ACF-4DAB-8E4F-58D0754E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D59A-03C0-44CC-AB65-AC0A9FF8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47675-083A-419D-A3A3-BE3B20EE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84F30-B1C6-48D9-B338-95933F4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54B6E-9B6A-4FC1-807B-466DB522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A16B2-175D-4C5A-A92D-CDC7A89B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52A9D-2228-4343-BAA6-176534AD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B1D8CB-CC40-4AA0-AC0C-E13A712A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C9C749-5448-4ED8-8F62-7E88A087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9B8619-B4BE-42D3-9C50-49221426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4860D4-CC76-45BA-B867-2C81DE3B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797D7B-9F5A-4CBF-A173-2F404664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A0B-E2A9-4EDE-8D91-7069A84E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010CB0-831F-455C-9F16-B3CDED3B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A49CE-FF77-4C85-9028-52196F08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57338-4283-4509-AC76-BB0AC7C9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65DFF5-608D-4899-BBA1-AE450061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4CC868-0801-4EA1-93B5-7FE21375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60B9A-CC20-4844-97E1-DD27B7C2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1C464F-ED33-4D8F-84A9-6AA42662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0F9C3F-0F57-427A-931C-60755702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A44290-B461-45F6-9FDD-3C1D81ED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31425-CF7B-4E90-8CD3-AE151AB4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8527-522B-427B-A45F-2CD1B9DC6AEB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C81B-7B8C-43D1-9311-E79D79517F7E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50C2-38F0-4875-971B-A3A424FC4EA8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5559-B2CA-4F8C-B35C-54709493E3EE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93F1-01C5-45A0-9CFB-965A722124BA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F881-E96A-455A-8D72-3FA848750D9A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20EF-D81C-42F1-88B3-CCA4CE58E8A6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63FA-1F62-4256-A867-41E83B8BD9D8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3520-4106-4365-AAC1-85BA11C973DB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sson 2.7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Pages 131 – 133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 - 17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9 - 21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valuate functions described with Euler’s not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dentify the variables, domain, and range of func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se step functions to model situa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aph step func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terpret properties of relations from graph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2286000" y="2133720"/>
            <a:ext cx="457200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ep Functions: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1" name="Content Placeholder 4" descr="step function.png"/>
          <p:cNvPicPr/>
          <p:nvPr/>
        </p:nvPicPr>
        <p:blipFill>
          <a:blip r:embed="rId2"/>
          <a:stretch/>
        </p:blipFill>
        <p:spPr>
          <a:xfrm>
            <a:off x="2057400" y="205740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greatest integer function is the function f such that for every real number x, f(x) is the greatest integer ≤ x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ounding down or the floor fun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noted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your calculator, MATH, NUM, 5 (INT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2"/>
          <a:stretch/>
        </p:blipFill>
        <p:spPr>
          <a:xfrm>
            <a:off x="0" y="457200"/>
            <a:ext cx="352440" cy="3808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9" descr=""/>
          <p:cNvPicPr/>
          <p:nvPr/>
        </p:nvPicPr>
        <p:blipFill>
          <a:blip r:embed="rId3"/>
          <a:stretch/>
        </p:blipFill>
        <p:spPr>
          <a:xfrm>
            <a:off x="0" y="457200"/>
            <a:ext cx="352440" cy="380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1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5" descr=""/>
          <p:cNvPicPr/>
          <p:nvPr/>
        </p:nvPicPr>
        <p:blipFill>
          <a:blip r:embed="rId4"/>
          <a:stretch/>
        </p:blipFill>
        <p:spPr>
          <a:xfrm>
            <a:off x="2743200" y="4529160"/>
            <a:ext cx="533520" cy="5763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1055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T (2</a:t>
            </a:r>
            <a:r>
              <a:rPr b="0" lang="el-GR" sz="3200" spc="-1" strike="noStrike">
                <a:solidFill>
                  <a:srgbClr val="ff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1439640" cy="6858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1295640" cy="7603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all numbers x such th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all the numbers x such that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057400" cy="6858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124080" y="4572000"/>
            <a:ext cx="2514600" cy="8380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many buses are needed to transport s students if each bus can hold 44 students and no other means of transportation is used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it costs $50 to rent a bus in the last example.  What will it cost to transport 300 student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2:01:23Z</dcterms:created>
  <dc:creator>teacher</dc:creator>
  <dc:description/>
  <dc:language>en-US</dc:language>
  <cp:lastModifiedBy>Laura Helbing</cp:lastModifiedBy>
  <dcterms:modified xsi:type="dcterms:W3CDTF">2011-10-02T02:21:27Z</dcterms:modified>
  <cp:revision>5</cp:revision>
  <dc:subject/>
  <dc:title>Step Functions</dc:title>
</cp:coreProperties>
</file>