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85E1-2C3D-4AC9-9711-88F9F89F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440-C4D6-4CDF-969C-6560152F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F04212-C438-4769-BFE3-38E4AB81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E7CFC5-5428-4A26-B81A-1C939DC0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D78C2B-2531-4492-9C71-62EE96DB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607BBC-6B47-44D4-B1D2-D2EF04BD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E5232A-51BA-485D-861A-922BADBB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67C060-61C8-4614-8162-516A5E31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6F9F1F-EDF0-46C4-8098-BB0B670A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61A078-FC37-4E66-B6BA-E7CA6229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DF54AF-ECA3-4830-8D24-AE550218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6F2-AB04-4BCC-B2E3-4229A552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C6D5-BB6E-4860-BC80-7C303BA4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64E0D-DA8E-4216-8824-BC8CECDF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03319-86D8-4A1B-B338-582C40B9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A8728-4CD8-458F-AAF4-42967919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CD192-3928-4D32-A36A-8A611C6D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E3FC2-2A17-456E-95B7-8EC3C976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34270-1CB8-4C5E-ABAA-3F4E580D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0F12B-9A25-49E6-865B-BDFA7487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2D09-1708-4456-A9E1-7A58EE43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38B84-65C4-4D6C-828D-0DF093B2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AC279-1FC2-4A81-8CE0-A92E67A6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C3773-0176-4A77-995F-406BA095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EDD25-23A2-48BC-8614-B09F9614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77A1F-FF90-41D7-9BEA-CA9A2D5B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73377-97F1-4A79-A9C3-0BED1A35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8A521-57D8-43EB-947D-0BD283C8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F03BA-77A8-4AD7-95A6-716B88FA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83CB3-0826-417B-A4AD-EFDC2AE7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5193B-BCE8-4D9F-B1C6-829B692C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765-71EA-420D-AD11-270571A5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8BEAC-67EE-4BCC-A80B-4E346630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9413E-5A2B-4083-9034-493103FC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A1D92-FA44-43C4-BC0E-87F405EE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9EFE1-6CBE-4656-8201-D80B2E79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A2480-3012-4B89-BD24-7321588C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36B61-8025-49CC-813D-5A5ABC88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5A18C-BFC8-4F5D-819D-ABA95FA7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2C252B-E4C8-41BA-A906-C4EA1AD6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15FEE1-92C3-4C33-8408-B1099FBC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64F8C-9B44-43E6-B628-D4064BC3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BC7-D2B7-42AB-8B95-5440E69D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E05857-2112-4DF0-B506-B71DA6DA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FCF0EB-95FB-4B99-85CB-D643DD0F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0F657-A52E-4FFC-BBAE-331CCF50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29CD8E-87A8-40A0-8340-58EA8245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885E0E-27EB-40B3-B942-1CA061D6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BA8744-8B93-4785-A2D2-EF800376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088CFF-654A-4F6D-968D-D3151555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A9E83A-6692-4D57-B0F8-39C7BF3F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86BDC9-9526-4A33-AA40-0B796A05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81283-DD74-4E4D-A461-6C834CEF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50B0-AD7F-4A7A-A41E-C375E995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E9B8B-699D-4D85-B9BD-DE371A4D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479CF-5CBB-49B2-8AF2-108BFF63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221CD-7678-4D64-AB21-DD4770F6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432D5-2F15-42C5-B54F-E73A3881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0BA51-667F-4599-A19A-D0B28CB0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63111-345D-4F68-9A13-1AEE28A4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11405-74BF-49D7-844E-CAA669F3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BD80B-479E-46FD-9F11-D7A36DDE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DD116-4834-4A8C-BE26-D1EDD3DE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F9CD0-3C51-4CC6-A76A-B141D668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6C33-C864-4D36-9213-7AA1FB5E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2B65A-EAB8-41F5-91C8-915AE5FE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CD9B3-B97E-43FB-A634-F68E1D97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FE1BE-4197-48F2-9B69-F011D840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2407C-EA96-4ED9-AF55-71C3F126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5D407-528A-42CC-ACBF-E25263DC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0DF17-A675-4096-8923-1AC4DBEB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02ACF-4AB9-483C-940D-E4F14B12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D0419-CFFA-4CDB-A3F1-A847285C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67B2D-95D3-4CED-872D-3C0C3650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4D401-EACB-4D7C-9AC8-618FE427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A42D-F722-4929-8CD6-17F2731D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EB955-55DA-4563-8653-BFFF5E28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E0EFA-AC27-4BA1-8DBC-351C05AA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66B93-3302-49F9-9916-EFB0589D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79EC3-5C3B-41E2-9831-DFF2B821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199AB-4FFB-4D6A-96B8-B2A99C0F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7F59E-C43D-4E28-9C2C-1AB48031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22F26-56A5-4F88-8471-300F33BD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F82C5-41A7-46AF-8A13-B62AE0CA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74660-C23C-4629-B8B4-C6514FD5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76B0A-1413-43DA-805C-02D1AB48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93DF-35CC-4BDB-9C74-0E1621E6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47060-5013-4161-8908-0138F7C8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29029-9181-4AD8-B345-E62F894A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93FB6-0D58-4E19-BCF0-5F5069AF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5AB75-DCEB-4515-8656-FDAF6564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C20B5-B36A-4464-8D82-0B574CAA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2AEBEF-75DC-47BB-8372-05D9A9E5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6DEF78-1D8A-4C76-BDCA-C5524CE1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56482A-5A2F-49D1-A457-B63A59F0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63038C-6AE6-4DEA-9D16-89145E7F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F012A2-4EF9-4296-A7E5-62FF1ACE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45C-E5F1-4D18-97BF-2A5A3EC3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CA457F-FE4E-446D-BE2D-CBCBCF02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AB3D25-A1BD-4E40-B6DE-99578A44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9D938D-AE7A-4D37-BB33-C70E8104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00BE2B-C8A4-4702-8646-6A200DC5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2CBC74-5A0D-4740-BF33-7AD5BA90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E3B12A-90CE-4E3A-96C5-B562B8CB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1CB5C7-D4C1-4748-9A35-52DD2A7E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DE4B35-B42D-45F8-923C-C81E8696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D1CB8D-80FB-44ED-A977-276540C0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D52CFA-E6E9-4E4D-B9B0-C0418D11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5ACC-99A9-4ABE-B4B6-B0B121461475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1A56-6D02-48F3-B205-8B382F695B6B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2C54-72F0-4551-B6BF-B31FC5A415F6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2F29-9A2C-408B-8211-1F2C003C38F0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0D4D-B642-44C6-999A-C26C32A0AAFF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72D7-F6ED-4D69-B457-013C5E517B59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EBBA-2CE1-4177-9BE4-55B72291BBB3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2ECE-D054-4B3D-8FDE-979D62ED43B9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AD45-68B8-4A5B-8CCF-9AC0802212B2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esson 2.7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Rockwell"/>
              </a:rPr>
              <a:t>Pages 131 – 133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Rockwell"/>
              </a:rPr>
              <a:t>1 - 17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Rockwell"/>
              </a:rPr>
              <a:t>19 - 21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valuate functions described with Euler’s nota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dentify the variables, domain, and range of funct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se step functions to model situat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raph step funct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terpret properties of relations from graph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5"/>
          <p:cNvSpPr/>
          <p:nvPr/>
        </p:nvSpPr>
        <p:spPr>
          <a:xfrm>
            <a:off x="2286000" y="2133720"/>
            <a:ext cx="4572000" cy="457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ep Functions: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1" name="Content Placeholder 4" descr="step function.png"/>
          <p:cNvPicPr/>
          <p:nvPr/>
        </p:nvPicPr>
        <p:blipFill>
          <a:blip r:embed="rId2"/>
          <a:stretch/>
        </p:blipFill>
        <p:spPr>
          <a:xfrm>
            <a:off x="2057400" y="2057400"/>
            <a:ext cx="452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greatest integer function is the function f such that for every real number x, f(x) is the greatest integer ≤ x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ounding down or the floor fun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noted,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n your calculator, MATH, NUM, 5 (INT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6" descr=""/>
          <p:cNvPicPr/>
          <p:nvPr/>
        </p:nvPicPr>
        <p:blipFill>
          <a:blip r:embed="rId2"/>
          <a:stretch/>
        </p:blipFill>
        <p:spPr>
          <a:xfrm>
            <a:off x="0" y="457200"/>
            <a:ext cx="352440" cy="3808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8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9" descr=""/>
          <p:cNvPicPr/>
          <p:nvPr/>
        </p:nvPicPr>
        <p:blipFill>
          <a:blip r:embed="rId3"/>
          <a:stretch/>
        </p:blipFill>
        <p:spPr>
          <a:xfrm>
            <a:off x="0" y="457200"/>
            <a:ext cx="352440" cy="3808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1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4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15" descr=""/>
          <p:cNvPicPr/>
          <p:nvPr/>
        </p:nvPicPr>
        <p:blipFill>
          <a:blip r:embed="rId4"/>
          <a:stretch/>
        </p:blipFill>
        <p:spPr>
          <a:xfrm>
            <a:off x="2743200" y="4529160"/>
            <a:ext cx="533520" cy="57636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7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51055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T (2</a:t>
            </a:r>
            <a:r>
              <a:rPr b="0" lang="el-GR" sz="3200" spc="-1" strike="noStrike">
                <a:solidFill>
                  <a:srgbClr val="ff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1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1439640" cy="6858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3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3"/>
          <a:stretch/>
        </p:blipFill>
        <p:spPr>
          <a:xfrm>
            <a:off x="1066680" y="4114800"/>
            <a:ext cx="1295640" cy="7603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6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scribe all numbers x such th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scribe all the numbers x such that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2057400" cy="68580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3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2"/>
          <a:stretch/>
        </p:blipFill>
        <p:spPr>
          <a:xfrm>
            <a:off x="3124080" y="4572000"/>
            <a:ext cx="2514600" cy="83808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 many buses are needed to transport s students if each bus can hold 44 students and no other means of transportation is used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ppose it costs $50 to rent a bus in the last example.  What will it cost to transport 300 students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2:01:23Z</dcterms:created>
  <dc:creator>teacher</dc:creator>
  <dc:description/>
  <dc:language>en-US</dc:language>
  <cp:lastModifiedBy>Laura Helbing</cp:lastModifiedBy>
  <dcterms:modified xsi:type="dcterms:W3CDTF">2011-10-02T02:21:27Z</dcterms:modified>
  <cp:revision>5</cp:revision>
  <dc:subject/>
  <dc:title>Step Functions</dc:title>
</cp:coreProperties>
</file>