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B2F-F857-47A7-9BCA-1FA6BCED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5B0-E7F9-4CE0-A65A-D3538D3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7AC-9479-410C-9B3F-067AE203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C810-638A-47E4-A362-0B57C452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710E-3FE0-40CD-8F07-378DB701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ADC-0DF2-4F32-8A0C-2BCEA22B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34A-05AC-4508-A6F7-96781316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16E-D453-4977-AAAA-22AEC12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3090-C250-4E68-970F-4E9A9701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DA9B-524D-44D8-A47E-54BED68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85F1-BAAC-4E50-B7DE-763B8BD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3AC-5211-4749-A16B-90CB5F69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AE5B-F59B-4742-9689-93B2A3C0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B223-3DFA-4CC8-8FE1-1809015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59C1-BBA1-47F2-B23B-EE39396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E38B-0C11-45F4-8F4B-B91FD5F3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127E-3BDF-4C20-A51A-3480DB39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2C5A1-8834-4670-810E-544D4C8E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86008-944E-424F-ADC2-9DE835E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564A0-2ABE-442C-A03A-3FA030AC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CC24-4911-4795-8905-49716DCA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B7308-5BED-448B-99D1-4ECFCEFD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D49-079D-48FB-B5A1-C3939C7A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D11E2-00AD-4514-965C-9876F8F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BBA36-A6D5-4FF3-818D-8F0AEA6C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59FC-C0B3-47FE-849B-B80531E7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AC6D6-0ECE-4736-B3C4-BCE3B863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5477B-09E1-48BD-A4C2-77A1736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9C51-E8A6-4CCC-850A-38217713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5D23-ABBD-4B16-9222-4115E1B0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9135-1358-4A96-8E34-FE94049D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39FED-5EA9-4F5E-8DE6-FEE56C76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D902B-6DCB-4FC1-8BBA-1E898B0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3A5-F44A-4F12-A61C-C24763EF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AD2A-CDAF-4414-847B-BB50A1D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C16F-75C2-42C8-B7DC-3E2673AF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CC33-65B7-4A4D-B9AB-E60A351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B720F-8B37-4B99-ACF4-864C533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760C-85E8-4E07-979F-E8105FE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B89C2-ADDE-4128-A23D-3C4AF9B4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9C95-9EB2-484F-A68B-2C4C654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C481-CC3C-426E-89EC-1063D749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B4D86-3BE8-4F86-B007-6BE7884F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D2DA-58A8-407C-BFB7-A9978071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C64-25D1-44FA-AA47-7DFD6AF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8DAEF-437B-4D9F-A81F-7BD3C96C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A798-B399-430D-9B31-ED907D07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52B03-FE0F-4923-B5D1-025A4DD3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5B29D-7186-419C-8739-E68A2C45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8033B-3BCE-4317-8F86-8814FC24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F37D-A155-4290-9CAF-21EC669F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938A-7889-476A-8DED-CF5E2C91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0BC55-D787-4E62-B46F-ABD7D109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CF8E-F818-4103-AFB8-E440FE8F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920E-7723-49E1-B4A0-E0977748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0E9A-B3AC-4BAF-9EB8-E5CD7729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CB78E-5AE8-4AC3-AB08-1D2CBCB0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8EC6-EA92-4AC2-881C-C769D727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1D9F2-11B4-4A9C-964D-ED5408F6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CC3CC-57F2-40EC-9EBE-D0177FAB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E55F-AACF-4BA1-A9A3-9234C2AC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A2A4-917C-460D-8883-051217BB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A981C-2F60-4DFA-A7E8-3EAE6CAE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7290-9DAA-4C11-A7E3-713B4463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C5776-A855-4870-AA0D-A1A34843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1DEC1-FA13-4681-B846-0325A665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BEC-5161-43D0-8995-52E6772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CCE8-B170-45FC-B261-A316BCE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A5160-8668-4B92-8458-138DDD7E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E070D-6A85-452B-B1A3-ED10279E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CBD58-4FB7-4496-A56B-B54AC343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CE8A-E40B-44B6-83D2-00A681C9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D40A1-009A-4B52-A320-3213346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E8236-9CDA-4541-A526-BA6E978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D0446-8FFB-4724-A2C1-A0294101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20E4-7EEF-4B5E-891E-47CAEBCC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42617-3762-495E-B865-FE1F7923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95A-51ED-4400-826D-54F0592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9E854-6D16-4C2B-9F62-2F78162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4694-4EC6-4DC5-ADB0-AB44DC13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3302B-628E-4180-872E-171BEA94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BBBA4-CFFC-4914-89A1-274E5897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88DCA-A444-42A0-A670-9BEAFF96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626-442A-4725-85B6-11B41730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71D3-BB64-415E-B5E9-BC270E21D1DC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F672-F057-4471-96D3-08DB0ECC5A8C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5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  <a:p>
            <a:pPr lvl="6" marL="1425600" indent="-182520">
              <a:buClr>
                <a:srgbClr val="ffcc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cc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8851-4C7A-479C-9D91-ACE2395C5E26}" type="slidenum">
              <a:rPr b="0" lang="en-US" sz="1200" spc="-1" strike="noStrike">
                <a:solidFill>
                  <a:srgbClr val="ffc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6FE1-3C70-418B-A516-18CA1DA11442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3AA9-492B-4A89-84EF-C01BB5B10440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4CA-851C-48B4-BDDC-A77B65080EE6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ccff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1" marL="730080" indent="-272880"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2" marL="995400" indent="-228600">
              <a:buClr>
                <a:srgbClr val="0033c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3" marL="1216080" indent="-182520">
              <a:buClr>
                <a:srgbClr val="ffff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4" marL="1425600" indent="-182520">
              <a:buClr>
                <a:srgbClr val="2cfa1c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5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lvl="6" marL="1425600" indent="-182520">
              <a:buClr>
                <a:srgbClr val="7030a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d4fa7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d4fa7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8421-93BF-4052-93D0-DD25B7985D0C}" type="slidenum">
              <a:rPr b="0" lang="en-US" sz="1200" spc="-1" strike="noStrike">
                <a:solidFill>
                  <a:srgbClr val="7d4fa7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2.6</a:t>
            </a:r>
            <a:endParaRPr b="0" lang="en-US" sz="2000" spc="-1" strike="noStrike">
              <a:solidFill>
                <a:srgbClr val="ffcc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dentify the variables, domain, and range of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Describe properties of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Find and interpret quadratic model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raph quadratic functions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terpret properties of quadratic functions from graphs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16160" indent="-3027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Use scatterplots to draw conclusions about quadratic models for data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6840" y="1774800"/>
            <a:ext cx="8534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In standard form,  a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bx + c = f(x)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Remember the quadratic equation,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he formula to find the vertex of the parabola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- b  / 2a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2657520" cy="7714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0" y="1228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3576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 = -½ gt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+ 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 + 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Where g is the acceleration due to gravity (On the surface of the earth, g = 32 ft/sec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V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velocity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h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0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is the initial height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 projectile is shot from a tower that is 10 feet high with an upward velocity of 100 feet per second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a. Find the formula to represent: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b. When will the projectile hit the ground?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60" y="3962520"/>
            <a:ext cx="451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-16t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rbel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 + 100t + 10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5361480" y="621180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h = 6.3 seconds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-95040" y="5562720"/>
            <a:ext cx="70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Graph this on your Calculator!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ccff"/>
              </a:solidFill>
              <a:latin typeface="Corbe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Let y be the number of dots in the xth pattern.  Find a quadratic model linking x and y.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Type into your calculator for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1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and L</a:t>
            </a:r>
            <a:r>
              <a:rPr b="0" lang="en-US" sz="3200" spc="-1" strike="noStrike" baseline="-25000">
                <a:solidFill>
                  <a:srgbClr val="7030a0"/>
                </a:solidFill>
                <a:latin typeface="Corbel"/>
              </a:rPr>
              <a:t>2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buClr>
                <a:srgbClr val="00b0f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Go to Quad Reg to find your equation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y = 2x</a:t>
            </a:r>
            <a:r>
              <a:rPr b="0" lang="en-US" sz="3200" spc="-1" strike="noStrike" baseline="30000">
                <a:solidFill>
                  <a:srgbClr val="7030a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</a:rPr>
              <a:t> -2x + 1</a:t>
            </a:r>
            <a:endParaRPr b="0" lang="en-US" sz="3200" spc="-1" strike="noStrike">
              <a:solidFill>
                <a:srgbClr val="7030a0"/>
              </a:solidFill>
              <a:latin typeface="Corbe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1523880"/>
          <a:ext cx="7925040" cy="127476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Instance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ff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5760">
                      <a:solidFill>
                        <a:srgbClr val="ffccff"/>
                      </a:solidFill>
                    </a:lnT>
                    <a:lnB w="18720">
                      <a:solidFill>
                        <a:srgbClr val="ffcc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Cubes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13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030a0"/>
                          </a:solidFill>
                          <a:latin typeface="Corbel"/>
                        </a:rPr>
                        <a:t>25</a:t>
                      </a:r>
                      <a:endParaRPr b="0" lang="en-US" sz="1800" spc="-1" strike="noStrike">
                        <a:solidFill>
                          <a:srgbClr val="7030a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ff"/>
                      </a:solidFill>
                    </a:lnL>
                    <a:lnR w="5760">
                      <a:solidFill>
                        <a:srgbClr val="ffccff"/>
                      </a:solidFill>
                    </a:lnR>
                    <a:lnT w="18720">
                      <a:solidFill>
                        <a:srgbClr val="ffccff"/>
                      </a:solidFill>
                    </a:lnT>
                    <a:lnB w="5760">
                      <a:solidFill>
                        <a:srgbClr val="ffccff"/>
                      </a:solidFill>
                    </a:lnB>
                    <a:solidFill>
                      <a:srgbClr val="cbe4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Pages 126 – 127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7030a0"/>
                </a:solidFill>
                <a:latin typeface="Corbel"/>
              </a:rPr>
              <a:t>4 – 6, 12, 13</a:t>
            </a:r>
            <a:endParaRPr b="0" lang="en-US" sz="8000" spc="-1" strike="noStrike">
              <a:solidFill>
                <a:srgbClr val="7030a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09:13Z</dcterms:created>
  <dc:creator>teacher</dc:creator>
  <dc:description/>
  <dc:language>en-US</dc:language>
  <cp:lastModifiedBy>Laura Helbing</cp:lastModifiedBy>
  <dcterms:modified xsi:type="dcterms:W3CDTF">2011-10-02T02:20:00Z</dcterms:modified>
  <cp:revision>4</cp:revision>
  <dc:subject/>
  <dc:title>Quadratic Models</dc:title>
</cp:coreProperties>
</file>