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6A9-F641-47F3-835E-C59B3DA7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FE7-9A69-4300-BA7B-1D6C03E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097-34D2-4533-97D6-99371593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A95-A768-4441-8C30-2C6F0599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500-AE71-4293-ADF7-89D427D5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2A6-6F47-44F7-9122-17733B46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611-61A1-4AF2-A9C9-ACFE90D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B554-A761-4449-B269-B3FE462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5C8C-D7B9-43A2-8AE6-9AA7557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F658-F40F-478D-BA47-3C105EF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A26A-80C8-479B-930D-FABCF75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541-8DDA-4475-8DEB-6C72FD9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6A2-A348-49B7-BBFC-803A45E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5D6D-F7D4-4C8D-B96C-1BC70CF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76D6-0EF8-4312-8DCF-5049938E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70A-07C0-4E08-B5FB-1D01F62A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2A2-73FB-4CC2-A81A-E1E92593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FB41-8FD6-4855-BCDF-7A73E03D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972C-189E-45B9-BD50-BBB38422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CBA4-047E-44A8-9E7E-BABF897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1148-7196-40D5-9CA3-5D137D8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356E-F4AA-4ED4-A421-9805E4F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1E0-CABC-447A-876D-9F344291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7093-419F-493A-AB75-979A457E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5AAB-8FD2-4BA1-BC46-6C30A81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4120-1E29-423D-B065-35842D7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F2F8-3F1B-4DE3-ABB9-4ECCF1E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8AD3-CFB2-491A-9DBC-F320758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5321-EC1A-4A74-8D43-304BFE89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F04B-2C46-4C50-911A-92495202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252C8-B663-483E-A306-6D9F1D68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01F4-A80D-4283-B909-5BBDE95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FCB3-8D28-462C-92C3-EC31879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884-4357-42EE-B775-9C824983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19C4-B1E3-41E7-8930-DB0B52BC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E361-FF7F-48C5-AFA4-04893D5B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F802-8DE9-47C8-82D8-355435F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BB9E-0AB7-4252-9E73-C6CDCAF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AF60-A45A-408C-88E0-F710BE2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E4C2-A273-44C5-BE4D-AFC14FE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322F8-7373-447B-BF70-A57E081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2033-399C-4183-80D7-7D10FB79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3647-0E1E-48D1-84C3-6EE138E1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0F8C-74B3-4C2A-97AA-A40F5084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19A-C73B-4E20-8DDF-1110F67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6BCD-3B6D-4221-8039-01F7959B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AA8D-CFDE-4755-8268-4CB63173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B57E-89A4-48FA-9734-92BD7D1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EE69-AE14-452E-95EF-6DA86A4E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8FF5-0822-4659-8901-34A92C61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1EF84-668E-4157-88C9-988698E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7D87-214D-4DD0-A2EB-5990F62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E889-7B71-499A-B3CC-C68D5A8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1EB4-FD35-496A-83D3-9D7FAEA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54FB9-3C2E-4D2C-B4B6-C7EBE240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1CB-9444-4C08-942C-97CDDCF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5E31-8FB4-4021-A8AF-0747D3D4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5FC8-51AB-41DC-A871-624B1D9F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7F86-EC09-4171-B4FC-004CAF72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1604-7F6E-4238-B03C-1F2CEF1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D2DC-1B8E-4E17-A512-2A20DB9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4A18-6EC3-4302-924C-45188D8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F007-32DC-4A10-997E-BC0FDDB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B812-EBA4-456C-881F-2E36F64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8A8B2-AC52-4171-BB19-767A97E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6CBF-5FF2-4436-A3C1-C1C1CB0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826-3980-47BA-91F6-BC8756E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F3B05-1FCA-4EC1-8303-720E3B9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22B1-9571-4A75-A268-BFE0BEEE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E365-0933-45FD-8ED0-F9113CF5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B3883-AE64-4026-AC94-33CA1ACE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D6BA-A356-4D31-8776-6E21B91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9E6C-9038-41C5-93EC-E5AE0D63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E4D2-FE04-47F8-8289-5BEE790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697E-EE07-4CBE-B1D5-64C819AC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56CE-7652-4F14-85A8-507CDA9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054D-A88E-4494-BEA9-9BFE34C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A6E-9160-4448-BAA3-8BD2FDD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EE28-C46B-41BB-9A10-DA20B62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3A76-D819-4454-A5A7-4230693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51EF-50A3-437E-868C-1E1C939D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1834-7544-4F1B-BC25-34ED1204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74CB-FA59-48E2-89B2-B0B1D050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492-8206-4164-948B-928701E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BB6-78CB-4A38-8B55-53CC41F89F3C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9DF6-FCC6-4FA7-AFD6-DF180DFDA35C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6037-8883-4C5A-BB18-25C8B0A0B3A0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EE0-9A1C-47EB-83B5-B8585760F879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C4D-E4FA-43B7-8155-DAF64DACB0AC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439-388E-4732-B745-CC10ADC95FBE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2211-7602-4F78-8A3F-13A17818B70F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6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Describe properties of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nd and interpret quadratic model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raph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terpret properties of quadratic functions from graph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Use scatterplots to draw conclusions about quadratic models for data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774800"/>
            <a:ext cx="8534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 standard form,  a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bx + c = f(x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Remember the quadratic equation,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formula to find the vertex of the parabola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- b  / 2a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2657520" cy="771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3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 = -½ gt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 + 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Where g is the acceleration due to gravity (On the surface of the earth, g = 32 ft/sec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velocity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heigh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 projectile is shot from a tower that is 10 feet high with an upward velocity of 100 feet per second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. Find the formula to represent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. When will the projectile hit the ground?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60" y="396252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-16t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 + 100t + 10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361480" y="6211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6.3 seconds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-95040" y="556272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Graph this on your Calculator!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y be the number of dots in the xth pattern.  Find a quadratic model linking x and y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ype into your calculator for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and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o to Quad Reg to find your equation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y = 2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-2x + 1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1523880"/>
          <a:ext cx="7925040" cy="127476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Instance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ube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Pages 126 – 127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4 – 6, 12, 13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09:13Z</dcterms:created>
  <dc:creator>teacher</dc:creator>
  <dc:description/>
  <dc:language>en-US</dc:language>
  <cp:lastModifiedBy>Laura Helbing</cp:lastModifiedBy>
  <dcterms:modified xsi:type="dcterms:W3CDTF">2011-10-02T02:20:00Z</dcterms:modified>
  <cp:revision>4</cp:revision>
  <dc:subject/>
  <dc:title>Quadratic Models</dc:title>
</cp:coreProperties>
</file>