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0EE-132B-4D82-B41D-5E6F10B3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AD35-E3CC-4DF7-A35C-67FF3B5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645-4CB7-4A7B-88F8-C496812B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602-A972-45DE-8CD6-008A2BC7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D0A-2D95-42F8-A9CD-64BB331A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5C1F-F41B-4252-9A76-A692DF5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8DE4-0CB7-4A25-98A1-90696A7D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C49-C85E-4950-B6F8-13322CBF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1798-63DC-4411-A57B-9926C411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874-3770-4742-AB7E-A085D09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7ECA-B75B-4972-9F07-14CA9D51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1FB-107C-4C96-918B-359F4F3B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0637-C99F-4B87-87FF-D0E316F0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77BA-D1F6-4E03-9688-DC493F7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4ABE-F0ED-480F-BA44-3CD892F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E90F-5D93-4446-985A-0F185FA1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9650-DB9D-4F43-9D88-3EDB512A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54A91-2FAD-454B-B815-09764287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1AFE-FCCF-4536-A40B-CA697A5A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3610C-BE3A-4AA3-ADED-9B2078AA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D533-5EDD-4337-BE38-5A82373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CDE99-B20A-4F4E-BBAD-35ACB8E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DEDD-D482-4DA3-B60C-FC1724FD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EBA37-1047-424C-8EFC-6BDBA693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008E-32D4-440B-B7BF-69A1C788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55B0-1D42-464C-8CEF-6BB801E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CAAD-5B80-4CCC-8635-9ED92BF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F615-17FD-4AD5-96A3-54F239F3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9906-4DA3-4FA1-979D-809A7054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EAD2-3ECE-4F7A-8AA2-29788AF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47EC1-B824-4FB7-9CB2-3F301AEA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4EA57-DA0A-4D59-A4D6-D998E38E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77531-7910-4BC7-8E10-19BCC7A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EAC-E9EE-46CC-802F-74945725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2D31-6D50-4FBA-85FA-A5AD58A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65421-C7CE-436F-A133-452733A1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12C17-4C16-4178-8850-EB598C09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6645-E2D1-4359-8072-07986E45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262B-8137-4E71-8B61-43B463CE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3CF1-BE0C-4030-BCF2-4B5AB564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72CE7-96BD-4125-977B-002F487F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368E-652F-4A90-8F80-BA4CD0AE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9BEE-1DAC-44BC-98A2-6ABC5141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E163-1828-4743-B7B7-B05CA8AB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4A6-75C8-4CAF-AD06-CB8A767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5BFF-4C54-456A-80FE-8B545F26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A1B0-BDDC-4D34-8E2B-E05D31DE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7E0C-8704-4C70-82A5-FB4DFB7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044E-A6B6-4F2A-A491-584EF86E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C8B4-F1B7-4B1A-86F3-00CE13D5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868C-36AE-47B5-9484-23C38B5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FE763-E636-480D-AECD-A045B4E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D26D-9FBC-476D-9C75-8AD161F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F55A-A077-4690-9C14-B799C2EA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2CDBD-48C3-415D-AF39-07F92D12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619-990F-4449-B1A1-63491089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5244-1559-48B5-901E-039BECFA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60213-44E8-4F59-940B-59149F5F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AA6FE-73B2-4261-9C5D-20959E5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6C36C-45EF-41F4-9F46-0DCD0303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3809-4225-48A1-8458-566E528A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2BE06-C1BD-4D9E-9DB2-478990F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6C2B4-A7DD-4570-B959-DD3307F0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F8A63-11C0-4790-8A65-1D51B17F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F84C-B9DB-43C8-BA41-41372214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0AF50-F308-471F-AE07-9AC15960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6F0-213F-4945-93AF-8D6062A9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76C2A-886D-4DEF-9F4A-E5A7532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8BB31-32EC-4B01-ADDD-41F4F965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DE797-FB92-4A50-B58D-E990479E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0D6D-5C66-47E3-8E35-624E549D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E028E-BE2D-43A9-B294-6B2DB7B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23BB-7822-4033-B9F0-E7F0C236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EF539-00D0-4F02-8A25-81AB927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82425-BC02-4999-A8F1-AD1C5A0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1D63-707C-4D7D-904C-C662A2AD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BE292-E844-45B1-9A9C-865003E0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C3F-8F78-418A-8AAB-6106BBC6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837C0-AEEB-42B9-844F-21F4FDB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CEB82-B0D4-423E-8A12-4EEEF088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2E8A-4470-4FFA-A07E-950A66EF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32D4-CB2A-4D3B-8D87-1A72EC6F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8657-9DA3-4227-838B-5F7AF79E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9C5-B912-4E0C-98C0-16301A4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2FE6-B1FB-46D8-9AAE-3B55A0951A29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804A-7C12-4003-B61C-11D0A1CA98E5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178-C93E-4964-B9B1-7DBB2EC045F8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9E90-5D8C-405C-9DA2-BAB5CAE3BA97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3CF8-4744-4F13-80C8-3EEC243CCE29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5FEF-F040-40A1-8F82-07B9A1DDDB97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1317-2387-485D-A5EA-98EDAC1EC551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6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Describe properties of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nd and interpret quadratic model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raph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terpret properties of quadratic functions from graph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Use scatterplots to draw conclusions about quadratic models for data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774800"/>
            <a:ext cx="8534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 standard form,  a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bx + c = f(x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Remember the quadratic equation,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formula to find the vertex of the parabola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- b  / 2a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2657520" cy="771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3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 = -½ gt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 + 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Where g is the acceleration due to gravity (On the surface of the earth, g = 32 ft/sec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velocity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heigh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 projectile is shot from a tower that is 10 feet high with an upward velocity of 100 feet per second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. Find the formula to represent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. When will the projectile hit the ground?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60" y="396252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-16t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 + 100t + 10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361480" y="6211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6.3 seconds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-95040" y="556272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Graph this on your Calculator!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y be the number of dots in the xth pattern.  Find a quadratic model linking x and y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ype into your calculator for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and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o to Quad Reg to find your equation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y = 2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-2x + 1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1523880"/>
          <a:ext cx="7925040" cy="127476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Instance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ube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Pages 126 – 127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4 – 6, 12, 13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09:13Z</dcterms:created>
  <dc:creator>teacher</dc:creator>
  <dc:description/>
  <dc:language>en-US</dc:language>
  <cp:lastModifiedBy>Laura Helbing</cp:lastModifiedBy>
  <dcterms:modified xsi:type="dcterms:W3CDTF">2011-10-02T02:20:00Z</dcterms:modified>
  <cp:revision>4</cp:revision>
  <dc:subject/>
  <dc:title>Quadratic Models</dc:title>
</cp:coreProperties>
</file>