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6B49-7DA0-46A1-A03E-667A9A763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B304-31A8-4EFB-B0D1-5D907371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74F1-9AEE-49D6-A841-6D989222D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FD33-80B2-4ED6-AA53-731F21CD1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F0FF-981C-45FD-A646-6D9D9A720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6D79E-80A5-4A98-98E5-FBC4F4D1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F1A4-A102-4C2D-B7A8-2FBA2F62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92DE-192E-4B0D-9756-C3DF2438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CE32-7235-4CFE-B2F4-049C4618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2297-5E40-4970-AB06-2111C04C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6A78-4B33-4938-8460-F765AB9E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D382-CE12-4AAD-B58D-92B59946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7E6B-4661-4F7E-A58C-9E170186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27DC1-B312-4B7A-88BB-396D76F4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480B-F2F9-43AD-B6FA-61FF80D3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E6879-72EE-433D-8F0A-F54EC1E7D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2386-A684-43A4-B228-FDE999FE7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97698-0F76-4C8F-9082-DE740B66E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DC41F-93C4-475B-9564-8C8B636D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68060-D692-435A-A3B1-F46D3649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40669-48DF-402E-A8CD-112580B0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B560C-F316-4F61-86C6-0D5B89E3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FA8C-6405-4FD6-B5D0-B61B3007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8407B-D752-42D6-BADC-39035458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D397F-3A39-4FBF-BC75-5DD91464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F13C3-5979-40F3-A497-702F6BC5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A1229-2036-4C8A-AE54-FEA911C3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9D573-EDD1-43B0-A08D-7A94B9E0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BD933-C258-45DB-B88C-F85D57785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9235C-1D09-436E-8BDB-B4AE139C2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5CD2E-6A00-4AE9-9A06-5A6242008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686A8-91FF-4C7C-BF50-2CDA3B17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EC020-7D3A-4963-88B7-E627FC41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647E-97B9-46B5-831D-F2AD2A1F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00857-440D-4B18-9A74-AE81C1A3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092D8-B46C-4092-83CE-DCD080DD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97E3C-50F7-40F0-8600-A9328112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F9A0B-7DF0-47B9-85A3-67395FEB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B02C0-98D4-48E3-B233-98ACC675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0B547-AA00-4C9B-8BCB-ED998584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75354-A5CE-40EE-9556-C1FA9701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EB3CD-F000-4A85-8E73-4EA75C7B7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E3A04-7F6A-482B-A971-D78A76779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505F1-6B3D-4046-9856-FABB4B5FC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D890-0D0F-4502-B767-8D2B7ABA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D9999-7420-4E94-87C7-3CB9BB13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F377C-6A5D-4F73-8E07-494C88CF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6D955-728F-4280-8F57-452C6DD3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754FB-A647-4B10-885C-214A6533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161E8-91C5-4C41-8E8A-4E9FB566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2F457-010D-4C72-8949-076A32AE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53AEC-8DD4-4CCF-AB52-C1A7932B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92F97-CF1E-4DBA-AA46-C2D3634A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C45BA-B577-4ACD-B2C7-9DE41068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AAA22-F769-45C9-97BA-38C9A1F85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771E-D829-4C2F-A6B1-231A8592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8B73E-78A4-448F-9105-D241A1AFE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A9496-3474-4CD7-956E-9C8F31913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8B846-4468-431C-B80D-59ED2ABF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ECD8E-6C53-4355-97FA-7811E25D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CF3A2-31CE-48A5-A0E5-CCA4FA37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CD88B-8E76-4537-9954-2E943482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71365-4500-42A1-AFB5-F6D1EFF0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93B04-E32F-4820-9525-40FCDBE9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79E3C-B543-4FDD-BDC6-BFCB2128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3B156-9012-41B5-A3DE-1DBFE23D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9E7B-A5C7-467B-8E0F-3DE24FB1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60FC4-C059-4083-9964-BE24B6D4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2A0A4-090A-4A3D-8694-301FA5DB5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D1504-AB57-4FB4-888D-E3BC9641C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882C2-4153-4206-A835-50CED25D0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916E9-48DF-404F-80E7-DD91E237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1D78E-E876-4307-9EBD-C6A70CE1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1C27D-3EEC-46F7-8648-1013C6AC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58E3A-7F34-41C0-8E7B-FA114F4F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9281D-B3F1-4FD7-BA6C-075829A5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802F1-2ACF-4A82-95DF-7F27814D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B6AC-7762-471D-8210-C1768C64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E61AD-D430-45E0-8A0A-2C6A57F5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8C699-4DE8-40EE-A18E-DDCA6521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0C22C-C224-4033-AEF9-871782D8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FFD23-BC77-4124-B010-3B7CF0369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E0B85-7301-4CA6-AC2C-9DE60FBA2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6E87-4BFC-44E8-9713-799E7CCA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cc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1" marL="730080" indent="-272880"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2" marL="995400" indent="-228600">
              <a:buClr>
                <a:srgbClr val="0033c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3" marL="1216080" indent="-182520">
              <a:buClr>
                <a:srgbClr val="ffff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4" marL="1425600" indent="-182520">
              <a:buClr>
                <a:srgbClr val="2cfa1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5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6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d4fa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2D06-5712-4B5F-8F21-101A139515E4}" type="slidenum">
              <a:rPr b="0" lang="en-US" sz="1200" spc="-1" strike="noStrike">
                <a:solidFill>
                  <a:srgbClr val="7d4fa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cc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1" marL="730080" indent="-272880"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2" marL="995400" indent="-228600">
              <a:buClr>
                <a:srgbClr val="0033c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3" marL="1216080" indent="-182520">
              <a:buClr>
                <a:srgbClr val="ffff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4" marL="1425600" indent="-182520">
              <a:buClr>
                <a:srgbClr val="2cfa1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5" marL="1425600" indent="-182520">
              <a:buClr>
                <a:srgbClr val="ffcc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6" marL="1425600" indent="-182520">
              <a:buClr>
                <a:srgbClr val="ffcc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A2AE-9778-492E-A58D-454EF2517A9A}" type="slidenum">
              <a:rPr b="0" lang="en-US" sz="1200" spc="-1" strike="noStrike">
                <a:solidFill>
                  <a:srgbClr val="ffc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cc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1" marL="730080" indent="-272880"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2" marL="995400" indent="-228600">
              <a:buClr>
                <a:srgbClr val="0033c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3" marL="1216080" indent="-182520">
              <a:buClr>
                <a:srgbClr val="ffff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4" marL="1425600" indent="-182520">
              <a:buClr>
                <a:srgbClr val="2cfa1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5" marL="1425600" indent="-182520">
              <a:buClr>
                <a:srgbClr val="ffcc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6" marL="1425600" indent="-182520">
              <a:buClr>
                <a:srgbClr val="ffcc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3629-47F1-4120-BE99-93B1D4AC4223}" type="slidenum">
              <a:rPr b="0" lang="en-US" sz="1200" spc="-1" strike="noStrike">
                <a:solidFill>
                  <a:srgbClr val="ffc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cc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1" marL="730080" indent="-272880"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2" marL="995400" indent="-228600">
              <a:buClr>
                <a:srgbClr val="0033c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3" marL="1216080" indent="-182520">
              <a:buClr>
                <a:srgbClr val="ffff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4" marL="1425600" indent="-182520">
              <a:buClr>
                <a:srgbClr val="2cfa1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5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6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d4fa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BE17-E384-4D0A-A6B5-02D91CB27F8A}" type="slidenum">
              <a:rPr b="0" lang="en-US" sz="1200" spc="-1" strike="noStrike">
                <a:solidFill>
                  <a:srgbClr val="7d4fa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cc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1" marL="730080" indent="-272880"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2" marL="995400" indent="-228600">
              <a:buClr>
                <a:srgbClr val="0033c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3" marL="1216080" indent="-182520">
              <a:buClr>
                <a:srgbClr val="ffff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4" marL="1425600" indent="-182520">
              <a:buClr>
                <a:srgbClr val="2cfa1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5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6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d4fa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0429-3541-4083-A62C-7BF14A5CAEAB}" type="slidenum">
              <a:rPr b="0" lang="en-US" sz="1200" spc="-1" strike="noStrike">
                <a:solidFill>
                  <a:srgbClr val="7d4fa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cc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1" marL="730080" indent="-272880"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2" marL="995400" indent="-228600">
              <a:buClr>
                <a:srgbClr val="0033c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3" marL="1216080" indent="-182520">
              <a:buClr>
                <a:srgbClr val="ffff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4" marL="1425600" indent="-182520">
              <a:buClr>
                <a:srgbClr val="2cfa1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5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6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d4fa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86FE-0158-4E04-8CDF-C1C599218316}" type="slidenum">
              <a:rPr b="0" lang="en-US" sz="1200" spc="-1" strike="noStrike">
                <a:solidFill>
                  <a:srgbClr val="7d4fa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cc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1" marL="730080" indent="-272880"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2" marL="995400" indent="-228600">
              <a:buClr>
                <a:srgbClr val="0033c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3" marL="1216080" indent="-182520">
              <a:buClr>
                <a:srgbClr val="ffff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4" marL="1425600" indent="-182520">
              <a:buClr>
                <a:srgbClr val="2cfa1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5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6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d4fa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4929-4F1A-4FEC-B5E0-F1E835043CDF}" type="slidenum">
              <a:rPr b="0" lang="en-US" sz="1200" spc="-1" strike="noStrike">
                <a:solidFill>
                  <a:srgbClr val="7d4fa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Lesson 2.6</a:t>
            </a:r>
            <a:endParaRPr b="0" lang="en-US" sz="2000" spc="-1" strike="noStrike">
              <a:solidFill>
                <a:srgbClr val="ffcc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Identify the variables, domain, and range of functions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16160" indent="-3027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Describe properties of quadratic functions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16160" indent="-3027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ind and interpret quadratic models.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16160" indent="-3027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Graph quadratic functions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16160" indent="-3027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Interpret properties of quadratic functions from graphs.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16160" indent="-3027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Use scatterplots to draw conclusions about quadratic models for data.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6840" y="1774800"/>
            <a:ext cx="853452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lnSpc>
                <a:spcPct val="90000"/>
              </a:lnSpc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In standard form,  ax</a:t>
            </a:r>
            <a:r>
              <a:rPr b="0" lang="en-US" sz="3200" spc="-1" strike="noStrike" baseline="30000">
                <a:solidFill>
                  <a:srgbClr val="7030a0"/>
                </a:solidFill>
                <a:latin typeface="Corbel"/>
              </a:rPr>
              <a:t>2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 + bx + c = f(x)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Remember the quadratic equation,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he formula to find the vertex of the parabola: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- b  / 2a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pic>
        <p:nvPicPr>
          <p:cNvPr id="310" name="Picture 1" descr=""/>
          <p:cNvPicPr/>
          <p:nvPr/>
        </p:nvPicPr>
        <p:blipFill>
          <a:blip r:embed="rId2"/>
          <a:stretch/>
        </p:blipFill>
        <p:spPr>
          <a:xfrm>
            <a:off x="2590920" y="4038480"/>
            <a:ext cx="2657520" cy="77148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3"/>
          <p:cNvSpPr/>
          <p:nvPr/>
        </p:nvSpPr>
        <p:spPr>
          <a:xfrm>
            <a:off x="0" y="1228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735760" cy="1262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h = -½ gt</a:t>
            </a:r>
            <a:r>
              <a:rPr b="0" lang="en-US" sz="3200" spc="-1" strike="noStrike" baseline="30000">
                <a:solidFill>
                  <a:srgbClr val="7030a0"/>
                </a:solidFill>
                <a:latin typeface="Corbel"/>
              </a:rPr>
              <a:t>2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 + v</a:t>
            </a:r>
            <a:r>
              <a:rPr b="0" lang="en-US" sz="3200" spc="-1" strike="noStrike" baseline="-25000">
                <a:solidFill>
                  <a:srgbClr val="7030a0"/>
                </a:solidFill>
                <a:latin typeface="Corbel"/>
              </a:rPr>
              <a:t>0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 + h</a:t>
            </a:r>
            <a:r>
              <a:rPr b="0" lang="en-US" sz="3200" spc="-1" strike="noStrike" baseline="-25000">
                <a:solidFill>
                  <a:srgbClr val="7030a0"/>
                </a:solidFill>
                <a:latin typeface="Corbel"/>
              </a:rPr>
              <a:t>0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Where g is the acceleration due to gravity (On the surface of the earth, g = 32 ft/sec.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V</a:t>
            </a:r>
            <a:r>
              <a:rPr b="0" lang="en-US" sz="3200" spc="-1" strike="noStrike" baseline="-25000">
                <a:solidFill>
                  <a:srgbClr val="7030a0"/>
                </a:solidFill>
                <a:latin typeface="Corbel"/>
              </a:rPr>
              <a:t>0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 is the initial velocity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h</a:t>
            </a:r>
            <a:r>
              <a:rPr b="0" lang="en-US" sz="3200" spc="-1" strike="noStrike" baseline="-25000">
                <a:solidFill>
                  <a:srgbClr val="7030a0"/>
                </a:solidFill>
                <a:latin typeface="Corbel"/>
              </a:rPr>
              <a:t>0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 is the initial height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A projectile is shot from a tower that is 10 feet high with an upward velocity of 100 feet per second.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a. Find the formula to represent: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b. When will the projectile hit the ground?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300960" y="3962520"/>
            <a:ext cx="451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rbel"/>
              </a:rPr>
              <a:t>h = -16t</a:t>
            </a:r>
            <a:r>
              <a:rPr b="1" lang="en-US" sz="3600" spc="-1" strike="noStrike" baseline="30000">
                <a:solidFill>
                  <a:srgbClr val="ff0000"/>
                </a:solidFill>
                <a:latin typeface="Corbel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Corbel"/>
              </a:rPr>
              <a:t> + 100t + 10</a:t>
            </a:r>
            <a:endParaRPr b="0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5361480" y="6211800"/>
            <a:ext cx="358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rbel"/>
              </a:rPr>
              <a:t>h = 6.3 seconds</a:t>
            </a:r>
            <a:endParaRPr b="0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-95040" y="5562720"/>
            <a:ext cx="703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rbel"/>
              </a:rPr>
              <a:t>Graph this on your Calculator!</a:t>
            </a:r>
            <a:endParaRPr b="0" lang="en-US" sz="36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Let y be the number of dots in the xth pattern.  Find a quadratic model linking x and y.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ype into your calculator for L</a:t>
            </a:r>
            <a:r>
              <a:rPr b="0" lang="en-US" sz="3200" spc="-1" strike="noStrike" baseline="-25000">
                <a:solidFill>
                  <a:srgbClr val="7030a0"/>
                </a:solidFill>
                <a:latin typeface="Corbel"/>
              </a:rPr>
              <a:t>1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 and L</a:t>
            </a:r>
            <a:r>
              <a:rPr b="0" lang="en-US" sz="3200" spc="-1" strike="noStrike" baseline="-25000">
                <a:solidFill>
                  <a:srgbClr val="7030a0"/>
                </a:solidFill>
                <a:latin typeface="Corbel"/>
              </a:rPr>
              <a:t>2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Go to Quad Reg to find your equation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y = 2x</a:t>
            </a:r>
            <a:r>
              <a:rPr b="0" lang="en-US" sz="3200" spc="-1" strike="noStrike" baseline="30000">
                <a:solidFill>
                  <a:srgbClr val="7030a0"/>
                </a:solidFill>
                <a:latin typeface="Corbel"/>
              </a:rPr>
              <a:t>2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 -2x + 1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80880" y="1523880"/>
          <a:ext cx="7925040" cy="1274760"/>
        </p:xfrm>
        <a:graphic>
          <a:graphicData uri="http://schemas.openxmlformats.org/drawingml/2006/table">
            <a:tbl>
              <a:tblPr/>
              <a:tblGrid>
                <a:gridCol w="1584360"/>
                <a:gridCol w="1586160"/>
                <a:gridCol w="1584000"/>
                <a:gridCol w="1586160"/>
                <a:gridCol w="1584360"/>
              </a:tblGrid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ff"/>
                          </a:solidFill>
                          <a:latin typeface="Corbel"/>
                        </a:rPr>
                        <a:t>Instance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ff"/>
                      </a:solidFill>
                    </a:lnL>
                    <a:lnR w="5760">
                      <a:solidFill>
                        <a:srgbClr val="ffccff"/>
                      </a:solidFill>
                    </a:lnR>
                    <a:lnT w="5760">
                      <a:solidFill>
                        <a:srgbClr val="ffccff"/>
                      </a:solidFill>
                    </a:lnT>
                    <a:lnB w="18720">
                      <a:solidFill>
                        <a:srgbClr val="ffcc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ff"/>
                          </a:solidFill>
                          <a:latin typeface="Corbel"/>
                        </a:rPr>
                        <a:t>1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ff"/>
                      </a:solidFill>
                    </a:lnL>
                    <a:lnR w="5760">
                      <a:solidFill>
                        <a:srgbClr val="ffccff"/>
                      </a:solidFill>
                    </a:lnR>
                    <a:lnT w="5760">
                      <a:solidFill>
                        <a:srgbClr val="ffccff"/>
                      </a:solidFill>
                    </a:lnT>
                    <a:lnB w="18720">
                      <a:solidFill>
                        <a:srgbClr val="ffcc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ff"/>
                          </a:solidFill>
                          <a:latin typeface="Corbel"/>
                        </a:rPr>
                        <a:t>2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ff"/>
                      </a:solidFill>
                    </a:lnL>
                    <a:lnR w="5760">
                      <a:solidFill>
                        <a:srgbClr val="ffccff"/>
                      </a:solidFill>
                    </a:lnR>
                    <a:lnT w="5760">
                      <a:solidFill>
                        <a:srgbClr val="ffccff"/>
                      </a:solidFill>
                    </a:lnT>
                    <a:lnB w="18720">
                      <a:solidFill>
                        <a:srgbClr val="ffcc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ff"/>
                          </a:solidFill>
                          <a:latin typeface="Corbel"/>
                        </a:rPr>
                        <a:t>3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ff"/>
                      </a:solidFill>
                    </a:lnL>
                    <a:lnR w="5760">
                      <a:solidFill>
                        <a:srgbClr val="ffccff"/>
                      </a:solidFill>
                    </a:lnR>
                    <a:lnT w="5760">
                      <a:solidFill>
                        <a:srgbClr val="ffccff"/>
                      </a:solidFill>
                    </a:lnT>
                    <a:lnB w="18720">
                      <a:solidFill>
                        <a:srgbClr val="ffcc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ff"/>
                          </a:solidFill>
                          <a:latin typeface="Corbel"/>
                        </a:rPr>
                        <a:t>4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ff"/>
                      </a:solidFill>
                    </a:lnL>
                    <a:lnR w="5760">
                      <a:solidFill>
                        <a:srgbClr val="ffccff"/>
                      </a:solidFill>
                    </a:lnR>
                    <a:lnT w="5760">
                      <a:solidFill>
                        <a:srgbClr val="ffccff"/>
                      </a:solidFill>
                    </a:lnT>
                    <a:lnB w="18720">
                      <a:solidFill>
                        <a:srgbClr val="ffcc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orbel"/>
                        </a:rPr>
                        <a:t>Cubes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ff"/>
                      </a:solidFill>
                    </a:lnL>
                    <a:lnR w="5760">
                      <a:solidFill>
                        <a:srgbClr val="ffccff"/>
                      </a:solidFill>
                    </a:lnR>
                    <a:lnT w="18720">
                      <a:solidFill>
                        <a:srgbClr val="ffccff"/>
                      </a:solidFill>
                    </a:lnT>
                    <a:lnB w="5760">
                      <a:solidFill>
                        <a:srgbClr val="ffccff"/>
                      </a:solidFill>
                    </a:lnB>
                    <a:solidFill>
                      <a:srgbClr val="cbe4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orbel"/>
                        </a:rPr>
                        <a:t>1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ff"/>
                      </a:solidFill>
                    </a:lnL>
                    <a:lnR w="5760">
                      <a:solidFill>
                        <a:srgbClr val="ffccff"/>
                      </a:solidFill>
                    </a:lnR>
                    <a:lnT w="18720">
                      <a:solidFill>
                        <a:srgbClr val="ffccff"/>
                      </a:solidFill>
                    </a:lnT>
                    <a:lnB w="5760">
                      <a:solidFill>
                        <a:srgbClr val="ffccff"/>
                      </a:solidFill>
                    </a:lnB>
                    <a:solidFill>
                      <a:srgbClr val="cbe4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orbel"/>
                        </a:rPr>
                        <a:t>5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ff"/>
                      </a:solidFill>
                    </a:lnL>
                    <a:lnR w="5760">
                      <a:solidFill>
                        <a:srgbClr val="ffccff"/>
                      </a:solidFill>
                    </a:lnR>
                    <a:lnT w="18720">
                      <a:solidFill>
                        <a:srgbClr val="ffccff"/>
                      </a:solidFill>
                    </a:lnT>
                    <a:lnB w="5760">
                      <a:solidFill>
                        <a:srgbClr val="ffccff"/>
                      </a:solidFill>
                    </a:lnB>
                    <a:solidFill>
                      <a:srgbClr val="cbe4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orbel"/>
                        </a:rPr>
                        <a:t>13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ff"/>
                      </a:solidFill>
                    </a:lnL>
                    <a:lnR w="5760">
                      <a:solidFill>
                        <a:srgbClr val="ffccff"/>
                      </a:solidFill>
                    </a:lnR>
                    <a:lnT w="18720">
                      <a:solidFill>
                        <a:srgbClr val="ffccff"/>
                      </a:solidFill>
                    </a:lnT>
                    <a:lnB w="5760">
                      <a:solidFill>
                        <a:srgbClr val="ffccff"/>
                      </a:solidFill>
                    </a:lnB>
                    <a:solidFill>
                      <a:srgbClr val="cbe4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orbel"/>
                        </a:rPr>
                        <a:t>25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ff"/>
                      </a:solidFill>
                    </a:lnL>
                    <a:lnR w="5760">
                      <a:solidFill>
                        <a:srgbClr val="ffccff"/>
                      </a:solidFill>
                    </a:lnR>
                    <a:lnT w="18720">
                      <a:solidFill>
                        <a:srgbClr val="ffccff"/>
                      </a:solidFill>
                    </a:lnT>
                    <a:lnB w="5760">
                      <a:solidFill>
                        <a:srgbClr val="ffccff"/>
                      </a:solidFill>
                    </a:lnB>
                    <a:solidFill>
                      <a:srgbClr val="cbe4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030a0"/>
                </a:solidFill>
                <a:latin typeface="Corbel"/>
              </a:rPr>
              <a:t>Pages 126 – 127</a:t>
            </a:r>
            <a:endParaRPr b="0" lang="en-US" sz="80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030a0"/>
                </a:solidFill>
                <a:latin typeface="Corbel"/>
              </a:rPr>
              <a:t>4 – 6, 12, 13</a:t>
            </a:r>
            <a:endParaRPr b="0" lang="en-US" sz="8000" spc="-1" strike="noStrike">
              <a:solidFill>
                <a:srgbClr val="7030a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02:09:13Z</dcterms:created>
  <dc:creator>teacher</dc:creator>
  <dc:description/>
  <dc:language>en-US</dc:language>
  <cp:lastModifiedBy>Laura Helbing</cp:lastModifiedBy>
  <dcterms:modified xsi:type="dcterms:W3CDTF">2011-10-02T02:20:00Z</dcterms:modified>
  <cp:revision>4</cp:revision>
  <dc:subject/>
  <dc:title>Quadratic Models</dc:title>
</cp:coreProperties>
</file>