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62D9-E693-47DD-B924-3258BEAF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BB6-9B7B-424C-9BFC-29FFFE5C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53C-F5D5-4466-B834-B83EB38C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921-512F-4B6B-9C85-73A23D6C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0BC6-918A-45B8-8F56-BBB4F16E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8AFB-BD5F-4AA4-A571-C810C8CE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5636-1D37-4BB3-9BD2-ECC957F8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7661-F89B-4450-B966-B5777FD2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049D-B35D-40B3-AB1C-221CA5B2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7102-776E-4F88-B367-0D956D71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EBC5-D5CE-4CBD-8057-8F3C09D1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15F-20F6-47E5-BA52-1305E81B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A8C5-8A01-4255-9DFF-FB83530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6D1E-4641-4112-B830-2CA4616D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45EC-FEE2-4307-BB55-583DA8EA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F35B-4D7A-4EF9-8446-AF706212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969D-28B8-40AA-B5D0-755FA4F3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42533-7D21-4280-AC9F-D515A3D5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7DBC1-C27A-44B4-8037-A88F08C8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424EF-9930-44DD-8A91-2299E0E0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46E92-05AB-4696-966B-6343D3E0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2929B-AAC4-4C90-9DA1-78898A27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A0D-5B6C-435B-8FA6-15977424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34A189-F3FC-45E6-AE6B-58DDE65C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DD7C9-4934-4F6E-95B3-B9E20DC2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08E542-6B96-42D3-8164-46F91C50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9E354-79A3-4806-9ECA-13CAC047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FA458-E30B-4377-B3AC-60BB6ABA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401E2-C1C0-4C43-B73C-95D862DE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9EB06-ADB9-4786-BAAC-BC9A65C0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EAFB7-124B-48E0-9498-0C62CBA3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3338D-CE09-48AC-B3D1-A1AD0025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DC44A-5B18-44B2-ACE6-71D78F10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893-042B-4382-BC2B-9AB14884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2883-44F9-4F20-B5F3-0B6590C8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C168C-AE5B-42DD-9237-279F29C3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0F4B3-CF4C-408C-B9DC-EA75D499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0280D-F307-432E-85A9-74B6B267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09C30-64E6-4D02-B85B-14CE361B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F6AE9-61C0-4B0F-95F3-AB3BBE14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3E86-03BF-4291-8068-DF605564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0A942-2D0E-47B9-8D5F-EE3D3342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6EE8-4241-42AD-A1A3-AAF64AEA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BC9-F4F9-4377-9611-34280F71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BA3-7E77-4953-B3FF-A8C337FF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B4B-AF1F-49F1-9829-43E55F5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B0C-A0E5-44CA-84EB-404B2F48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A59-B2B5-493E-B430-4C00FF6B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FFA3-30A1-4CF1-B418-8A807131F35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7A9B-718F-4E42-80E2-3C4D1C07675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7E4A-DEEE-4B41-8054-B65745262AE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315D-E3DF-4D85-B828-25E745EF6B7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xponential Model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2.5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bjectives: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and interpret exponential model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scatterplots to draw conclusions about models for dat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(x) = ab</a:t>
            </a:r>
            <a:r>
              <a:rPr b="0" lang="en-US" sz="4000" spc="-1" strike="noStrike" baseline="30000">
                <a:solidFill>
                  <a:srgbClr val="424456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itial val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Growth/decay fa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opulation of a certain cell type was observed to be 100 o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, and 2700 on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.  Assuming the growth is exponential, find the number of cell present initially, and the number of cells expected on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242280" y="4495680"/>
            <a:ext cx="17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0 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262080" y="5105520"/>
            <a:ext cx="19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700 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Rectangle 5" descr=""/>
          <p:cNvPicPr/>
          <p:nvPr/>
        </p:nvPicPr>
        <p:blipFill>
          <a:blip r:embed="rId1"/>
          <a:stretch/>
        </p:blipFill>
        <p:spPr>
          <a:xfrm>
            <a:off x="1828800" y="4516560"/>
            <a:ext cx="5389560" cy="1195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2422080" y="4724280"/>
            <a:ext cx="13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7 =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 Arrow 8"/>
          <p:cNvSpPr/>
          <p:nvPr/>
        </p:nvSpPr>
        <p:spPr>
          <a:xfrm>
            <a:off x="3809880" y="4495680"/>
            <a:ext cx="1981440" cy="9907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need b to stay positiv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" descr=""/>
          <p:cNvPicPr/>
          <p:nvPr/>
        </p:nvPicPr>
        <p:blipFill>
          <a:blip r:embed="rId2"/>
          <a:stretch/>
        </p:blipFill>
        <p:spPr>
          <a:xfrm>
            <a:off x="2209680" y="5257800"/>
            <a:ext cx="1981440" cy="789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847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2343960" y="60958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b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7"/>
          <p:cNvSpPr/>
          <p:nvPr/>
        </p:nvSpPr>
        <p:spPr>
          <a:xfrm>
            <a:off x="6139080" y="4572000"/>
            <a:ext cx="206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o find 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0  = a(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8"/>
          <p:cNvSpPr/>
          <p:nvPr/>
        </p:nvSpPr>
        <p:spPr>
          <a:xfrm>
            <a:off x="6488640" y="556272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0 = 9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9"/>
          <p:cNvSpPr/>
          <p:nvPr/>
        </p:nvSpPr>
        <p:spPr>
          <a:xfrm>
            <a:off x="6711480" y="609588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 =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y = 11.11 * (3)</a:t>
            </a:r>
            <a:r>
              <a:rPr b="0" lang="en-US" sz="4000" spc="-1" strike="noStrike" baseline="30000">
                <a:solidFill>
                  <a:srgbClr val="424456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population of a certain cell type was observed to be 100 o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, and 2700 on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.  Assuming the growth is exponential, find the number of cell present initially, and the number of cells expected on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(0) = 11.11 * (3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 (0) = 11.11 * 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(0) = 11.1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150880" y="4876920"/>
            <a:ext cx="301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y(7) = 11.11 *(3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5132880" y="5410080"/>
            <a:ext cx="33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y (7) = 11.11 * 21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5233320" y="601992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y(7) = 24,297.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certain substance has a half life of 24 years.  If a sample of 80 grams is being observed, how much will remain in 50 years?  When will only 5 grams remai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257760" y="4495680"/>
            <a:ext cx="14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80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264600" y="510552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0 = 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2445120" y="472428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.5 =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2352240" y="60958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 b = .97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6163200" y="4572000"/>
            <a:ext cx="256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o find a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80  = a(.971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"/>
          <p:cNvSpPr/>
          <p:nvPr/>
        </p:nvSpPr>
        <p:spPr>
          <a:xfrm>
            <a:off x="6477120" y="5562720"/>
            <a:ext cx="11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80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(x) = 80 * .9715</a:t>
            </a:r>
            <a:r>
              <a:rPr b="0" lang="en-US" sz="4000" spc="-1" strike="noStrike" baseline="30000">
                <a:solidFill>
                  <a:srgbClr val="424456"/>
                </a:solidFill>
                <a:latin typeface="Trebuchet MS"/>
              </a:rPr>
              <a:t>x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Content Placeholder 2"/>
          <p:cNvSpPr/>
          <p:nvPr/>
        </p:nvSpPr>
        <p:spPr>
          <a:xfrm>
            <a:off x="609480" y="2401920"/>
            <a:ext cx="8229600" cy="43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certain substance has a half life of 24 years.  If a sample of 80 grams is being observed, how much will remain in 50 years?  When will only 5 grams rem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38400" y="4495680"/>
            <a:ext cx="34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 (50)  = 80 * .97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325800" y="5105520"/>
            <a:ext cx="29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 (50) = 80 * .2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804960" y="563868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 (50) = 18.8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004000" y="4572000"/>
            <a:ext cx="35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 grams remain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alculator (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5762520" y="5715000"/>
            <a:ext cx="28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bout 96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ound interest formula A(t) = P(1 + y)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$1500 is put in a treasury note paying 5.5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a formula for A(t), the amount the note is worth after t yea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is in the account after 15 year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3359880" y="449568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(t) = 1500 * (1.05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2605320" y="5410080"/>
            <a:ext cx="40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(15) = 1500 * (1.05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2979000" y="601992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(t) = 1500 * (1.05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Georgi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7089840" y="5867280"/>
            <a:ext cx="16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$3348.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Page 117 – 118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5 – 10, 13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0:55:31Z</dcterms:created>
  <dc:creator>teacher</dc:creator>
  <dc:description/>
  <dc:language>en-US</dc:language>
  <cp:lastModifiedBy>Laura Helbing</cp:lastModifiedBy>
  <dcterms:modified xsi:type="dcterms:W3CDTF">2011-10-03T15:06:12Z</dcterms:modified>
  <cp:revision>4</cp:revision>
  <dc:subject/>
  <dc:title>Exponential Models</dc:title>
</cp:coreProperties>
</file>