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360-66A6-4266-A399-F0A53B2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8AA-B51E-4CD4-9A52-B14EF7C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A89-9CFF-4B9F-ABCB-84DE341B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666-3ECE-4B49-AEDC-14AE332A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807-D146-4989-AC26-5EB3AC66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B1C7-41A7-4F88-990A-32286946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F9AE-8A00-40AA-B3E9-4DC6B36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ED62-8840-498D-AE4C-0A54AA8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1C0B-F30F-4CA6-8308-FDA90B7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2811-AA7A-4570-A37B-798C069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9D84-E2C7-42D6-AF4F-9EF048B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ED9-8C8A-49C9-B2F6-7E47FEE1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AA55-5416-46E6-A8D9-6FF86E3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23E4-6E94-4B93-9C5F-B96B63E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9794-D874-471F-AFEC-00E27D0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B699-F62A-4F14-AEB0-E9777EA3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E9D-FDA4-4623-AE7A-F09245F1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95179-A945-4A8A-A318-5B287A1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0DCC3-71AE-4786-8273-34950FBA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EBCA8-2DA3-40D6-B8E4-ABE1DE1A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77D2D-248C-44FC-BB9B-CBBE9CF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2E569-DD28-47CA-AED9-956A6CBA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639-2FDF-48DF-AF91-6AAE701C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B9A09-54BA-4673-B829-C250B79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4006B-1B8E-4AEE-BEBF-0D70F3BC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DC839-E8A8-4628-A542-CAE4BE8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E292D-3468-48B1-A113-5B1E529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E7E27-736F-46EA-B516-D15FAFE1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E120C-01F9-45BA-9BDB-C85F07ED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C5774-91F7-4589-A0B7-71D2DFD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628A-F8CD-4C88-A7EA-6C84EC68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332F-378A-41A8-A5F8-CF39C590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2C4D-1B31-4D96-B9AF-63057F9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B54-DF3A-4E73-A4B7-AE3E943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16CF-BB79-4E3A-9330-A6202855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162C-05A4-44A8-B97B-65ED480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9FA0-BE96-4404-BED7-DF5E6AC8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6875-F48D-4068-B167-8FDCD19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F05A-5338-4418-A66E-60CD731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112D-8D0A-4569-9192-5793F77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922D-CABB-439F-B6B9-5B69F0D4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34DF-1BC8-4FB4-BDD9-A1C585E8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4653-E1DD-4EF6-BCC0-C50DB89C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121-BEF2-4D8E-A3B0-6CB5A8D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60C-E4CE-4FAE-AC18-B11D2726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9AF-0944-4C86-A884-CC111BB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240-7B15-4CA1-BE51-D74C166E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D6A-66D3-4FCB-B753-F36A8B9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4B2-8799-4C74-BFC1-25C2F1EB98A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EDC-AEDF-4297-A217-BD9566B9CEC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B79C-90EE-4806-8219-F21CFFA4E50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866E-E8D4-4C34-9A1C-12B659DA0FC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ponential Model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exponential mode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ab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itial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owth/decay fa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242280" y="4495680"/>
            <a:ext cx="17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62080" y="510552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5" descr=""/>
          <p:cNvPicPr/>
          <p:nvPr/>
        </p:nvPicPr>
        <p:blipFill>
          <a:blip r:embed="rId1"/>
          <a:stretch/>
        </p:blipFill>
        <p:spPr>
          <a:xfrm>
            <a:off x="1828800" y="4516560"/>
            <a:ext cx="5389560" cy="1195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22080" y="4724280"/>
            <a:ext cx="13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 Arrow 8"/>
          <p:cNvSpPr/>
          <p:nvPr/>
        </p:nvSpPr>
        <p:spPr>
          <a:xfrm>
            <a:off x="3809880" y="44956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need b to stay posi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981440" cy="789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343960" y="6095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39080" y="4572000"/>
            <a:ext cx="20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 = a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6488640" y="55627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6711480" y="609588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 = 11.11 * (3)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1 * (3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(0) = 11.11 * 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150880" y="4876920"/>
            <a:ext cx="30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11.11 *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2880" y="5410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 (7) = 11.11 * 2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233320" y="60199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24,297.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57760" y="44956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64600" y="51055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2445120" y="47242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5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2352240" y="60958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.97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163200" y="4572000"/>
            <a:ext cx="25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 = a(.971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477120" y="556272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80 * .9715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09480" y="24019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38400" y="44956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 = 80 * .97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325800" y="51055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80 * .2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804960" y="56386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18.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004000" y="4572000"/>
            <a:ext cx="35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grams remai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lculator (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762520" y="571500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bout 96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 interest formula A(t) = P(1 + y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$1500 is put in a treasury note paying 5.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a formula for A(t), the amount the note is worth after t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is in the account after 15 year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359880" y="44956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605320" y="541008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15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979000" y="601992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089840" y="5867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$3348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age 117 – 118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5 – 10, 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0:55:31Z</dcterms:created>
  <dc:creator>teacher</dc:creator>
  <dc:description/>
  <dc:language>en-US</dc:language>
  <cp:lastModifiedBy>Laura Helbing</cp:lastModifiedBy>
  <dcterms:modified xsi:type="dcterms:W3CDTF">2011-10-03T15:06:12Z</dcterms:modified>
  <cp:revision>4</cp:revision>
  <dc:subject/>
  <dc:title>Exponential Models</dc:title>
</cp:coreProperties>
</file>