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F2E57-D63A-439D-8CE7-C01C677C5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F987B-111A-4B0C-B1F3-B59AB855C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6475A-0A6B-45BD-9EDA-187B6B4B1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2490B-44B4-45C4-A45C-CC275D02A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C4C01-4716-4D9B-B1F4-F977B399C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61EBB-3010-4784-B50C-79EE78C17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34543-4A10-4F34-8C93-0858A6930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B3D03-6D34-480B-B96F-13862E014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EA679-873B-410B-A6CC-2466991AA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4FE22-5BDB-4CB4-91CE-1349B76F0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33AC0-1422-4B52-B368-FF31EAF48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A1E58-881F-4126-93DA-9BD8ED486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7FD5A-7924-4995-9F62-0307DA24F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95976-9727-4AD9-AB41-9883DC4FB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7628D-A2BD-42E1-B446-1AAC3CE1C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CFAEA-3DA3-4CCC-A775-BD0F9B030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2B0FF-B763-4003-B20E-B2FB8A7DA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C9C2C53-13F9-4556-B254-EAB0C85D5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F96EC7D-F8C2-4858-BF0D-2BE5F7130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9B20F74-B6E6-4319-BDE7-F42142412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7261AE3-B454-41CC-9047-1C428D5D0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3C3B99E-2F80-49D5-9256-5419C2EE9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9FE0F-A593-4AF8-BA78-A64DF056B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87B5F33-2A2B-4042-80DB-102B1FDCD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EF4A143-D3C6-4861-A3F5-9F681C839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F57AC8F-7633-4BBC-A061-E3E375667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AB1FDA9-2618-4BCA-8580-89E7B3FB8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CF6E6DC-340F-4B0D-81B8-0B4974D58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CFD37CD-ACEC-4A75-A32F-5F1BD7ED9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DB24FA1-4886-40B0-8CC7-A9396D8BF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296D04-563F-4510-86B3-4B03EC9AB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6E55D2-4241-4445-A9C7-779A66D8F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852BCC-49A0-480E-BB1D-A79E19062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88682-0696-41BD-BBC3-D8E5ABA00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87EF6D-57CC-491A-8587-5D0FEECDC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E72029-92C5-4857-A6AB-94E06F2FA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8FA57B-F363-47A9-A703-10831D19A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B8BBAB-ADD5-44E9-B58B-A63F4A8B1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F2F816-CE9C-4761-820E-9DB720D8A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EBC655-4EFF-4551-A396-C82FF9592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FB4450-7BDE-4859-A829-BF5BDD8CC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6FEF62-A16C-4B4A-B063-AB524CB50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46933C-CD4E-45E2-B210-4456BCC1F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0D2D5-19F1-43AE-82A8-069EDE4C9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5FDF5-F63A-456D-A985-8182F5FC6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766F8-D300-409D-B630-914F5D9CB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AF3E7-6CDA-440D-97AA-BAB8DB03B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66B2D-50DC-4EE0-9D12-D8B50421D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3BD01-D2E4-4F52-91F6-78FD97DFC096}" type="slidenum">
              <a:rPr b="0" lang="en-US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ounded Rectangle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ounded Rectangle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4F807-BEF4-4570-A0B9-9C2BAEBC8BC0}" type="slidenum">
              <a:rPr b="0" lang="en-US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C9D5B-80D4-4966-B062-A32EAE070F9D}" type="slidenum">
              <a:rPr b="0" lang="en-US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B2B9D-0251-475E-8E0C-E995D6824537}" type="slidenum">
              <a:rPr b="0" lang="en-US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4015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Exponential Models</a:t>
            </a: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457200" y="3900600"/>
            <a:ext cx="4952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4456"/>
                </a:solidFill>
                <a:latin typeface="Georgia"/>
              </a:rPr>
              <a:t>Lesson 2.5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Objectives:</a:t>
            </a: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	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nd and interpret exponential models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Use scatterplots to draw conclusions about models for data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F(x) = ab</a:t>
            </a:r>
            <a:r>
              <a:rPr b="0" lang="en-US" sz="4000" spc="-1" strike="noStrike" baseline="30000">
                <a:solidFill>
                  <a:srgbClr val="424456"/>
                </a:solidFill>
                <a:latin typeface="Trebuchet MS"/>
              </a:rPr>
              <a:t>x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Initial valu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b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Growth/decay factor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Examples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e population of a certain cell type was observed to be 100 on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Georgi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day, and 2700 on the 5</a:t>
            </a:r>
            <a:r>
              <a:rPr b="0" lang="en-US" sz="2800" spc="-1" strike="noStrike" baseline="30000">
                <a:solidFill>
                  <a:srgbClr val="000000"/>
                </a:solidFill>
                <a:latin typeface="Georgia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day.  Assuming the growth is exponential, find the number of cell present initially, and the number of cells expected on the 7</a:t>
            </a:r>
            <a:r>
              <a:rPr b="0" lang="en-US" sz="2800" spc="-1" strike="noStrike" baseline="30000">
                <a:solidFill>
                  <a:srgbClr val="000000"/>
                </a:solidFill>
                <a:latin typeface="Georgia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day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2" name="TextBox 3"/>
          <p:cNvSpPr/>
          <p:nvPr/>
        </p:nvSpPr>
        <p:spPr>
          <a:xfrm>
            <a:off x="242280" y="4495680"/>
            <a:ext cx="171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100 = ab</a:t>
            </a:r>
            <a:r>
              <a:rPr b="1" lang="en-US" sz="2800" spc="-1" strike="noStrike" baseline="30000">
                <a:solidFill>
                  <a:srgbClr val="000000"/>
                </a:solidFill>
                <a:latin typeface="Georgi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Box 4"/>
          <p:cNvSpPr/>
          <p:nvPr/>
        </p:nvSpPr>
        <p:spPr>
          <a:xfrm>
            <a:off x="262080" y="5105520"/>
            <a:ext cx="19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2700 = ab</a:t>
            </a:r>
            <a:r>
              <a:rPr b="1" lang="en-US" sz="2800" spc="-1" strike="noStrike" baseline="30000">
                <a:solidFill>
                  <a:srgbClr val="000000"/>
                </a:solidFill>
                <a:latin typeface="Georgia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Rectangle 5" descr=""/>
          <p:cNvPicPr/>
          <p:nvPr/>
        </p:nvPicPr>
        <p:blipFill>
          <a:blip r:embed="rId1"/>
          <a:stretch/>
        </p:blipFill>
        <p:spPr>
          <a:xfrm>
            <a:off x="1828800" y="4516560"/>
            <a:ext cx="5389560" cy="1195200"/>
          </a:xfrm>
          <a:prstGeom prst="rect">
            <a:avLst/>
          </a:prstGeom>
          <a:ln w="0">
            <a:noFill/>
          </a:ln>
        </p:spPr>
      </p:pic>
      <p:sp>
        <p:nvSpPr>
          <p:cNvPr id="225" name="TextBox 6"/>
          <p:cNvSpPr/>
          <p:nvPr/>
        </p:nvSpPr>
        <p:spPr>
          <a:xfrm>
            <a:off x="2422080" y="4724280"/>
            <a:ext cx="130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27 = b</a:t>
            </a:r>
            <a:r>
              <a:rPr b="1" lang="en-US" sz="2800" spc="-1" strike="noStrike" baseline="30000">
                <a:solidFill>
                  <a:srgbClr val="000000"/>
                </a:solidFill>
                <a:latin typeface="Georgia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eft Arrow 8"/>
          <p:cNvSpPr/>
          <p:nvPr/>
        </p:nvSpPr>
        <p:spPr>
          <a:xfrm>
            <a:off x="3809880" y="4495680"/>
            <a:ext cx="1981440" cy="99072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53548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We need b to stay positiv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1" descr=""/>
          <p:cNvPicPr/>
          <p:nvPr/>
        </p:nvPicPr>
        <p:blipFill>
          <a:blip r:embed="rId2"/>
          <a:stretch/>
        </p:blipFill>
        <p:spPr>
          <a:xfrm>
            <a:off x="2209680" y="5257800"/>
            <a:ext cx="1981440" cy="789120"/>
          </a:xfrm>
          <a:prstGeom prst="rect">
            <a:avLst/>
          </a:prstGeom>
          <a:ln w="0">
            <a:noFill/>
          </a:ln>
        </p:spPr>
      </p:pic>
      <p:sp>
        <p:nvSpPr>
          <p:cNvPr id="229" name="Rectangle 3"/>
          <p:cNvSpPr/>
          <p:nvPr/>
        </p:nvSpPr>
        <p:spPr>
          <a:xfrm>
            <a:off x="0" y="8478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6"/>
          <p:cNvSpPr/>
          <p:nvPr/>
        </p:nvSpPr>
        <p:spPr>
          <a:xfrm>
            <a:off x="0" y="8478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Box 16"/>
          <p:cNvSpPr/>
          <p:nvPr/>
        </p:nvSpPr>
        <p:spPr>
          <a:xfrm>
            <a:off x="2343960" y="609588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So b =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Box 17"/>
          <p:cNvSpPr/>
          <p:nvPr/>
        </p:nvSpPr>
        <p:spPr>
          <a:xfrm>
            <a:off x="6139080" y="4572000"/>
            <a:ext cx="206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To find a 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100  = a(3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Georgi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Box 18"/>
          <p:cNvSpPr/>
          <p:nvPr/>
        </p:nvSpPr>
        <p:spPr>
          <a:xfrm>
            <a:off x="6488640" y="5562720"/>
            <a:ext cx="157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100 = 9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Box 19"/>
          <p:cNvSpPr/>
          <p:nvPr/>
        </p:nvSpPr>
        <p:spPr>
          <a:xfrm>
            <a:off x="6711480" y="6095880"/>
            <a:ext cx="117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a = 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77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6" dur="770" fill="hold"/>
                                        <p:tgtEl>
                                          <p:spTgt spid="23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8" dur="77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0" dur="77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y = 11.11 * (3)</a:t>
            </a:r>
            <a:r>
              <a:rPr b="0" lang="en-US" sz="4000" spc="-1" strike="noStrike" baseline="30000">
                <a:solidFill>
                  <a:srgbClr val="424456"/>
                </a:solidFill>
                <a:latin typeface="Trebuchet MS"/>
              </a:rPr>
              <a:t>x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4012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e population of a certain cell type was observed to be 100 on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Georgi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day, and 2700 on the 5</a:t>
            </a:r>
            <a:r>
              <a:rPr b="0" lang="en-US" sz="2800" spc="-1" strike="noStrike" baseline="30000">
                <a:solidFill>
                  <a:srgbClr val="000000"/>
                </a:solidFill>
                <a:latin typeface="Georgia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day.  Assuming the growth is exponential, find the number of cell present initially, and the number of cells expected on the 7</a:t>
            </a:r>
            <a:r>
              <a:rPr b="0" lang="en-US" sz="2800" spc="-1" strike="noStrike" baseline="30000">
                <a:solidFill>
                  <a:srgbClr val="000000"/>
                </a:solidFill>
                <a:latin typeface="Georgia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day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24012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2401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y(0) = 11.11 * (3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Georgia"/>
              </a:rPr>
              <a:t>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 baseline="30000">
                <a:solidFill>
                  <a:srgbClr val="000000"/>
                </a:solidFill>
                <a:latin typeface="Georgi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2401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y (0) = 11.11 * 1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2401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y(0) = 11.1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8" name="TextBox 3"/>
          <p:cNvSpPr/>
          <p:nvPr/>
        </p:nvSpPr>
        <p:spPr>
          <a:xfrm>
            <a:off x="5150880" y="4876920"/>
            <a:ext cx="301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y(7) = 11.11 *(3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Georgia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4"/>
          <p:cNvSpPr/>
          <p:nvPr/>
        </p:nvSpPr>
        <p:spPr>
          <a:xfrm>
            <a:off x="5132880" y="5410080"/>
            <a:ext cx="339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y (7) = 11.11 * 218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5"/>
          <p:cNvSpPr/>
          <p:nvPr/>
        </p:nvSpPr>
        <p:spPr>
          <a:xfrm>
            <a:off x="5233320" y="6019920"/>
            <a:ext cx="284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y(7) = 24,297.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8" dur="2000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" dur="500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" dur="500"/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Example 2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 certain substance has a half life of 24 years.  If a sample of 80 grams is being observed, how much will remain in 50 years?  When will only 5 grams remain?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TextBox 3"/>
          <p:cNvSpPr/>
          <p:nvPr/>
        </p:nvSpPr>
        <p:spPr>
          <a:xfrm>
            <a:off x="257760" y="4495680"/>
            <a:ext cx="142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80= ab</a:t>
            </a:r>
            <a:r>
              <a:rPr b="1" lang="en-US" sz="2800" spc="-1" strike="noStrike" baseline="30000">
                <a:solidFill>
                  <a:srgbClr val="000000"/>
                </a:solidFill>
                <a:latin typeface="Georgia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Box 4"/>
          <p:cNvSpPr/>
          <p:nvPr/>
        </p:nvSpPr>
        <p:spPr>
          <a:xfrm>
            <a:off x="264600" y="5105520"/>
            <a:ext cx="163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40 = ab</a:t>
            </a:r>
            <a:r>
              <a:rPr b="1" lang="en-US" sz="2800" spc="-1" strike="noStrike" baseline="30000">
                <a:solidFill>
                  <a:srgbClr val="000000"/>
                </a:solidFill>
                <a:latin typeface="Georgia"/>
              </a:rPr>
              <a:t>2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Box 5"/>
          <p:cNvSpPr/>
          <p:nvPr/>
        </p:nvSpPr>
        <p:spPr>
          <a:xfrm>
            <a:off x="2445120" y="4724280"/>
            <a:ext cx="132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.5 = b</a:t>
            </a:r>
            <a:r>
              <a:rPr b="1" lang="en-US" sz="2800" spc="-1" strike="noStrike" baseline="30000">
                <a:solidFill>
                  <a:srgbClr val="000000"/>
                </a:solidFill>
                <a:latin typeface="Georgia"/>
              </a:rPr>
              <a:t>2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Box 6"/>
          <p:cNvSpPr/>
          <p:nvPr/>
        </p:nvSpPr>
        <p:spPr>
          <a:xfrm>
            <a:off x="2352240" y="6095880"/>
            <a:ext cx="221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So b = .97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Box 7"/>
          <p:cNvSpPr/>
          <p:nvPr/>
        </p:nvSpPr>
        <p:spPr>
          <a:xfrm>
            <a:off x="6163200" y="4572000"/>
            <a:ext cx="2562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To find a 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80  = a(.9715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Georgia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Box 8"/>
          <p:cNvSpPr/>
          <p:nvPr/>
        </p:nvSpPr>
        <p:spPr>
          <a:xfrm>
            <a:off x="6477120" y="5562720"/>
            <a:ext cx="117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80 =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5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0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5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77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1" dur="770" fill="hold"/>
                                        <p:tgtEl>
                                          <p:spTgt spid="24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3" dur="77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5" dur="77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f(x) = 80 * .9715</a:t>
            </a:r>
            <a:r>
              <a:rPr b="0" lang="en-US" sz="4000" spc="-1" strike="noStrike" baseline="30000">
                <a:solidFill>
                  <a:srgbClr val="424456"/>
                </a:solidFill>
                <a:latin typeface="Trebuchet MS"/>
              </a:rPr>
              <a:t>x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0" name="Content Placeholder 2"/>
          <p:cNvSpPr/>
          <p:nvPr/>
        </p:nvSpPr>
        <p:spPr>
          <a:xfrm>
            <a:off x="609480" y="2401920"/>
            <a:ext cx="8229600" cy="432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 certain substance has a half life of 24 years.  If a sample of 80 grams is being observed, how much will remain in 50 years?  When will only 5 grams remai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5"/>
          <p:cNvSpPr/>
          <p:nvPr/>
        </p:nvSpPr>
        <p:spPr>
          <a:xfrm>
            <a:off x="338400" y="4495680"/>
            <a:ext cx="346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f (50)  = 80 * .971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Georgia"/>
              </a:rPr>
              <a:t>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Box 6"/>
          <p:cNvSpPr/>
          <p:nvPr/>
        </p:nvSpPr>
        <p:spPr>
          <a:xfrm>
            <a:off x="325800" y="5105520"/>
            <a:ext cx="294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f (50) = 80 * .2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Box 7"/>
          <p:cNvSpPr/>
          <p:nvPr/>
        </p:nvSpPr>
        <p:spPr>
          <a:xfrm>
            <a:off x="804960" y="5638680"/>
            <a:ext cx="257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f (50) = 18.87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Box 9"/>
          <p:cNvSpPr/>
          <p:nvPr/>
        </p:nvSpPr>
        <p:spPr>
          <a:xfrm>
            <a:off x="5004000" y="4572000"/>
            <a:ext cx="354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5 grams remain 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Calculator (tabl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Box 10"/>
          <p:cNvSpPr/>
          <p:nvPr/>
        </p:nvSpPr>
        <p:spPr>
          <a:xfrm>
            <a:off x="5762520" y="5715000"/>
            <a:ext cx="287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about 96 ye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8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3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8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3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8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Example 3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ompound interest formula A(t) = P(1 + y)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Georgia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$1500 is put in a treasury note paying 5.5%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Give a formula for A(t), the amount the note is worth after t years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How much is in the account after 15 years?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TextBox 4"/>
          <p:cNvSpPr/>
          <p:nvPr/>
        </p:nvSpPr>
        <p:spPr>
          <a:xfrm>
            <a:off x="3359880" y="4495680"/>
            <a:ext cx="367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A(t) = 1500 * (1.055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Georgia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Box 5"/>
          <p:cNvSpPr/>
          <p:nvPr/>
        </p:nvSpPr>
        <p:spPr>
          <a:xfrm>
            <a:off x="2605320" y="5410080"/>
            <a:ext cx="407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A(15) = 1500 * (1.055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Georgia"/>
              </a:rPr>
              <a:t>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Box 6"/>
          <p:cNvSpPr/>
          <p:nvPr/>
        </p:nvSpPr>
        <p:spPr>
          <a:xfrm>
            <a:off x="2979000" y="6019920"/>
            <a:ext cx="367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A(t) = 1500 * (1.055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Georgia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7"/>
          <p:cNvSpPr/>
          <p:nvPr/>
        </p:nvSpPr>
        <p:spPr>
          <a:xfrm>
            <a:off x="7089840" y="5867280"/>
            <a:ext cx="167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$3348.7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5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0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5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0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Homework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0" y="2249640"/>
            <a:ext cx="91440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Georgia"/>
              </a:rPr>
              <a:t>Page 117 – 118</a:t>
            </a:r>
            <a:endParaRPr b="0" lang="en-US" sz="9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Georgia"/>
              </a:rPr>
              <a:t>5 – 10, 13</a:t>
            </a:r>
            <a:endParaRPr b="0" lang="en-US" sz="9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9T00:55:31Z</dcterms:created>
  <dc:creator>teacher</dc:creator>
  <dc:description/>
  <dc:language>en-US</dc:language>
  <cp:lastModifiedBy>Laura Helbing</cp:lastModifiedBy>
  <dcterms:modified xsi:type="dcterms:W3CDTF">2011-10-03T15:06:12Z</dcterms:modified>
  <cp:revision>4</cp:revision>
  <dc:subject/>
  <dc:title>Exponential Models</dc:title>
</cp:coreProperties>
</file>