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EAF-C873-40A1-AF29-83A24480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1DC-04AF-4849-881E-928FB20D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B2D-9083-492D-98D5-ACD875D1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CE2-FFD8-44A5-A5AA-D07BBEF1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8040-24A7-4723-960F-0885E3BD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1AFD-DB6A-42B3-8F24-588364A1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E465-7846-4255-84F7-3C128170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3D00-0365-4394-8F22-85908ABB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850F-F603-4D84-BC31-A3F64D7A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5171-43D5-4D54-B61E-A5ADBAB3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91C9-D193-464F-90AC-E9CB284D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610-FA7D-497A-8646-F04D4EF6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8248-E993-4E0C-8835-F29A419D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2A43-D38B-4748-83AE-FF535B57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457D-6B9A-4DDE-B9B9-B3B3ADEB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141-D610-4CC3-925E-AE6BCA3F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A110-80D3-4B29-A23E-EF86E312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8E911-71BD-40A3-9CEA-7B92F06D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A54BA-3F34-4608-8EF8-5F1FE171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62345-41CB-4EC9-9340-B6B5CB55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DF3F97-1DED-4547-A341-211BF951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EC8B0-0DF4-47A3-B0E3-A0962DD6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C6D-8D8E-4FED-80C4-7CEBC837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86C02-DF24-461A-9A32-157DA4B0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688E74-433C-4803-8037-01AD16D2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B8A6C-0290-4D5F-B8D3-C322505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8BD01-0F7C-43CB-964A-A7937AB9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433F2-CBAF-42CB-8BF9-DE7F7F62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715C0-66D9-462B-A536-D1F88DCC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8A82B-4014-4423-87E5-327EA628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5052E-A11C-4427-827F-A0B5FB03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236D5-7148-4341-AD16-72A28F48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D1596-3E1A-4B55-B67F-C59A6C2E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A38-BEC4-4841-B03E-933F74C6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18D9D-8E04-4501-9C58-258814DA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E1198-0A86-4644-99FE-769E4450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5E46-080C-420E-B27B-125E5965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64AC1-97BA-4FB7-A749-1AAEBAD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ACC05-D268-48BC-953D-9E8D2189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1D80-FAB7-4ADF-87C0-0A8D1729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31DD6-FDB4-4997-8CB0-77CA9D93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547D-0ACF-4EAC-AF1C-31BE43EE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DC4A7-94CE-43D4-A362-2AAF98A5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13A-557B-4207-A7A5-265B34F4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85E-C723-4206-AF06-9A3B04E9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172-88ED-4A2E-AB85-DAC413CF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2BF-529B-4D76-9711-169C21C9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DAF-0CB8-481C-A26E-FEA4C543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6110-8CA1-458E-AE5B-091FAEACEDE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379F-3148-431F-B945-F43F291FFF1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90A3-475D-45F9-9062-8C9DCA228EF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EEAB-D432-4CF6-A61B-E8BB7FF70DB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xponential Model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2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: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d interpret exponential model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catterplots to draw conclusions about models for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(x) = ab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itial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owth/decay fa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pulation of a certain cell type was observed to be 100 o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, and 2700 o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  Assuming the growth is exponential, find the number of cell present initially, and the number of cells expected o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242280" y="4495680"/>
            <a:ext cx="17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262080" y="510552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70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5" descr=""/>
          <p:cNvPicPr/>
          <p:nvPr/>
        </p:nvPicPr>
        <p:blipFill>
          <a:blip r:embed="rId1"/>
          <a:stretch/>
        </p:blipFill>
        <p:spPr>
          <a:xfrm>
            <a:off x="1828800" y="4516560"/>
            <a:ext cx="5389560" cy="1195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422080" y="4724280"/>
            <a:ext cx="13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7 =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 Arrow 8"/>
          <p:cNvSpPr/>
          <p:nvPr/>
        </p:nvSpPr>
        <p:spPr>
          <a:xfrm>
            <a:off x="3809880" y="44956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need b to stay posit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2209680" y="5257800"/>
            <a:ext cx="1981440" cy="789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2343960" y="6095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b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6139080" y="4572000"/>
            <a:ext cx="206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o find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 = a(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8"/>
          <p:cNvSpPr/>
          <p:nvPr/>
        </p:nvSpPr>
        <p:spPr>
          <a:xfrm>
            <a:off x="6488640" y="55627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= 9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6711480" y="609588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 =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 = 11.11 * (3)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pulation of a certain cell type was observed to be 100 o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, and 2700 o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  Assuming the growth is exponential, find the number of cell present initially, and the number of cells expected o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(0) = 11.11 * (3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(0) = 11.11 * 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(0) = 11.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150880" y="4876920"/>
            <a:ext cx="30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(7) = 11.11 *(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132880" y="541008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 (7) = 11.11 * 2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5233320" y="601992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(7) = 24,297.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ertain substance has a half life of 24 years.  If a sample of 80 grams is being observed, how much will remain in 50 years?  When will only 5 grams remai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57760" y="449568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264600" y="51055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2445120" y="47242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.5 =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2352240" y="60958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b = .97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6163200" y="4572000"/>
            <a:ext cx="256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o find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  = a(.971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6477120" y="556272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(x) = 80 * .9715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609480" y="240192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ertain substance has a half life of 24 years.  If a sample of 80 grams is being observed, how much will remain in 50 years?  When will only 5 grams rem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38400" y="4495680"/>
            <a:ext cx="34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 = 80 * .97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325800" y="51055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= 80 * .2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804960" y="563868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= 18.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004000" y="4572000"/>
            <a:ext cx="35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 grams remain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lculator (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5762520" y="571500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bout 96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und interest formula A(t) = P(1 + y)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$1500 is put in a treasury note paying 5.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a formula for A(t), the amount the note is worth after t yea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is in the account after 15 year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3359880" y="449568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t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2605320" y="5410080"/>
            <a:ext cx="40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15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2979000" y="601992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t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7089840" y="586728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$3348.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Page 117 – 118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5 – 10, 13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0:55:31Z</dcterms:created>
  <dc:creator>teacher</dc:creator>
  <dc:description/>
  <dc:language>en-US</dc:language>
  <cp:lastModifiedBy>Laura Helbing</cp:lastModifiedBy>
  <dcterms:modified xsi:type="dcterms:W3CDTF">2011-10-03T15:06:12Z</dcterms:modified>
  <cp:revision>4</cp:revision>
  <dc:subject/>
  <dc:title>Exponential Models</dc:title>
</cp:coreProperties>
</file>