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EE99-CD55-43A3-BA73-A52F7E8CD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B377-0B05-4198-87CD-C8BC253DF082}" type="slidenum">
              <a:rPr b="0" lang="en-US" sz="1200" spc="-1" strike="noStrike">
                <a:solidFill>
                  <a:srgbClr val="ff99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0A6-2170-45E0-A6EA-F078327F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1DE-9890-4D8B-A2F2-F57C103E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10C76-2777-4040-9AA2-C30DC77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BEFF57-B402-4C93-B285-F0E46DCA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B70EFF-5740-4E74-B4EB-D5AD853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3DB94-92CD-494F-BB9F-2301E8C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32FFF9-14DE-4957-AD30-B99CE67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662E15-B8EE-49F3-B6E5-9C26200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ECD61-8E6B-4D88-908F-97961D5D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D9B3C-C303-4C23-8C3E-219C83C1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6943B-9E8D-4316-A7B5-DC532EB9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3D6-2594-4350-B7A5-897AD499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F6A-24CA-4804-97ED-EF321FBB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592D-55CC-4AE2-9547-CA148F92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C7876-3083-4565-8771-0BE1DFE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BFB9C-1337-461A-8619-CFA981FC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0BFB-7615-4B1B-A4D9-A58729E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5BD8-BB60-44CD-918C-07A75AA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0B884-A4CB-42F3-8B51-C4067FFA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74B9D-F189-4936-AE37-972782A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6DC-3944-4A79-AE3C-9BFF1F93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2DB4-38A4-44B0-B385-2795BDA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FB505-1750-46BD-A399-2E14DD6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13E2D-DE7E-40B8-88BE-0D413E0B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06A96-30D6-4E35-9A72-33F9FD85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00ED6-B7A2-4675-BC77-19246D6B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7273-0BDC-4AAA-A6E3-B65EFDB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B19E-512C-4101-A254-F8CCE3E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C7A1-B8FF-4B2A-A666-9CF62A18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EBBE-D3E4-4361-AAF9-493E2A4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7670-F882-4BED-8B5B-F1317AD8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7CF-69B3-414A-9646-3174FE41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2833-9CB1-4E5F-9D4E-3740FE49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CF1F-4E52-4F06-B3CD-4478016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8E0D-F258-43C9-B0CB-D86CFA7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7906-D4D1-489A-B689-5368A9D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DD1F-CF3D-40A9-9AC4-AD8FEAC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0D8D-2EEC-4A35-B8F5-2CCA4FBC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33E5-6A1A-4BE8-A3E0-3D110DF2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E01BA-51BF-426A-8751-B523880C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1B045-0A95-49E3-8024-601AF33F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0136E-E40D-4EC2-A1C8-DF71888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399-DA07-47B9-A446-01234FE5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C31A1-6F51-464F-A39A-78DFBA5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0AD61-8E54-4D43-B240-D3F1F2FF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80641-0EE1-4D75-BC70-B9A2F47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A3121-A6E6-4FCD-A643-35AEA06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9F01A-FD89-4055-B67F-190E218C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C0F40-E2CB-471B-ADFD-17338FB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74D19-6E96-4BEA-BB0F-3736B8AD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EDC09-2DC9-45FD-A586-B08E0E3F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AFEC9-B22A-48A4-BA50-4115E004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4E3B-1CF2-469C-87E5-3DADF79C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6CC-36E6-47D4-B488-2F32DDA8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B41BC-6783-44BD-92C8-9EA54C4A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DA35-0D8D-4A14-8BEE-87D66F40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5638-C7A5-486A-ACD5-A5AB3EB9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A2AC3-F1B0-40F2-A61C-27B579E6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F8622-1D1C-4B4E-88E7-7EFF2AC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450C-7331-4954-8CBE-DAA1CA4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F9D8-D143-4223-9C11-9E19A6F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F4FD-3F64-498B-86F1-0F73BD8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9CA9-6636-4203-BE61-29F7E12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FA40-6C1D-4C63-A5CB-2AC604E6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6D6-6537-4325-ADAE-DAF5F50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97BD-6CB7-4100-8DB3-21C7CD42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D577-6024-4D73-8F97-B0C777BA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3E05-5219-430F-A793-663FA29A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80C3-31EC-4A52-85E4-29BD75E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02BD-7457-4590-9080-87BC7F4C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4219E-F573-4195-A681-1B1CA75F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08AF-490D-4B98-89F3-4AAC420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390E-B94E-4CFA-B251-57B9F202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19DD-7238-40DC-87B7-2A42617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32DC-889A-43E7-B2C9-BA94FB1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A9A-D815-4EBF-A402-7E21C90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08132-9BD2-49FC-ACE0-DC955745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A0EF-DD89-47EC-AEF4-D4CFD217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84C0-7E1B-4613-9E08-AFFE00F5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CD85-5169-45EF-BB3E-0E366CDA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2F7BA-8453-4878-B46F-F4475CC2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B876-243C-42BC-A45E-B3793935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9F465-DC39-4EAC-835E-DEA6CADF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9D994-7C58-42AF-9CA1-F4B05FA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6EE4-DD76-4CE9-8CC2-1D7682E5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FF25-9538-43B3-80DC-F6D9E0D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4A8-2B25-4E8E-8B5D-BEF7290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95FB2-4539-4461-A566-84CEDFF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8835-6711-47A0-B8ED-A653903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23C14-4C5C-453E-8CC8-8B613C3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E5C2-024F-412C-A6C0-FC10321C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6762-CB0E-4D61-BB7E-D31E6AD0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32083-9A77-4DAE-B17B-15F42F59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2FF6C-7CFE-44A1-B6C9-638A612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2611E-F1D1-4914-AB8D-38617B0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AEF78-FF49-4541-8884-570EE879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3CEE6-78B9-4895-A1F4-79981426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592-4C2D-4F06-8E88-87DB148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BA531-5DF7-4D23-A4CB-703E04D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E935D-C451-45F4-AF86-06881BB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9B1F9-C21B-4264-9F19-8F11B78B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71EF5-7266-4AD7-8A2D-A140670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16A72-09F6-4F46-B61D-A1E2611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992554-165F-49BA-87CF-0CAFC287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39332-E3E2-4719-9E22-A5CE0A0F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70A3A-30EA-40D2-865C-C02CDA8A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78A89-ACE4-4AE3-9F2B-1B57C1AD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00A64A-F86A-4D7C-AAF0-A7B33AE1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6573-64BC-4A9D-A038-45B26F0FE68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8255-33BA-40F9-8F03-05AAA7B733E6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137-6C94-4A85-B538-01872E71926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53A-0D06-4FB7-9610-1345D07A755A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84E7-3614-4528-AD66-9DAAC7E9DF5F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34D-674B-4B2F-9A56-021C6651DBE6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FB8F-E4AB-4D67-86BF-EBE67AC40AE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1A4D-77AF-4217-B14C-A64568AE50DD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37CE-E90F-443A-BCE7-F8BD36ABF6D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dentify properties of regression lines or curves and of the correlation coefficien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nd and interpret linear model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onstruct and apply mathematical models, including lines and curves of best fit, to estimate values of related quantiti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On calculator, press 2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nd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the zero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s will bring you to the catalo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you press 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-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is will take you to the d’s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croll down to Diagnostic On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ess enter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Now when you do your linreg(ax + b),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         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r should come up as well!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ine of best fit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line with the smallest value for the sum of the squares of the error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Method of Least Squares </a:t>
            </a:r>
            <a:r>
              <a:rPr b="0" lang="en-US" sz="3200" spc="-1" strike="noStrike">
                <a:solidFill>
                  <a:srgbClr val="9e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 the process of finding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enter of Gravity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coordinates of this point are the mean of the observed x-values and the mean of the observed y-valu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8699760" cy="853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5228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 August 1990, Consumer Reports listed the following average prices per pound for four grades of raw hamburger: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egular (72.5% lean), $1.57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Chuck (80% lean), $1.85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ound (85% lean), $2.38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Sirloin (92.5% lean), $2.93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Rockwell"/>
              </a:rPr>
              <a:t>Find the equation of best fit:</a:t>
            </a:r>
            <a:endParaRPr b="0" lang="en-US" sz="29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Verify that the center of gravity is on the line of best fi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Find the sum of the squares of the errors for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602680" y="396252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Y = .0702x – 3.61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3622680" y="4952880"/>
            <a:ext cx="46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.0702 (82.5) – 3.61 = $2.18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5867280" y="2590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x  =  percent!</a:t>
            </a:r>
            <a:endParaRPr b="0" lang="en-US" sz="3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457200" y="1646280"/>
          <a:ext cx="8229600" cy="1854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X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Actual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Predicted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r>
                        <a:rPr b="1" lang="en-US" sz="1800" spc="-1" strike="noStrike" baseline="30000">
                          <a:solidFill>
                            <a:srgbClr val="ff99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7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4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9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00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15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9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9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88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4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4"/>
          <p:cNvSpPr/>
          <p:nvPr/>
        </p:nvSpPr>
        <p:spPr>
          <a:xfrm>
            <a:off x="2787480" y="4487760"/>
            <a:ext cx="28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∑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e</a:t>
            </a:r>
            <a:r>
              <a:rPr b="1" lang="en-US" sz="4400" spc="-1" strike="noStrike" baseline="30000">
                <a:solidFill>
                  <a:srgbClr val="f9e706"/>
                </a:solidFill>
                <a:latin typeface="Rockwell"/>
              </a:rPr>
              <a:t>2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≈ .035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9120" y="96840"/>
            <a:ext cx="844416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Try #11 on page 10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. What is the line of best fit for predicting wrist size from neck size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b. What is the predicted wrist size of a person with a neck circumference of 37.5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. What is the correlation coefficient?  Is it strong or weak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2651040" y="251460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x 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977480" y="396252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 (37.5)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5798160" y="39625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17.0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240920" y="571500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r = .8400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062960" y="5486400"/>
            <a:ext cx="40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Pretty strong positive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Correlation!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41000" cy="963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Rockwell"/>
              </a:rPr>
              <a:t>Pages 101 – 103</a:t>
            </a:r>
            <a:endParaRPr b="0" lang="en-US" sz="80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ff"/>
                </a:solidFill>
                <a:latin typeface="Rockwell"/>
              </a:rPr>
              <a:t>5 – 10, 12 – 19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Extra credit: 21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(must be a hand-written summary)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57:20Z</dcterms:created>
  <dc:creator>teacher</dc:creator>
  <dc:description/>
  <dc:language>en-US</dc:language>
  <cp:lastModifiedBy>Laura Helbing</cp:lastModifiedBy>
  <dcterms:modified xsi:type="dcterms:W3CDTF">2012-09-18T12:44:14Z</dcterms:modified>
  <cp:revision>10</cp:revision>
  <dc:subject/>
  <dc:title>The Line of Best Fit</dc:title>
</cp:coreProperties>
</file>