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11AC-5F43-4FAE-81B2-340F58EC5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8904-EE95-4C3E-B685-DF2549DD4D46}" type="slidenum">
              <a:rPr b="0" lang="en-US" sz="1200" spc="-1" strike="noStrike">
                <a:solidFill>
                  <a:srgbClr val="ff99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BED-76E6-46C6-A839-44544FAC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98A-0C61-43C8-91B8-455935DB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1C801B-425B-401D-A84D-5ECA60C1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BC2BB1-C0BC-4B26-90A0-9BF9E2E5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800AE3-96C2-4743-A08D-BB3BF958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7BC42E-6898-4CD1-9E2C-D2F754C6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96715C-072A-4F96-A69E-9549E7B8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866818-FB21-492F-97EF-30BD23D2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104BAB-E54F-4324-BCA3-4D3E3490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FAD2BB-30D8-44D5-A334-D2C67D49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EDC04B-F179-4E0E-BC92-D2CDF91E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574-04D2-49CC-904B-FE1B852C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E4B-5D76-4241-A05A-1A34B3E7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5AC0B-2571-493E-B647-A411D13F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8CB43-4D1A-4F7C-AFC2-43F63870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49D6E-1870-4018-8D1C-19438756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26344-8D59-4A28-94C1-387E2734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7DCC3-F60E-4AF6-B93A-6D052FF6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D807A-728A-49FA-8D3B-AF6AA385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5DA8A-7320-4D41-BF41-1F73C5D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2B9-DBB9-4020-95D8-9717D911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24AED-F318-4855-BD62-9269CB67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DEC39-0544-49C2-A84F-7D2CE6AD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54588-96C2-4016-8DB7-D20DCD2D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EBF06-2944-4D2B-920B-6213574B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77512-BB7A-4CA3-A462-A809EC0B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5AB7-DA33-4A37-8DF9-334DF77C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26CCB-5D1C-47C2-BF57-91915599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158C-BB3A-4515-B3A0-DBBBB59B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F8BA-8942-46F4-83C7-9D87E25F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F07A1-954F-43DF-A578-5054CE8E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D5C-C659-45A2-BD3A-ED7F5E1D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0055-2F87-4C85-A590-AF038785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7642A-47EB-483D-83FC-26620727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34A33-5385-495C-86B7-17181C0B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C06A4-5F0F-488A-82C7-6E940241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92C7B-3EC8-4525-A640-8E9EAF1E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D220-37FD-45C9-87A2-62AEC8F8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6CE2-A39D-40F9-A11F-A76BEFC8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7853A-0A7A-4476-B795-D900F8C3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61F7C-4AFB-4CF1-9811-A353495D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C9760-622D-49C8-B8E0-CBD1C2C0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E67-225F-462B-AC32-957D40AD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D29221-54F1-4D28-9EF8-72D49AD3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AA89C7-A928-43BA-B92C-3C344D1C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D0958A-2F44-4A37-8D16-6A5E4574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334E9-3511-43C7-9995-85AE9406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49DA0-9C7B-40BF-A0E3-803D6652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6D61E-1D05-4786-AC5F-160AFCB2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4B1FE5-C0CF-4345-B70E-1638BF8E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CB08E-7258-4E7E-AA33-62EC5D2F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44A780-089C-47D1-A57E-BA7D6F9A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D9E3D-852C-4CE5-93DD-571BDA66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2AA-E1FA-4A13-AA42-A0C546E7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23C3-3104-451C-82A4-39D8C27D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9D34D-A682-4D95-9F4D-69A02565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6A96E-C521-46ED-B06E-D5CDAE66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83C2F-E839-49CC-8B34-A1FED139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E9F63-3B03-4104-96A9-C1A2C4C1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DF92-05A4-4559-81AC-9B82DB0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7CFA4-F189-4071-9EC7-F5F1A1E5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5F7F1-22BA-4C8C-8370-9862DEB7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5DC03-A492-4435-895E-E0419D17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18D98-B959-4B11-9E4F-7F209369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08B-2048-4A73-B398-5714BC28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B0F26-F3A4-4C8D-A92F-3054022B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06199-24F0-44A8-8024-BE9AD6EA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F1545-004C-432C-9A9D-B83052BF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AC5CF-4013-4915-B721-15E18866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E94C5-1823-4523-B889-26190BDF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A5BB6-9333-4AD5-B809-86666448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D1B58-476B-438B-9CD5-5D24826C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73438-6C4C-42FB-8856-981744C7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E8A7B-1A31-47C8-8368-F40431D6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17F8B-ACBB-4F36-931A-42E11F5C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E84C-81C4-41B7-AE27-5CFBA3FF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0EBE-E188-4803-9CB9-BB6CE1EE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66B21-CC57-4F7A-A77D-CA53C5DD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1BB0F-BD9A-4532-8FF1-3486832F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A2239-E2D3-49A9-989E-79DF16AA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30CB5-87C9-4311-8B3F-AF246625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E60BB-DAAA-474A-B5F6-1373BB98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FFBD2-31DD-4A39-B8AA-1AC46061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95D5E-0CF7-484B-AF4C-4E316298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5188C-34E4-42A4-8A24-EC8C1900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82D68-C764-4D63-A02B-F5972D8D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B1E-8EA3-478D-B80A-5A7430FD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16900-5234-4BF2-AB94-DFC5AE03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FB42C-D0D3-4818-A864-266C1A60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AD5B4-D63D-4FBE-9137-87C33D5A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D5AA7-4FA6-4709-B81C-D2925039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844D0-BDED-467D-A9B2-21C46141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483EFA-8EC7-4CD2-B121-D835D5BF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15F174-B580-4C61-A856-0305A630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D7EB19-69BC-4CD5-9F6D-57141C71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F628D6-8568-4CFF-B9EA-37AB6562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3E7800-5B7C-4070-B1D2-35A454E9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ED0-CFE0-4E4F-B41D-61CEE84F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DE5A71-B945-4527-9583-B21EE3EE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410241-8B6D-44D1-B315-41277417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9172DF-13AB-497B-8D45-9DBE5EEE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BDCD62-01AD-4CEC-ADF8-F0030352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B46BDA-64B2-43BE-BBAE-A71AE735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DE6014-578A-49FA-9062-ADDE9667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BBAFB3-F80F-48E3-A699-68759B2F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CC97D3-2CC5-47D9-87CF-77ED0E70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278F46-E4EF-479A-BD21-7EE4FC64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82E861-3D01-42D3-B4EB-786ADD2B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4A7C-21CE-484A-A6D0-7640FD62A818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B2C2-DE5A-4FE0-A9B4-51A83EA6CF44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16A5-6D6E-47FF-9FED-4A04340CA72F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8122-F12D-4DE6-8C07-002F429741B8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55E4-6707-491D-B5B0-A040168FD7B0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F717-36AB-4C07-A043-E8AA10FE8553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924C-AE17-4571-A700-5195B90DD32B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fbef59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B5E4-D32F-4A6B-9558-A3F00811DB04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effff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9effff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2" marL="822240" indent="-19044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3" marL="100476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4" marL="1187280" indent="-182520">
              <a:buClr>
                <a:srgbClr val="99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5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6" marL="1187280" indent="-182520">
              <a:buClr>
                <a:srgbClr val="ff99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92c4ff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2c4ff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3f3f3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BDE3-ED3F-45F8-BBE1-E47850CC61A1}" type="slidenum">
              <a:rPr b="0" lang="en-US" sz="1600" spc="-1" strike="noStrike">
                <a:solidFill>
                  <a:srgbClr val="c3f3f3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dentify properties of regression lines or curves and of the correlation coefficient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Find and interpret linear model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onstruct and apply mathematical models, including lines and curves of best fit, to estimate values of related quantitie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ection 2.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On calculator, press 2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nd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and the zero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This will bring you to the catalog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f you press x</a:t>
            </a:r>
            <a:r>
              <a:rPr b="0" lang="en-US" sz="3200" spc="-1" strike="noStrike" baseline="30000">
                <a:solidFill>
                  <a:srgbClr val="ff99ff"/>
                </a:solidFill>
                <a:latin typeface="Rockwell"/>
              </a:rPr>
              <a:t>-1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, this will take you to the d’s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Scroll down to Diagnostic On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Press enter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Now when you do your linreg(ax + b),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82960" indent="-28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           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r should come up as well!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08080" y="195120"/>
            <a:ext cx="8942400" cy="963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Line of best fit </a:t>
            </a:r>
            <a:r>
              <a:rPr b="0" lang="en-US" sz="3200" spc="-1" strike="noStrike">
                <a:solidFill>
                  <a:srgbClr val="ff99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 line with the smallest value for the sum of the squares of the error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ffff"/>
                </a:solidFill>
                <a:latin typeface="Rockwell"/>
              </a:rPr>
              <a:t>Method of Least Squares </a:t>
            </a:r>
            <a:r>
              <a:rPr b="0" lang="en-US" sz="3200" spc="-1" strike="noStrike">
                <a:solidFill>
                  <a:srgbClr val="9e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9effff"/>
                </a:solidFill>
                <a:latin typeface="Rockwell"/>
              </a:rPr>
              <a:t> the process of finding the line of best fi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enter of Gravity </a:t>
            </a:r>
            <a:r>
              <a:rPr b="0" lang="en-US" sz="3200" spc="-1" strike="noStrike">
                <a:solidFill>
                  <a:srgbClr val="ff99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 the coordinates of this point are the mean of the observed x-values and the mean of the observed y-values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8699760" cy="8539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15228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In August 1990, Consumer Reports listed the following average prices per pound for four grades of raw hamburger: 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regular (72.5% lean), $1.57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Chuck (80% lean), $1.85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Round (85% lean), $2.38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f3a447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5e0ff"/>
                </a:solidFill>
                <a:latin typeface="Rockwell"/>
              </a:rPr>
              <a:t>Sirloin (92.5% lean), $2.93</a:t>
            </a:r>
            <a:endParaRPr b="0" lang="en-US" sz="26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Rockwell"/>
              </a:rPr>
              <a:t>Find the equation of best fit:</a:t>
            </a:r>
            <a:endParaRPr b="0" lang="en-US" sz="29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Verify that the center of gravity is on the line of best fit.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Find the sum of the squares of the errors for the line of best fit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5602680" y="396252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e706"/>
                </a:solidFill>
                <a:latin typeface="Rockwell"/>
              </a:rPr>
              <a:t>Y = .0702x – 3.61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3622680" y="4952880"/>
            <a:ext cx="46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e706"/>
                </a:solidFill>
                <a:latin typeface="Rockwell"/>
              </a:rPr>
              <a:t> </a:t>
            </a:r>
            <a:r>
              <a:rPr b="1" lang="en-US" sz="2800" spc="-1" strike="noStrike">
                <a:solidFill>
                  <a:srgbClr val="f9e706"/>
                </a:solidFill>
                <a:latin typeface="Rockwell"/>
              </a:rPr>
              <a:t>.0702 (82.5) – 3.61 = $2.18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5867280" y="2590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x  =  percent!</a:t>
            </a:r>
            <a:endParaRPr b="0" lang="en-US" sz="32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5" name=""/>
          <p:cNvGraphicFramePr/>
          <p:nvPr/>
        </p:nvGraphicFramePr>
        <p:xfrm>
          <a:off x="457200" y="1646280"/>
          <a:ext cx="8229600" cy="18540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X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Actual y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Predicted y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Error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Rockwell"/>
                        </a:rPr>
                        <a:t>error</a:t>
                      </a:r>
                      <a:r>
                        <a:rPr b="1" lang="en-US" sz="1800" spc="-1" strike="noStrike" baseline="30000">
                          <a:solidFill>
                            <a:srgbClr val="ff99ff"/>
                          </a:solidFill>
                          <a:latin typeface="Rockwell"/>
                        </a:rPr>
                        <a:t>2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18720">
                      <a:solidFill>
                        <a:srgbClr val="ff99ff"/>
                      </a:solidFill>
                    </a:lnB>
                    <a:solidFill>
                      <a:srgbClr val="fbef5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72.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1.57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1.48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91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08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1872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1.8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006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156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24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38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357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23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01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df9d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92.5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93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2.884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47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ff"/>
                          </a:solidFill>
                          <a:latin typeface="Rockwell"/>
                        </a:rPr>
                        <a:t>.002</a:t>
                      </a:r>
                      <a:endParaRPr b="0" lang="en-US" sz="1800" spc="-1" strike="noStrike">
                        <a:solidFill>
                          <a:srgbClr val="ff99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ff"/>
                      </a:solidFill>
                    </a:lnL>
                    <a:lnR w="5760">
                      <a:solidFill>
                        <a:srgbClr val="ff99ff"/>
                      </a:solidFill>
                    </a:lnR>
                    <a:lnT w="5760">
                      <a:solidFill>
                        <a:srgbClr val="ff99ff"/>
                      </a:solidFill>
                    </a:lnT>
                    <a:lnB w="5760">
                      <a:solidFill>
                        <a:srgbClr val="ff99ff"/>
                      </a:solidFill>
                    </a:lnB>
                    <a:solidFill>
                      <a:srgbClr val="fefcea"/>
                    </a:solidFill>
                  </a:tcPr>
                </a:tc>
              </a:tr>
            </a:tbl>
          </a:graphicData>
        </a:graphic>
      </p:graphicFrame>
      <p:sp>
        <p:nvSpPr>
          <p:cNvPr id="416" name="TextBox 4"/>
          <p:cNvSpPr/>
          <p:nvPr/>
        </p:nvSpPr>
        <p:spPr>
          <a:xfrm>
            <a:off x="2787480" y="4487760"/>
            <a:ext cx="283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e706"/>
                </a:solidFill>
                <a:latin typeface="Rockwell"/>
              </a:rPr>
              <a:t>∑</a:t>
            </a:r>
            <a:r>
              <a:rPr b="1" lang="en-US" sz="4400" spc="-1" strike="noStrike">
                <a:solidFill>
                  <a:srgbClr val="f9e706"/>
                </a:solidFill>
                <a:latin typeface="Rockwell"/>
              </a:rPr>
              <a:t>e</a:t>
            </a:r>
            <a:r>
              <a:rPr b="1" lang="en-US" sz="4400" spc="-1" strike="noStrike" baseline="30000">
                <a:solidFill>
                  <a:srgbClr val="f9e706"/>
                </a:solidFill>
                <a:latin typeface="Rockwell"/>
              </a:rPr>
              <a:t>2</a:t>
            </a:r>
            <a:r>
              <a:rPr b="1" lang="en-US" sz="4400" spc="-1" strike="noStrike">
                <a:solidFill>
                  <a:srgbClr val="f9e706"/>
                </a:solidFill>
                <a:latin typeface="Rockwell"/>
              </a:rPr>
              <a:t>≈ .035</a:t>
            </a:r>
            <a:endParaRPr b="0" lang="en-US" sz="44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49120" y="96840"/>
            <a:ext cx="8444160" cy="8539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808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Try #11 on page 103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a. What is the line of best fit for predicting wrist size from neck size?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Rockwell"/>
              </a:rPr>
              <a:t>b. What is the predicted wrist size of a person with a neck circumference of 37.5?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Rockwell"/>
              </a:rPr>
              <a:t>c. What is the correlation coefficient?  Is it strong or weak?</a:t>
            </a: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>
              <a:buClr>
                <a:srgbClr val="fbef59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ff"/>
              </a:solidFill>
              <a:latin typeface="Rockwel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2651040" y="2514600"/>
            <a:ext cx="280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Y = .368x + 3.25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0" name="TextBox 6"/>
          <p:cNvSpPr/>
          <p:nvPr/>
        </p:nvSpPr>
        <p:spPr>
          <a:xfrm>
            <a:off x="1977480" y="396252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Y = .368 (37.5)+ 3.25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1" name="TextBox 7"/>
          <p:cNvSpPr/>
          <p:nvPr/>
        </p:nvSpPr>
        <p:spPr>
          <a:xfrm>
            <a:off x="5798160" y="396252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17.05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2" name="TextBox 8"/>
          <p:cNvSpPr/>
          <p:nvPr/>
        </p:nvSpPr>
        <p:spPr>
          <a:xfrm>
            <a:off x="1240920" y="5715000"/>
            <a:ext cx="16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r = .8400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  <p:sp>
        <p:nvSpPr>
          <p:cNvPr id="423" name="TextBox 10"/>
          <p:cNvSpPr/>
          <p:nvPr/>
        </p:nvSpPr>
        <p:spPr>
          <a:xfrm>
            <a:off x="4062960" y="5486400"/>
            <a:ext cx="404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Pretty strong positive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ffff"/>
                </a:solidFill>
                <a:latin typeface="Rockwell"/>
              </a:rPr>
              <a:t>Correlation!</a:t>
            </a:r>
            <a:endParaRPr b="0" lang="en-US" sz="2800" spc="-1" strike="noStrike">
              <a:solidFill>
                <a:srgbClr val="ff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541000" cy="9633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ff"/>
                </a:solidFill>
                <a:latin typeface="Rockwell"/>
              </a:rPr>
              <a:t>Pages 101 – 103</a:t>
            </a:r>
            <a:endParaRPr b="0" lang="en-US" sz="80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ff"/>
                </a:solidFill>
                <a:latin typeface="Rockwell"/>
              </a:rPr>
              <a:t>5 – 10, 12 – 19</a:t>
            </a:r>
            <a:endParaRPr b="0" lang="en-US" sz="6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bef59"/>
                </a:solidFill>
                <a:latin typeface="Rockwell"/>
              </a:rPr>
              <a:t>Extra credit: 21</a:t>
            </a:r>
            <a:endParaRPr b="0" lang="en-US" sz="6600" spc="-1" strike="noStrike">
              <a:solidFill>
                <a:srgbClr val="ff99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bef59"/>
                </a:solidFill>
                <a:latin typeface="Rockwell"/>
              </a:rPr>
              <a:t>(must be a hand-written summary)</a:t>
            </a:r>
            <a:endParaRPr b="0" lang="en-US" sz="6600" spc="-1" strike="noStrike">
              <a:solidFill>
                <a:srgbClr val="ff99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0:57:20Z</dcterms:created>
  <dc:creator>teacher</dc:creator>
  <dc:description/>
  <dc:language>en-US</dc:language>
  <cp:lastModifiedBy>Laura Helbing</cp:lastModifiedBy>
  <dcterms:modified xsi:type="dcterms:W3CDTF">2012-09-18T12:44:14Z</dcterms:modified>
  <cp:revision>10</cp:revision>
  <dc:subject/>
  <dc:title>The Line of Best Fit</dc:title>
</cp:coreProperties>
</file>