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5F0D-A668-4109-A5C1-74AAFA225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33E6-998C-41B0-882A-E9E2F6CF4835}" type="slidenum">
              <a:rPr b="0" lang="en-US" sz="1200" spc="-1" strike="noStrike">
                <a:solidFill>
                  <a:srgbClr val="ff99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7AFC-D8A7-4066-972B-91AB3CCD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11EA-289A-4092-9140-256FA5CD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8A0AAE-8FA3-45C4-B7BC-953D094F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4D3167-43EC-48B0-9363-FA03C8C3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3F780C-36E7-45A8-9A4C-0778E32D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A37FC3-7BC0-4466-87EB-09D3F706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9AF4F8-F20A-4B25-BB1E-CD8EC9B0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B0F78D-303C-46C0-B367-9B838198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8127D9-8194-4714-B1E1-F67590A9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F7B7FD-19D9-4DF3-9ABC-71322785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3596B2-1350-4E7E-9376-C1F91FE8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1E4F-523B-4B13-B453-419165E0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05AE-585C-49A1-8A83-14C3AD17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64E6B-41D5-4051-8CA0-881F2813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1B96E-A073-42A3-BC29-AA1E4F99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4338F-78E4-4E91-B540-7782AA52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2C8FB-5F7E-4B9D-AA64-7273C7E6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557A8-1997-4474-B3A6-D69506ED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B4A2C-4D42-4890-A01E-1E154B8B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62981-F58E-410A-8E80-2D3DDE08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D3D2-6600-4836-9323-4AF915D8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CF925-058B-4151-A5AD-5A8FB65D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41213-8488-4CBB-92D0-05D19935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1AF06-6928-405E-ADB7-2080173C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58B2E-1348-4056-A913-62449E77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D85E3-2B34-4FB6-A7B1-C95D5D57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0C333-76BF-48FC-A92A-57B95213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ADE45-0AC6-4F51-8A51-05ECF182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BAA6E-6110-475B-8992-D9586F31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6BCC9-9EE0-4042-B3BC-0AE8FB11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FFCEA-4F34-487F-9ADB-9D46872B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5E31-73E7-4CC1-B4D0-E1309E48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FB5C1-8EE7-40CB-9679-7B5212EC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54691-C540-4253-BCD2-6F9DAA71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3B107-4AB3-401F-B71B-D5E83C16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CA269-B3E9-4A03-9B56-D69B8BAE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5E54A-135B-4935-ABF7-3866A185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D4708-78BB-4A23-8B7D-2AA922EB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D8337-0718-47B9-AD3F-C881D9CA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5500C6-4931-49A0-8BDE-EB0D0EDC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36E1DD-7EE6-4BD2-BF52-141A2C29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1F4F29-C47E-48D6-9386-E555BC5B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96F-9F86-4487-B358-70856D52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80A332-22C2-470A-AC2E-C0F7FADC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995EF1-1A43-483D-80E4-0D946CA6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EBCA37-974B-41DE-A5EA-FAAB7AB3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0625CD-9BDF-4BB5-8840-3A09A031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ABFD6E-905B-4F55-A3C0-BC9A3C36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1EDD25-427C-4095-B765-F67C35A4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CF9841-6218-4C27-AC9F-2EC5BF54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CCCAE8-BB94-4AA2-9477-085EC846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428821-95C9-4E2F-87BD-896231FC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B45C6-728E-4D46-92D7-2CEE80E9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251-2084-4BC2-8341-5F6DFC26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96B72-31B8-420A-AD2E-255281D6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A7658-0767-4200-866C-8EB98A08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D26D3-9B63-4B25-B960-9B238552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2CCD0-8162-4462-8E3C-1A5BB594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AB84D-3BD5-4B44-B012-90B09F93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28B31-2E9F-426D-A81E-93D74D0C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3E2BB-1A7A-4063-9587-46C091CD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D0E32-6442-41A7-A636-D84DDC0A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6E2E2-3503-4DDE-9C81-42171FBE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4D273-5E43-499F-9E6D-C4E61F11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2C63-4518-4631-A36C-96A4757B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21605-855C-4F57-9698-6F0F0C16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63E54-93E7-4A25-A68A-81816239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DC89D-1463-4A91-9CAB-C96A8BE9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5F5AA-8310-4B64-8797-56D6BB85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6DD84-10C3-4026-BE3F-A7101518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56C37-21E7-4B5B-A84D-0CD44AE0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423C5-54C5-4B82-8CC2-68F00D09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E361F-24B2-474F-8FD8-C1F28387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EBDB7-2C77-4A91-B3DB-80FEA0C8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524FC-7FB3-405D-B63A-25530AE9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A220-0618-4EF9-B10C-F17DA49B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9123B-D635-4F71-81DE-618B479A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CF153-8694-4806-AD73-37A41836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67C98-180E-4BF4-A9CE-5D6A86B6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77BC6-7882-4187-8BC2-C06424B6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34CBE-820C-4BE2-BF72-507D4B84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C1ADA-4CC2-4609-9FB1-C7F34BCC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7E31E-FF6D-47BB-AB61-41D9633B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8E1FB-55C5-4AE2-910E-67DBD8F8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8397E-5845-4D17-916A-7DB4CB9A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E5CCD-4C5C-40A2-B158-87918F05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C242-0187-4FFC-BDC7-82B57B1E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24CE7-D029-41ED-A59E-EE674C2E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552C9-527F-469A-BEA2-51A8BA85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0B903-1AE9-4ED3-BB8E-CB0048B0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C9976-1D70-4DC4-BAC4-29E2DAB5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9A854-7780-4089-8A56-9E76B214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89BB02-C076-4FE7-876D-C7CC5D93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7C5C0B-FEFE-4D9B-9583-A5C2003F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E40784-694D-451B-A839-F8A24F4F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EDA9C5-DEF0-4519-90ED-C61AFB80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CEBFF7-2061-481B-A4A8-2EDE728F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CABB-A4FC-4A3D-BB2E-D87F4F2B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F50DE5-A34E-4207-953A-7C9E1006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C558FE-8794-43FE-9CDE-5CE9EAAB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A34A7F-731C-4FA5-9122-DE0CCE4B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D0F1EF-86A9-439D-9D6B-B33A0CA1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80F8B0-D986-4B7F-86AD-4C4AB555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03E056-F860-4643-BE76-FC012654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B1A9FB-AF85-4134-B80E-6003F7AC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75392F-E587-4892-A87D-99668685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98DD7D-592E-4384-B4C6-A3DE96D1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E31B7B-6CA8-4BA0-800B-F2C5D63C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F177-AEEF-412A-AD66-0C19037508DE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04AB-5266-4D17-BF30-44B8668AB7B6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FA85-DC82-47F0-844B-DFD40AFFF6D9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7A1C-E120-495A-A1A6-45DC2C6F65F9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31A0-A8BD-4253-BF7A-23E2F136B658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228A-F96B-4B86-B2A0-EA8F6C1CC493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63DB-CE29-4118-8BF0-08B888C4FD48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A906-9FB8-4E7D-9D82-33714BBB118F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9E00-DC0C-4567-83F7-0407B04BF796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dentify properties of regression lines or curves and of the correlation coefficient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nd and interpret linear models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onstruct and apply mathematical models, including lines and curves of best fit, to estimate values of related quantities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tion 2.3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On calculator, press 2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nd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and the zero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s will bring you to the catalog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f you press x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-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, this will take you to the d’s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croll down to Diagnostic On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Press enter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Now when you do your linreg(ax + b), 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          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r should come up as well!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208080" y="195120"/>
            <a:ext cx="8942400" cy="963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Line of best fit </a:t>
            </a:r>
            <a:r>
              <a:rPr b="0" lang="en-US" sz="3200" spc="-1" strike="noStrike">
                <a:solidFill>
                  <a:srgbClr val="ff99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the line with the smallest value for the sum of the squares of the errors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ffff"/>
                </a:solidFill>
                <a:latin typeface="Rockwell"/>
              </a:rPr>
              <a:t>Method of Least Squares </a:t>
            </a:r>
            <a:r>
              <a:rPr b="0" lang="en-US" sz="3200" spc="-1" strike="noStrike">
                <a:solidFill>
                  <a:srgbClr val="9e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9effff"/>
                </a:solidFill>
                <a:latin typeface="Rockwell"/>
              </a:rPr>
              <a:t> the process of finding the line of best fi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enter of Gravity </a:t>
            </a:r>
            <a:r>
              <a:rPr b="0" lang="en-US" sz="3200" spc="-1" strike="noStrike">
                <a:solidFill>
                  <a:srgbClr val="ff99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the coordinates of this point are the mean of the observed x-values and the mean of the observed y-values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-6480" y="-79200"/>
            <a:ext cx="8699760" cy="8539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15228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n August 1990, Consumer Reports listed the following average prices per pound for four grades of raw hamburger: 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0ff"/>
                </a:solidFill>
                <a:latin typeface="Rockwell"/>
              </a:rPr>
              <a:t>regular (72.5% lean), $1.57</a:t>
            </a:r>
            <a:endParaRPr b="0" lang="en-US" sz="26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0ff"/>
                </a:solidFill>
                <a:latin typeface="Rockwell"/>
              </a:rPr>
              <a:t>Chuck (80% lean), $1.85</a:t>
            </a:r>
            <a:endParaRPr b="0" lang="en-US" sz="26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0ff"/>
                </a:solidFill>
                <a:latin typeface="Rockwell"/>
              </a:rPr>
              <a:t>Round (85% lean), $2.38</a:t>
            </a:r>
            <a:endParaRPr b="0" lang="en-US" sz="26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0ff"/>
                </a:solidFill>
                <a:latin typeface="Rockwell"/>
              </a:rPr>
              <a:t>Sirloin (92.5% lean), $2.93</a:t>
            </a:r>
            <a:endParaRPr b="0" lang="en-US" sz="26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Rockwell"/>
              </a:rPr>
              <a:t>Find the equation of best fit:</a:t>
            </a:r>
            <a:endParaRPr b="0" lang="en-US" sz="29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Rockwell"/>
              </a:rPr>
              <a:t>Verify that the center of gravity is on the line of best fit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Rockwell"/>
              </a:rPr>
              <a:t>Find the sum of the squares of the errors for the line of best fi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5602680" y="3962520"/>
            <a:ext cx="29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e706"/>
                </a:solidFill>
                <a:latin typeface="Rockwell"/>
              </a:rPr>
              <a:t>Y = .0702x – 3.61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3622680" y="4952880"/>
            <a:ext cx="46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e706"/>
                </a:solidFill>
                <a:latin typeface="Rockwell"/>
              </a:rPr>
              <a:t> </a:t>
            </a:r>
            <a:r>
              <a:rPr b="1" lang="en-US" sz="2800" spc="-1" strike="noStrike">
                <a:solidFill>
                  <a:srgbClr val="f9e706"/>
                </a:solidFill>
                <a:latin typeface="Rockwell"/>
              </a:rPr>
              <a:t>.0702 (82.5) – 3.61 = $2.18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5867280" y="25909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x  =  percent!</a:t>
            </a:r>
            <a:endParaRPr b="0" lang="en-US" sz="32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5" name=""/>
          <p:cNvGraphicFramePr/>
          <p:nvPr/>
        </p:nvGraphicFramePr>
        <p:xfrm>
          <a:off x="457200" y="1646280"/>
          <a:ext cx="8229600" cy="18540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Rockwell"/>
                        </a:rPr>
                        <a:t>X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Rockwell"/>
                        </a:rPr>
                        <a:t>Actual y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Rockwell"/>
                        </a:rPr>
                        <a:t>Predicted y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Rockwell"/>
                        </a:rPr>
                        <a:t>Error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Rockwell"/>
                        </a:rPr>
                        <a:t>error</a:t>
                      </a:r>
                      <a:r>
                        <a:rPr b="1" lang="en-US" sz="1800" spc="-1" strike="noStrike" baseline="30000">
                          <a:solidFill>
                            <a:srgbClr val="ff99ff"/>
                          </a:solidFill>
                          <a:latin typeface="Rockwell"/>
                        </a:rPr>
                        <a:t>2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72.5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1.57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1.48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91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08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80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1.85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2.006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156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24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85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2.38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2.357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23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01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92.5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2.93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2.884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47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02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</a:tr>
            </a:tbl>
          </a:graphicData>
        </a:graphic>
      </p:graphicFrame>
      <p:sp>
        <p:nvSpPr>
          <p:cNvPr id="416" name="TextBox 4"/>
          <p:cNvSpPr/>
          <p:nvPr/>
        </p:nvSpPr>
        <p:spPr>
          <a:xfrm>
            <a:off x="2787480" y="4487760"/>
            <a:ext cx="283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e706"/>
                </a:solidFill>
                <a:latin typeface="Rockwell"/>
              </a:rPr>
              <a:t>∑</a:t>
            </a:r>
            <a:r>
              <a:rPr b="1" lang="en-US" sz="4400" spc="-1" strike="noStrike">
                <a:solidFill>
                  <a:srgbClr val="f9e706"/>
                </a:solidFill>
                <a:latin typeface="Rockwell"/>
              </a:rPr>
              <a:t>e</a:t>
            </a:r>
            <a:r>
              <a:rPr b="1" lang="en-US" sz="4400" spc="-1" strike="noStrike" baseline="30000">
                <a:solidFill>
                  <a:srgbClr val="f9e706"/>
                </a:solidFill>
                <a:latin typeface="Rockwell"/>
              </a:rPr>
              <a:t>2</a:t>
            </a:r>
            <a:r>
              <a:rPr b="1" lang="en-US" sz="4400" spc="-1" strike="noStrike">
                <a:solidFill>
                  <a:srgbClr val="f9e706"/>
                </a:solidFill>
                <a:latin typeface="Rockwell"/>
              </a:rPr>
              <a:t>≈ .035</a:t>
            </a:r>
            <a:endParaRPr b="0" lang="en-US" sz="44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49120" y="96840"/>
            <a:ext cx="8444160" cy="8539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8088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Rockwell"/>
              </a:rPr>
              <a:t>Try #11 on page 103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a. What is the line of best fit for predicting wrist size from neck size?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Rockwell"/>
              </a:rPr>
              <a:t>b. What is the predicted wrist size of a person with a neck circumference of 37.5?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. What is the correlation coefficient?  Is it strong or weak?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2651040" y="251460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Rockwell"/>
              </a:rPr>
              <a:t>Y = .368x + 3.25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20" name="TextBox 6"/>
          <p:cNvSpPr/>
          <p:nvPr/>
        </p:nvSpPr>
        <p:spPr>
          <a:xfrm>
            <a:off x="1977480" y="3962520"/>
            <a:ext cx="35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Rockwell"/>
              </a:rPr>
              <a:t>Y = .368 (37.5)+ 3.25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21" name="TextBox 7"/>
          <p:cNvSpPr/>
          <p:nvPr/>
        </p:nvSpPr>
        <p:spPr>
          <a:xfrm>
            <a:off x="5798160" y="396252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Rockwell"/>
              </a:rPr>
              <a:t>17.05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22" name="TextBox 8"/>
          <p:cNvSpPr/>
          <p:nvPr/>
        </p:nvSpPr>
        <p:spPr>
          <a:xfrm>
            <a:off x="1240920" y="571500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Rockwell"/>
              </a:rPr>
              <a:t>r = .8400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23" name="TextBox 10"/>
          <p:cNvSpPr/>
          <p:nvPr/>
        </p:nvSpPr>
        <p:spPr>
          <a:xfrm>
            <a:off x="4062960" y="5486400"/>
            <a:ext cx="404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Rockwell"/>
              </a:rPr>
              <a:t>Pretty strong positive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Rockwell"/>
              </a:rPr>
              <a:t>Correlation!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541000" cy="9633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5335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Rockwell"/>
              </a:rPr>
              <a:t>Pages 101 – 103</a:t>
            </a:r>
            <a:endParaRPr b="0" lang="en-US" sz="80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ff"/>
                </a:solidFill>
                <a:latin typeface="Rockwell"/>
              </a:rPr>
              <a:t>5 – 10, 12 – 19</a:t>
            </a:r>
            <a:endParaRPr b="0" lang="en-US" sz="66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bef59"/>
                </a:solidFill>
                <a:latin typeface="Rockwell"/>
              </a:rPr>
              <a:t>Extra credit: 21</a:t>
            </a:r>
            <a:endParaRPr b="0" lang="en-US" sz="66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bef59"/>
                </a:solidFill>
                <a:latin typeface="Rockwell"/>
              </a:rPr>
              <a:t>(must be a hand-written summary)</a:t>
            </a:r>
            <a:endParaRPr b="0" lang="en-US" sz="66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20:57:20Z</dcterms:created>
  <dc:creator>teacher</dc:creator>
  <dc:description/>
  <dc:language>en-US</dc:language>
  <cp:lastModifiedBy>Laura Helbing</cp:lastModifiedBy>
  <dcterms:modified xsi:type="dcterms:W3CDTF">2012-09-18T12:44:14Z</dcterms:modified>
  <cp:revision>10</cp:revision>
  <dc:subject/>
  <dc:title>The Line of Best Fit</dc:title>
</cp:coreProperties>
</file>