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5271-FC5E-4E17-B9E2-D976A8D2C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0DE9-08D3-45FD-B7A8-C1F090FEDB91}" type="slidenum">
              <a:rPr b="0" lang="en-US" sz="1200" spc="-1" strike="noStrike">
                <a:solidFill>
                  <a:srgbClr val="ff99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7F27-5601-48C5-9454-F7950BDC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A95-EDA9-43E6-A58C-71222EB1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95C4E9-67A0-4D6B-91EB-39452DB4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6C7ECE-359A-4CC2-9F02-F641A6AE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052850-BD71-4554-A14C-46B41CAB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FA6E50-8DFE-481D-BB01-5A53670B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E9A8F1-B8E0-46C9-8BF4-2861D47E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C0847F-89C4-4C24-AEEF-A95C8072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2547F3-60D7-42E9-9AB3-CD26F39A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067E25-CD3C-419A-9584-980A53BF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DD264E-58FB-4C76-8579-5570B553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4CCE-1F97-4A21-8279-ECE6CEBE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49C-C1F8-412F-A39D-8ED1D234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4C8B9-42CD-406F-A4C0-DD0D7EDA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420C8-8D85-447F-8402-66BC4FF6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BE2D1-28A6-498C-AF05-ED01E3EE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12A90-7129-43C0-9263-0155FC69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AD0CB-95C4-40B1-BD4D-4553FB0D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81ABA-41AF-4C56-863F-F61C011C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2D964-D21D-4458-83DB-C2FD2A1A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EC1B-C5A3-412A-ACCF-69B57045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0AE1C-E006-4074-AEE1-F211D221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D6726-6642-465F-A857-5337872F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7C77B-977C-42C3-93EF-25201F3B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AB66E-657C-45E0-BD7D-B22BC6657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2EF39-5541-4850-B2F4-6771F890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6BFC0-8320-4A18-B3CB-4224A1D3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32E3D-FF13-47B1-8332-4E730765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AB53A-279D-4597-A94F-2A73C870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1BF3-359C-4D36-8D58-F9B96B39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E04EA-7D80-4E94-BDD3-6BF05396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88D-73E1-42DE-8C71-5E74F9E4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069BC-9B50-4A86-B7F4-E853F797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D0155-5393-4E51-AE5C-98874491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B0BC8-8476-47FC-A72C-0416EFD3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5CAEF-5CF5-4EB3-A8F5-4BE9FAB8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2ABBC-B3D6-4BE6-9FC8-0D16832F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A5466-88CC-4FAA-857D-B7BC9335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A4EB5-5A95-40DB-A3D7-78826DF6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9173A-1175-4E4F-996A-CED99C7D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E198B7-57A5-4C5E-B390-51258C93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F2330C-C216-4BA9-9349-FA8A7F69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DA2-BEBC-416D-82FA-749B3B69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369DB-300E-425F-B157-F179EA9B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D4934D-2B5A-4C1F-976D-A35EE9DC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026017-A6F8-4EF9-96B4-66E4A085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80069C-C668-4F4F-8C33-8EF0A5FA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20A508-6B9D-4C9D-A76D-B9877DB9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21A9E0-3B32-45A1-B1B8-C8BA68F5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35D59E-7379-4CD0-852C-9BC5C7C1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10D5FC-87B5-4B8E-B3D1-AADC5C9A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CA302-9B3C-4CB6-B703-EE8E383D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61F07-4BBE-442B-AC15-48D5C1FB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8CB-9704-4B09-9AD1-9C9FB491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98917-D904-46FF-8A5A-5CCC6F6F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9C695-70E9-4C2B-A14A-39816F77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46D09-76D7-41DC-A704-E9311186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5542B-0AE7-4E6B-82A3-C987EA69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B4360-C97C-4E5C-ABDE-E7828366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09896-1C7D-4785-83D3-91E0BD14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27790-EA95-4D93-829B-9F82678F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A0FAA-9DF7-4885-9876-96945FE6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A1ACB-6CCA-489B-9433-98F06DF2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E7B83-8BA2-43D2-8935-86C66F9B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749-C7E0-425B-BCDE-1A5BD591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B42A6-917D-423A-8938-02E77CF1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6BF4F-9292-4BD8-86D0-BEDE1346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719C3-FD90-47F3-927E-778C8763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B0AD3-7C02-4D3C-8ECD-627358F3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184B0-2A87-4574-A18E-5387FC4A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3A6EB-D9B3-47CF-B20E-7AA3A890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9BB0D-1D8A-4271-9463-F515BA5A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E9107-28C8-4624-A2DA-037DDA5A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B5055-8C7C-4EF0-A33C-D1F60F19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1D93F-AC69-407A-A008-B131521B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8B2-19D5-4113-8535-51CAEE70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E865E-345F-4E92-845A-34E3D393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D583C-A6F1-4EAE-A711-85C753A5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F0ED9-0EA2-4D6F-A7AB-F6E51D61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C6F8A-1914-4827-86EF-7857EF47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A3F5D-AC1F-4382-95BB-86EE1684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94649-BD13-40AE-BBA5-F022ACA6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64DDC-4D75-4011-A38E-010963DB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EE492-7967-4C06-A184-490C8FF6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3BF36-2CBF-411C-8B4C-D29002DC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4E412-B444-4813-94C0-6684FA10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F64-07CC-4DF4-96D2-C0C9FA8D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D6B14-FD65-4744-9B12-BB5F9AEE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00E5F-FE93-4EAA-A445-BF355758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8800F-B77F-4A9E-88D5-3C2A86D0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91BD4-1178-4A56-BFC4-91259C10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DEA87-2994-4D04-A6C8-1A3E99F9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7C7473-CCE6-4FC3-99CD-E799D09B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253E17-DE1E-4AB5-90A2-7E9A7C8A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952E41-55DC-45C8-9B4D-A4FC22E9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900A73-A78A-462C-B94A-EB48463A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3AAA0C-5322-4052-BAA8-45B7A7F8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AC2-4D93-4F4D-A266-474974AA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54F56E-8D17-4F31-A837-34FB80FD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FB0C14-2E5A-48D3-96C6-1EB831D1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08430E-8337-4724-899E-56F14D81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05D104-AF49-465D-87EF-31B571CB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32D6E3-7FAC-4E08-8E04-5EDB6ED0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3D8196-52BC-4304-A5F4-90BED779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010A61-A1AF-4FC8-B831-032715DA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31991E-3DEE-4FA3-81A7-ED83D2B7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B2A4A6-CFB6-4563-ACC5-01EB2C4D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6652C3-5D78-42D4-BAC8-CB962B68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7880-8E89-4E6F-A262-46E12EF0A133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6D8C-1817-4AC1-8DC8-1B6C8487D875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7655-9686-4577-9419-56C359DC0D31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278C-A179-4BC1-89EC-0037F3D8DC5C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C5C2-4AE7-4E13-8325-6F7A9A1A8B73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AFE8-5179-4FAE-8209-AD3FB2AFD798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BB46-CD58-4CA9-857F-8703719B0C7C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4DFC-2428-49BC-B67D-909D133C00C4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8FE1-8217-4DEB-8B31-503EF061D818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dentify properties of regression lines or curves and of the correlation coefficient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nd and interpret linear models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onstruct and apply mathematical models, including lines and curves of best fit, to estimate values of related quantities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tion 2.3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On calculator, press 2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nd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nd the zero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s will bring you to the catalog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f you press x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-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, this will take you to the d’s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croll down to Diagnostic On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Press enter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Now when you do your linreg(ax + b),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          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r should come up as well!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942400" cy="963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Line of best fit </a:t>
            </a:r>
            <a:r>
              <a:rPr b="0" lang="en-US" sz="3200" spc="-1" strike="noStrike">
                <a:solidFill>
                  <a:srgbClr val="ff99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 line with the smallest value for the sum of the squares of the errors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ffff"/>
                </a:solidFill>
                <a:latin typeface="Rockwell"/>
              </a:rPr>
              <a:t>Method of Least Squares </a:t>
            </a:r>
            <a:r>
              <a:rPr b="0" lang="en-US" sz="3200" spc="-1" strike="noStrike">
                <a:solidFill>
                  <a:srgbClr val="9e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9effff"/>
                </a:solidFill>
                <a:latin typeface="Rockwell"/>
              </a:rPr>
              <a:t> the process of finding the line of best fi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enter of Gravity </a:t>
            </a:r>
            <a:r>
              <a:rPr b="0" lang="en-US" sz="3200" spc="-1" strike="noStrike">
                <a:solidFill>
                  <a:srgbClr val="ff99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 coordinates of this point are the mean of the observed x-values and the mean of the observed y-values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8699760" cy="8539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5228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n August 1990, Consumer Reports listed the following average prices per pound for four grades of raw hamburger: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0ff"/>
                </a:solidFill>
                <a:latin typeface="Rockwell"/>
              </a:rPr>
              <a:t>regular (72.5% lean), $1.57</a:t>
            </a:r>
            <a:endParaRPr b="0" lang="en-US" sz="26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0ff"/>
                </a:solidFill>
                <a:latin typeface="Rockwell"/>
              </a:rPr>
              <a:t>Chuck (80% lean), $1.85</a:t>
            </a:r>
            <a:endParaRPr b="0" lang="en-US" sz="26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0ff"/>
                </a:solidFill>
                <a:latin typeface="Rockwell"/>
              </a:rPr>
              <a:t>Round (85% lean), $2.38</a:t>
            </a:r>
            <a:endParaRPr b="0" lang="en-US" sz="26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0ff"/>
                </a:solidFill>
                <a:latin typeface="Rockwell"/>
              </a:rPr>
              <a:t>Sirloin (92.5% lean), $2.93</a:t>
            </a:r>
            <a:endParaRPr b="0" lang="en-US" sz="26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Rockwell"/>
              </a:rPr>
              <a:t>Find the equation of best fit:</a:t>
            </a:r>
            <a:endParaRPr b="0" lang="en-US" sz="29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Verify that the center of gravity is on the line of best fit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Find the sum of the squares of the errors for the line of best fi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5602680" y="3962520"/>
            <a:ext cx="29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e706"/>
                </a:solidFill>
                <a:latin typeface="Rockwell"/>
              </a:rPr>
              <a:t>Y = .0702x – 3.61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3622680" y="4952880"/>
            <a:ext cx="46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e706"/>
                </a:solidFill>
                <a:latin typeface="Rockwell"/>
              </a:rPr>
              <a:t> </a:t>
            </a:r>
            <a:r>
              <a:rPr b="1" lang="en-US" sz="2800" spc="-1" strike="noStrike">
                <a:solidFill>
                  <a:srgbClr val="f9e706"/>
                </a:solidFill>
                <a:latin typeface="Rockwell"/>
              </a:rPr>
              <a:t>.0702 (82.5) – 3.61 = $2.18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5867280" y="2590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x  =  percent!</a:t>
            </a:r>
            <a:endParaRPr b="0" lang="en-US" sz="32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5" name=""/>
          <p:cNvGraphicFramePr/>
          <p:nvPr/>
        </p:nvGraphicFramePr>
        <p:xfrm>
          <a:off x="457200" y="1646280"/>
          <a:ext cx="8229600" cy="18540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X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Actual y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Predicted y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Error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error</a:t>
                      </a:r>
                      <a:r>
                        <a:rPr b="1" lang="en-US" sz="1800" spc="-1" strike="noStrike" baseline="30000">
                          <a:solidFill>
                            <a:srgbClr val="ff99ff"/>
                          </a:solidFill>
                          <a:latin typeface="Rockwell"/>
                        </a:rPr>
                        <a:t>2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72.5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1.57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1.48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91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08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80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1.85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006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156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24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85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38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357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23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01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92.5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93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884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47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02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</a:tbl>
          </a:graphicData>
        </a:graphic>
      </p:graphicFrame>
      <p:sp>
        <p:nvSpPr>
          <p:cNvPr id="416" name="TextBox 4"/>
          <p:cNvSpPr/>
          <p:nvPr/>
        </p:nvSpPr>
        <p:spPr>
          <a:xfrm>
            <a:off x="2787480" y="4487760"/>
            <a:ext cx="283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e706"/>
                </a:solidFill>
                <a:latin typeface="Rockwell"/>
              </a:rPr>
              <a:t>∑</a:t>
            </a:r>
            <a:r>
              <a:rPr b="1" lang="en-US" sz="4400" spc="-1" strike="noStrike">
                <a:solidFill>
                  <a:srgbClr val="f9e706"/>
                </a:solidFill>
                <a:latin typeface="Rockwell"/>
              </a:rPr>
              <a:t>e</a:t>
            </a:r>
            <a:r>
              <a:rPr b="1" lang="en-US" sz="4400" spc="-1" strike="noStrike" baseline="30000">
                <a:solidFill>
                  <a:srgbClr val="f9e706"/>
                </a:solidFill>
                <a:latin typeface="Rockwell"/>
              </a:rPr>
              <a:t>2</a:t>
            </a:r>
            <a:r>
              <a:rPr b="1" lang="en-US" sz="4400" spc="-1" strike="noStrike">
                <a:solidFill>
                  <a:srgbClr val="f9e706"/>
                </a:solidFill>
                <a:latin typeface="Rockwell"/>
              </a:rPr>
              <a:t>≈ .035</a:t>
            </a:r>
            <a:endParaRPr b="0" lang="en-US" sz="44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49120" y="96840"/>
            <a:ext cx="8444160" cy="853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8088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Try #11 on page 103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a. What is the line of best fit for predicting wrist size from neck size?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b. What is the predicted wrist size of a person with a neck circumference of 37.5?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. What is the correlation coefficient?  Is it strong or weak?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2651040" y="251460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Y = .368x + 3.25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20" name="TextBox 6"/>
          <p:cNvSpPr/>
          <p:nvPr/>
        </p:nvSpPr>
        <p:spPr>
          <a:xfrm>
            <a:off x="1977480" y="396252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Y = .368 (37.5)+ 3.25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21" name="TextBox 7"/>
          <p:cNvSpPr/>
          <p:nvPr/>
        </p:nvSpPr>
        <p:spPr>
          <a:xfrm>
            <a:off x="5798160" y="396252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17.05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1240920" y="571500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r = .8400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23" name="TextBox 10"/>
          <p:cNvSpPr/>
          <p:nvPr/>
        </p:nvSpPr>
        <p:spPr>
          <a:xfrm>
            <a:off x="4062960" y="5486400"/>
            <a:ext cx="404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Pretty strong positive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Correlation!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541000" cy="9633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Rockwell"/>
              </a:rPr>
              <a:t>Pages 101 – 103</a:t>
            </a:r>
            <a:endParaRPr b="0" lang="en-US" sz="80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ff"/>
                </a:solidFill>
                <a:latin typeface="Rockwell"/>
              </a:rPr>
              <a:t>5 – 10, 12 – 19</a:t>
            </a:r>
            <a:endParaRPr b="0" lang="en-US" sz="66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bef59"/>
                </a:solidFill>
                <a:latin typeface="Rockwell"/>
              </a:rPr>
              <a:t>Extra credit: 21</a:t>
            </a:r>
            <a:endParaRPr b="0" lang="en-US" sz="66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bef59"/>
                </a:solidFill>
                <a:latin typeface="Rockwell"/>
              </a:rPr>
              <a:t>(must be a hand-written summary)</a:t>
            </a:r>
            <a:endParaRPr b="0" lang="en-US" sz="66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0:57:20Z</dcterms:created>
  <dc:creator>teacher</dc:creator>
  <dc:description/>
  <dc:language>en-US</dc:language>
  <cp:lastModifiedBy>Laura Helbing</cp:lastModifiedBy>
  <dcterms:modified xsi:type="dcterms:W3CDTF">2012-09-18T12:44:14Z</dcterms:modified>
  <cp:revision>10</cp:revision>
  <dc:subject/>
  <dc:title>The Line of Best Fit</dc:title>
</cp:coreProperties>
</file>