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EDE-D338-4F9C-9C1F-D2B96D54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9705-EB38-4037-B9F5-48162A10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943F-C187-4301-A2CD-F6C797EE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8D6-547C-48CD-BF17-929FAE4D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0A8A-4771-4885-8E72-05729C18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237-21F9-4854-81F3-88A7BC2E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7DD-0703-4F05-941B-F6324958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158-EBA7-40AF-98E3-5C71FC75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7AE-BED3-4451-AFD0-C1750AC7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99C5-C471-4104-BA66-BD825657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F5EC-0099-4B24-8FBD-324435FB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B3B-3F93-434E-A9D8-3251ECDB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9BC7-DE6E-4FD4-B810-D258947E5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Probability Distrib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28600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395034"/>
                </a:solidFill>
                <a:latin typeface="Calibri"/>
              </a:rPr>
              <a:t>Section 7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743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395034"/>
                </a:solidFill>
                <a:latin typeface="Calibri"/>
              </a:rPr>
              <a:t>Pages 461 – 46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395034"/>
                </a:solidFill>
                <a:latin typeface="Calibri"/>
              </a:rPr>
              <a:t>3 – 6, 8 – 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395034"/>
                </a:solidFill>
                <a:latin typeface="Calibri"/>
              </a:rPr>
              <a:t>13 –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928880" y="1599840"/>
            <a:ext cx="6757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Random Variable: values are numbers determined by the outcome of an experi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(rolling 2 dice: rv’s </a:t>
            </a:r>
            <a:r>
              <a:rPr b="0" lang="fr-FR" sz="3200" spc="-1" strike="noStrike">
                <a:solidFill>
                  <a:srgbClr val="395034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 2 through 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Probability Distribution: function which maps each value of a rv onto its proba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Relative Frequency: Looks like a probability distribution, but in an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pected Val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28880" y="1599840"/>
            <a:ext cx="6757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Weighted averag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L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be a probability distribution.  The mean (or expected value) </a:t>
            </a:r>
            <a:r>
              <a:rPr b="0" lang="el-GR" sz="3200" spc="-1" strike="noStrike">
                <a:solidFill>
                  <a:srgbClr val="395034"/>
                </a:solidFill>
                <a:latin typeface="Calibri"/>
              </a:rPr>
              <a:t>μ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 (mu) of the distribution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3000240" y="4857840"/>
                <a:ext cx="394812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2895480" y="2714760"/>
                <a:ext cx="6248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9"/>
          <p:cNvSpPr/>
          <p:nvPr/>
        </p:nvSpPr>
        <p:spPr>
          <a:xfrm>
            <a:off x="0" y="5072040"/>
            <a:ext cx="8929800" cy="78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2640" y="856800"/>
            <a:ext cx="7543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95034"/>
                </a:solidFill>
                <a:latin typeface="Calibri"/>
              </a:rPr>
              <a:t>Just for these notes, an author rolled two normal dice 9 times with the following sums: 6, 10, 11, 10, 9, 9, 12, 7,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Mea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Give the percent error between the mean and the expected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14200" y="4143240"/>
          <a:ext cx="8715600" cy="736560"/>
        </p:xfrm>
        <a:graphic>
          <a:graphicData uri="http://schemas.openxmlformats.org/drawingml/2006/table">
            <a:tbl>
              <a:tblPr/>
              <a:tblGrid>
                <a:gridCol w="727200"/>
                <a:gridCol w="725400"/>
                <a:gridCol w="727200"/>
                <a:gridCol w="725400"/>
                <a:gridCol w="727200"/>
                <a:gridCol w="725400"/>
                <a:gridCol w="727200"/>
                <a:gridCol w="725400"/>
                <a:gridCol w="727200"/>
                <a:gridCol w="725400"/>
                <a:gridCol w="726840"/>
                <a:gridCol w="725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14200" y="4214880"/>
          <a:ext cx="8715600" cy="736560"/>
        </p:xfrm>
        <a:graphic>
          <a:graphicData uri="http://schemas.openxmlformats.org/drawingml/2006/table">
            <a:tbl>
              <a:tblPr/>
              <a:tblGrid>
                <a:gridCol w="725760"/>
                <a:gridCol w="726840"/>
                <a:gridCol w="725400"/>
                <a:gridCol w="727200"/>
                <a:gridCol w="725400"/>
                <a:gridCol w="727200"/>
                <a:gridCol w="727200"/>
                <a:gridCol w="725400"/>
                <a:gridCol w="727200"/>
                <a:gridCol w="725400"/>
                <a:gridCol w="726840"/>
                <a:gridCol w="725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0" y="5072040"/>
                <a:ext cx="89298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Box 10"/>
          <p:cNvSpPr/>
          <p:nvPr/>
        </p:nvSpPr>
        <p:spPr>
          <a:xfrm>
            <a:off x="2361960" y="600084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4000680" y="5869080"/>
                <a:ext cx="15141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TextBox 12"/>
          <p:cNvSpPr/>
          <p:nvPr/>
        </p:nvSpPr>
        <p:spPr>
          <a:xfrm>
            <a:off x="6295320" y="5929200"/>
            <a:ext cx="17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31.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2872440" y="2428920"/>
            <a:ext cx="286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3/ 9 = 9.2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There is a family with 4 children.  Let the random variable of the distribution stand for the number of b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What is the domain of the RV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Find the probability for each value of the r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Construct a histogram of the probability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Find the expected value of the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There is a family with 4 children.  Let the random variable of the distribution stand for the number of b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What is the domain of the RV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{0, 1, 2, 3, 4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There is a family with 4 children.  Let the random variable of the distribution stand for the number of bo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b. Find the probability for each value of the r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071800" y="4643280"/>
          <a:ext cx="5224320" cy="74160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560"/>
                <a:gridCol w="869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214200" y="214200"/>
            <a:ext cx="675792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7320" y="213840"/>
            <a:ext cx="57862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c. Construct a histogram of the probability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hart 4" descr=""/>
          <p:cNvPicPr/>
          <p:nvPr/>
        </p:nvPicPr>
        <p:blipFill>
          <a:blip r:embed="rId2"/>
          <a:stretch/>
        </p:blipFill>
        <p:spPr>
          <a:xfrm>
            <a:off x="2643120" y="2868480"/>
            <a:ext cx="6096240" cy="39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2000160" y="1357200"/>
          <a:ext cx="6072120" cy="1170000"/>
        </p:xfrm>
        <a:graphic>
          <a:graphicData uri="http://schemas.openxmlformats.org/drawingml/2006/table">
            <a:tbl>
              <a:tblPr/>
              <a:tblGrid>
                <a:gridCol w="1013040"/>
                <a:gridCol w="1011240"/>
                <a:gridCol w="1012680"/>
                <a:gridCol w="1011240"/>
                <a:gridCol w="1012680"/>
                <a:gridCol w="1011240"/>
              </a:tblGrid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67582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95034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28880" y="856800"/>
            <a:ext cx="67579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d. Find the expected value of the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0(1/16) + 1(4/16) + 2(6/16) + 3(4/16) + 4(1/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5034"/>
                </a:solidFill>
                <a:latin typeface="Calibri"/>
              </a:rPr>
              <a:t>=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3950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14720" y="2000160"/>
          <a:ext cx="6429240" cy="1384560"/>
        </p:xfrm>
        <a:graphic>
          <a:graphicData uri="http://schemas.openxmlformats.org/drawingml/2006/table">
            <a:tbl>
              <a:tblPr/>
              <a:tblGrid>
                <a:gridCol w="1071360"/>
                <a:gridCol w="1071720"/>
                <a:gridCol w="1071360"/>
                <a:gridCol w="1071720"/>
                <a:gridCol w="1071360"/>
                <a:gridCol w="107172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Laura Helbing</cp:lastModifiedBy>
  <dcterms:modified xsi:type="dcterms:W3CDTF">2011-02-28T02:48:19Z</dcterms:modified>
  <cp:revision>31</cp:revision>
  <dc:subject/>
  <dc:title>PRESENTATION  NAME</dc:title>
</cp:coreProperties>
</file>