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397-4D5E-4B66-B253-87E48958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42A-CC10-423B-B74B-6BAB7A17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580-FDDA-44D3-8595-468AEF74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8B5-1EE1-45E8-9610-6DD4AFF6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D25-BFF7-48FA-B06E-C9E83EEE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CB0-CE22-48ED-8394-577F54CA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50E-4246-4128-90AB-C0FC3617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227-3459-4963-9BDE-902D44F4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61D-BCFB-4684-A065-47251C12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636-38E0-4F93-814A-7F523FEA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FD4-A977-4A2B-8B54-293AD413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216-9E92-4449-B2FA-79DF1FAA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C665-B3C5-4026-B239-53CB90EB69F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8640" y="9997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1b92b2"/>
                </a:solidFill>
                <a:latin typeface="Calibri"/>
              </a:rPr>
              <a:t>General Solutions to Trigonometric Equ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1b92b2"/>
                </a:solidFill>
                <a:latin typeface="Calibri"/>
              </a:rPr>
              <a:t>Lesson 5.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285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b9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rigonometric equation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WATCH OUT FOR THE DOMAIN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FIGURE OUT IF YOU ARE IN DEGREES OR RADIANS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152388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b9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Consider the equation cos x = .4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Estimate the solution between 0 and 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 to the nearest thousan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Estimate all solutions between 0 and 2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, 5.1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Describe all real sol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 + 2πn, 5.186+ 2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Solve for x in degrees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3 tan</a:t>
            </a:r>
            <a:r>
              <a:rPr b="1" lang="en-US" sz="4800" spc="-1" strike="noStrike" baseline="30000">
                <a:solidFill>
                  <a:srgbClr val="1b92b2"/>
                </a:solidFill>
                <a:latin typeface="Calibri"/>
              </a:rPr>
              <a:t>2 </a:t>
            </a: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x + 4tan x + 1 =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(3tanx + 1) (tan x + 1)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3 tan x + 1 = 0                 tan x + 1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an x = -1/3                           tan x = 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x = 341.6 + 360n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   x = 135 + 360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161.6 + 360n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   x = 315 + 360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0528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his estimates the number of hours y of daylight on the xth day of the year at the latitude of Seattle.  Approximately when is a daylight period 11 hours long in Seattl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3886200" y="0"/>
                <a:ext cx="5029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6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307800" y="4038480"/>
                <a:ext cx="38484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85760" y="5459400"/>
                <a:ext cx="42451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4648320" y="4114800"/>
                <a:ext cx="4311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98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8"/>
              <p:cNvSpPr txBox="1"/>
              <p:nvPr/>
            </p:nvSpPr>
            <p:spPr>
              <a:xfrm>
                <a:off x="4500720" y="5334120"/>
                <a:ext cx="4047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5226120" y="6064200"/>
                <a:ext cx="28843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285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Pages 351 – 35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7  - 14, 19, 2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Skip 11 b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16:59:35Z</dcterms:created>
  <dc:creator>Laura Helbing</dc:creator>
  <dc:description/>
  <dc:language>en-US</dc:language>
  <cp:lastModifiedBy>Laura Helbing</cp:lastModifiedBy>
  <dcterms:modified xsi:type="dcterms:W3CDTF">2011-01-11T19:24:01Z</dcterms:modified>
  <cp:revision>9</cp:revision>
  <dc:subject/>
  <dc:title>General Solutions to Trigonometric Equations</dc:title>
</cp:coreProperties>
</file>