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3793-E933-4EC4-8068-A4317615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C59D-807F-46BB-9D08-8BEF152E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B302-6405-43BF-B805-9596B5D9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63FC-77FD-417D-BE74-C61F2922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75FF-BA6A-4F12-AFAF-656BFC0C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604D-321E-41FE-8A03-70DEF60C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6B6B-C960-453F-9188-79579261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E124-04B7-4C90-8CE8-F82D25E9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6811-3DCB-4850-9F4C-0CC8EE44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7EF0-8DF8-42F6-B61F-685F2CEA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1851-7A07-4F52-974B-21F96329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E3AB-5922-4545-8420-938452DE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FF30-8DF3-4161-BD27-022E8123D0D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8640" y="99972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1b92b2"/>
                </a:solidFill>
                <a:latin typeface="Calibri"/>
              </a:rPr>
              <a:t>General Solutions to Trigonometric Equ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1b92b2"/>
                </a:solidFill>
                <a:latin typeface="Calibri"/>
              </a:rPr>
              <a:t>Lesson 5.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92852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b9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Trigonometric equation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WATCH OUT FOR THE DOMAIN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FIGURE OUT IF YOU ARE IN DEGREES OR RADIANS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80880" y="1523880"/>
            <a:ext cx="82296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b9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Consider the equation cos x = .45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b9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Estimate the solution between 0 and </a:t>
            </a:r>
            <a:r>
              <a:rPr b="0" lang="el-GR" sz="2800" spc="-1" strike="noStrike">
                <a:solidFill>
                  <a:srgbClr val="1b92b2"/>
                </a:solidFill>
                <a:latin typeface="Calibri"/>
              </a:rPr>
              <a:t>π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 to the nearest thousand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1.09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b9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Estimate all solutions between 0 and 2</a:t>
            </a:r>
            <a:r>
              <a:rPr b="0" lang="el-GR" sz="2800" spc="-1" strike="noStrike">
                <a:solidFill>
                  <a:srgbClr val="1b92b2"/>
                </a:solidFill>
                <a:latin typeface="Calibri"/>
              </a:rPr>
              <a:t>π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1.097, 5.18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b92b2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Describe all real solu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1.097 + 2πn, 5.186+ 2</a:t>
            </a:r>
            <a:r>
              <a:rPr b="0" lang="el-GR" sz="2800" spc="-1" strike="noStrike">
                <a:solidFill>
                  <a:srgbClr val="1b92b2"/>
                </a:solidFill>
                <a:latin typeface="Calibri"/>
              </a:rPr>
              <a:t>π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28520"/>
            <a:ext cx="82296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b92b2"/>
                </a:solidFill>
                <a:latin typeface="Calibri"/>
              </a:rPr>
              <a:t>Solve for x in degrees: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b92b2"/>
                </a:solidFill>
                <a:latin typeface="Calibri"/>
              </a:rPr>
              <a:t>3 tan</a:t>
            </a:r>
            <a:r>
              <a:rPr b="1" lang="en-US" sz="4800" spc="-1" strike="noStrike" baseline="30000">
                <a:solidFill>
                  <a:srgbClr val="1b92b2"/>
                </a:solidFill>
                <a:latin typeface="Calibri"/>
              </a:rPr>
              <a:t>2 </a:t>
            </a:r>
            <a:r>
              <a:rPr b="1" lang="en-US" sz="4800" spc="-1" strike="noStrike">
                <a:solidFill>
                  <a:srgbClr val="1b92b2"/>
                </a:solidFill>
                <a:latin typeface="Calibri"/>
              </a:rPr>
              <a:t>x + 4tan x + 1 =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(3tanx + 1) (tan x + 1) =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3 tan x + 1 = 0                 tan x + 1 =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tan x = -1/3                           tan x = 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x = 341.6 + 360n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    x = 135 + 360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161.6 + 360n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    x = 315 + 360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05280" y="2282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This estimates the number of hours y of daylight on the xth day of the year at the latitude of Seattle.  Approximately when is a daylight period 11 hours long in Seattl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3886200" y="0"/>
                <a:ext cx="502920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num>
                          <m:den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6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5"/>
              <p:cNvSpPr txBox="1"/>
              <p:nvPr/>
            </p:nvSpPr>
            <p:spPr>
              <a:xfrm>
                <a:off x="307800" y="4038480"/>
                <a:ext cx="384840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6"/>
              <p:cNvSpPr txBox="1"/>
              <p:nvPr/>
            </p:nvSpPr>
            <p:spPr>
              <a:xfrm>
                <a:off x="185760" y="5459400"/>
                <a:ext cx="424512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7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7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7"/>
              <p:cNvSpPr txBox="1"/>
              <p:nvPr/>
            </p:nvSpPr>
            <p:spPr>
              <a:xfrm>
                <a:off x="4648320" y="4114800"/>
                <a:ext cx="43113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98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7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7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8"/>
              <p:cNvSpPr txBox="1"/>
              <p:nvPr/>
            </p:nvSpPr>
            <p:spPr>
              <a:xfrm>
                <a:off x="4500720" y="5334120"/>
                <a:ext cx="40478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1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7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7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9"/>
              <p:cNvSpPr txBox="1"/>
              <p:nvPr/>
            </p:nvSpPr>
            <p:spPr>
              <a:xfrm>
                <a:off x="5226120" y="6064200"/>
                <a:ext cx="28843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92852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1b92b2"/>
                </a:solidFill>
                <a:latin typeface="Calibri"/>
              </a:rPr>
              <a:t>Pages 351 – 352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1b92b2"/>
                </a:solidFill>
                <a:latin typeface="Calibri"/>
              </a:rPr>
              <a:t>7  - 14, 19, 2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1b92b2"/>
                </a:solidFill>
                <a:latin typeface="Calibri"/>
              </a:rPr>
              <a:t>Skip 11 b.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9T16:59:35Z</dcterms:created>
  <dc:creator>Laura Helbing</dc:creator>
  <dc:description/>
  <dc:language>en-US</dc:language>
  <cp:lastModifiedBy>Laura Helbing</cp:lastModifiedBy>
  <dcterms:modified xsi:type="dcterms:W3CDTF">2011-01-11T19:24:01Z</dcterms:modified>
  <cp:revision>9</cp:revision>
  <dc:subject/>
  <dc:title>General Solutions to Trigonometric Equations</dc:title>
</cp:coreProperties>
</file>