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DC6-7781-4173-AC85-CBECAE00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280-DF02-4BF5-B35C-70E4FDE4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7A1-DB8F-4A26-B59A-A1A3F05A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E6E-B736-41EF-B8ED-DC2F856C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DF0-9B7D-46A4-A779-07336797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307-5D92-4149-ACE8-3FA6A09C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941-48BB-44BD-A1C6-3619C8D3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884-4136-4BD2-9D54-5F8822C6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F61B-4019-4D8D-BC62-C2FD42F1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415-1518-4A85-8D97-7D225D5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10DB-A32D-4221-AB97-111F0413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BC5-9D32-409F-AF49-488A0811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D158-F89B-416D-BA8E-94B2B2049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The Inverse Sin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87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Lesson 5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42600" y="1428840"/>
            <a:ext cx="8001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sinx.gif"/>
          <p:cNvPicPr/>
          <p:nvPr/>
        </p:nvPicPr>
        <p:blipFill>
          <a:blip r:embed="rId2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720" y="205920"/>
            <a:ext cx="65437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fr-CA" sz="4000" spc="-1" strike="noStrike" baseline="30000">
                <a:solidFill>
                  <a:srgbClr val="000000"/>
                </a:solidFill>
                <a:latin typeface="Calibri"/>
              </a:rPr>
              <a:t>-1 </a:t>
            </a: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720" y="1071720"/>
            <a:ext cx="654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f we took y = sin x on its entire domain, the inverse would not be a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o, we restrict the domain of 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 to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–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2 ≤ y 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x = arcsin = 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sinx.gif"/>
          <p:cNvPicPr/>
          <p:nvPr/>
        </p:nvPicPr>
        <p:blipFill>
          <a:blip r:embed="rId2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  <p:sp>
        <p:nvSpPr>
          <p:cNvPr id="52" name="Freeform 5"/>
          <p:cNvSpPr/>
          <p:nvPr/>
        </p:nvSpPr>
        <p:spPr>
          <a:xfrm>
            <a:off x="3962520" y="1335240"/>
            <a:ext cx="1349280" cy="27032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286000" y="1352520"/>
            <a:ext cx="4572000" cy="357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2720" y="205920"/>
            <a:ext cx="65437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42720" y="1071720"/>
            <a:ext cx="654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Find the exact value of sin 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(       ) =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n x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 = -60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˚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or –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6629400" y="1047600"/>
                <a:ext cx="609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5181480" y="1886040"/>
                <a:ext cx="609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5943600" y="2800440"/>
                <a:ext cx="609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040" y="119988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in 1000˚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-.984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x = -.9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-80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– what is 1000˚ in the domain of arcsin?   -80˚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57040" y="1200240"/>
            <a:ext cx="66294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lagpole is 60 feet high.  If you sight the top of the pole from ground level, express the angle of elevation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top of the flagpole as a function of your distance d from the t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ight Triangle 3"/>
          <p:cNvSpPr/>
          <p:nvPr/>
        </p:nvSpPr>
        <p:spPr>
          <a:xfrm>
            <a:off x="4724280" y="3333600"/>
            <a:ext cx="914400" cy="152424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118400" y="4019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184360" y="447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259960" y="3867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6477120" y="3029040"/>
                <a:ext cx="1574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6400800" y="4019400"/>
                <a:ext cx="202896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143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ages 338 – 33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6 – 28 evens!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3:55:19Z</dcterms:created>
  <dc:creator>Laura Helbing</dc:creator>
  <dc:description/>
  <dc:language>en-US</dc:language>
  <cp:lastModifiedBy>Laura Helbing</cp:lastModifiedBy>
  <dcterms:modified xsi:type="dcterms:W3CDTF">2012-12-19T02:37:32Z</dcterms:modified>
  <cp:revision>4</cp:revision>
  <dc:subject/>
  <dc:title>The Inverse Sine Function</dc:title>
</cp:coreProperties>
</file>