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9FE4-46F5-49B0-8B99-7E325920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170E-BBAE-46A0-897F-8C9CEA06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4A3E-9B9A-4FDD-98AB-0BF6F776C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2514-3B86-48A6-B9D5-38ECEEF3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E035-5FC9-428A-8618-7691315C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2ABE-E144-48E0-9765-4CDF7D43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0F53-00A2-4AE9-9E00-E6CF7CBC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9412-04D9-4275-BACA-BD18AE1E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7867-78FE-4A23-B008-0EA62DC9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E976-FE7A-4440-B195-400CD023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0267-002D-4612-AFF4-C7D9EC7C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2556-9EB6-4728-9478-6072203C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50E2-1C66-4DA1-8E69-9E1058A3D8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4308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The Inverse Cosine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30320"/>
            <a:ext cx="64008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404040"/>
                </a:solidFill>
                <a:latin typeface="Calibri"/>
              </a:rPr>
              <a:t>Lesson 5.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Calibri"/>
              </a:rPr>
              <a:t>Pages 325 – 32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Calibri"/>
              </a:rPr>
              <a:t>4 – 12,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Calibri"/>
              </a:rPr>
              <a:t>15, 16 (skip 4 a and b)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Calibri"/>
              </a:rPr>
              <a:t>Reminder</a:t>
            </a: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… y = cos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1143000" y="1200240"/>
            <a:ext cx="64864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y = cos</a:t>
            </a:r>
            <a:r>
              <a:rPr b="0" lang="fr-CA" sz="44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If we took y = cos x on its entire domain, the inverse would not be a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So, we restrict the domain of cos</a:t>
            </a:r>
            <a:r>
              <a:rPr b="0" lang="en-US" sz="32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x to 0 ≤ y</a:t>
            </a:r>
            <a:r>
              <a:rPr b="0" lang="el-GR" sz="3200" spc="-1" strike="noStrike">
                <a:solidFill>
                  <a:srgbClr val="404040"/>
                </a:solidFill>
                <a:latin typeface="Calibri"/>
              </a:rPr>
              <a:t>≤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l-GR" sz="3200" spc="-1" strike="noStrike">
                <a:solidFill>
                  <a:srgbClr val="404040"/>
                </a:solidFill>
                <a:latin typeface="Calibri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Different calculators </a:t>
            </a:r>
            <a:r>
              <a:rPr b="0" lang="en-US" sz="3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cos</a:t>
            </a:r>
            <a:r>
              <a:rPr b="0" lang="en-US" sz="32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x = arccos = a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Reminder… y = cos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143000" y="1200240"/>
            <a:ext cx="6486480" cy="3457440"/>
          </a:xfrm>
          <a:prstGeom prst="rect">
            <a:avLst/>
          </a:prstGeom>
          <a:ln w="0">
            <a:noFill/>
          </a:ln>
        </p:spPr>
      </p:pic>
      <p:sp>
        <p:nvSpPr>
          <p:cNvPr id="50" name="Freeform 5"/>
          <p:cNvSpPr/>
          <p:nvPr/>
        </p:nvSpPr>
        <p:spPr>
          <a:xfrm>
            <a:off x="1600200" y="1581120"/>
            <a:ext cx="1455840" cy="2930400"/>
          </a:xfrm>
          <a:prstGeom prst="pi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Reminder… y = cos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867640" cy="3714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1905120" y="1733400"/>
            <a:ext cx="46479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e arccos (1/2), giving an answer in radia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ccos(1/2) =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 x = ½       (between 0 and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= 60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exact value of cos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 x =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etween 0 and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= 135˚ or 3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2"/>
              <p:cNvSpPr txBox="1"/>
              <p:nvPr/>
            </p:nvSpPr>
            <p:spPr>
              <a:xfrm>
                <a:off x="5562720" y="895320"/>
                <a:ext cx="117468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2971800" y="1962000"/>
                <a:ext cx="117468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e co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.9925341) to the nearest degr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= 7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4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cos (co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/2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 (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co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os(-30˚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   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2"/>
              <p:cNvSpPr txBox="1"/>
              <p:nvPr/>
            </p:nvSpPr>
            <p:spPr>
              <a:xfrm>
                <a:off x="3200400" y="3486240"/>
                <a:ext cx="812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9T01:06:07Z</dcterms:created>
  <dc:creator>Laura Helbing</dc:creator>
  <dc:description/>
  <dc:language>en-US</dc:language>
  <cp:lastModifiedBy>Laura Helbing</cp:lastModifiedBy>
  <dcterms:modified xsi:type="dcterms:W3CDTF">2011-01-04T13:19:36Z</dcterms:modified>
  <cp:revision>13</cp:revision>
  <dc:subject/>
  <dc:title>The Inverse Cosine Function</dc:title>
</cp:coreProperties>
</file>