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AF6-00F9-445E-9BF9-55A821F5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5EC-6C26-4442-A419-4DEF2363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745-71D4-494C-94CF-0CAC6D51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952-06FA-4B2D-A193-E490F5EA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40F-5320-424E-A782-52CEF2A5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F44-5652-47C2-BAD2-5707B535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33D-FDD1-4E6C-8F09-CF02D04B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3DC-9DBB-4BE7-A804-0EDDA97F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CB9-E029-438E-BA93-ABD5812B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6B0-F880-400D-A2E5-A701F7D9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71F-C27A-4C54-817F-28CF1BA1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E21-A04A-4149-8EB1-18D5E896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1FAF-09C3-4B17-9D52-18E12AF77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Law of Cos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5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aw of Cosines: In any triangle ABC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+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+ 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-2bc cos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+ 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-2ac cos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006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xample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o the nearest degree, find the measure  of the smallest angle in a triangle whose sides have lengths 4 cm, 5 cm , and 6 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sosceles Triangle 3"/>
          <p:cNvSpPr/>
          <p:nvPr/>
        </p:nvSpPr>
        <p:spPr>
          <a:xfrm>
            <a:off x="457200" y="3429000"/>
            <a:ext cx="4495680" cy="1828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66280" y="4876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60416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05208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19328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9200" y="3276720"/>
            <a:ext cx="391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b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698360" y="3886200"/>
            <a:ext cx="41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5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2*5*6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874760" y="457200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= 25+36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971600" y="533412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= 25+36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041800" y="6019920"/>
            <a:ext cx="28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45= 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77840" y="5410080"/>
            <a:ext cx="22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75 =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1229400" y="60958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 = 41.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arallelogram has a 70° angle and sides of length 10 in. and 15 in.  What is the length of its longer diag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+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+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(10)(15)cos(1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 100 + 225 – 300*(-.34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427.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 = 20.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18181" t="22571" r="19193" b="19751"/>
          <a:stretch/>
        </p:blipFill>
        <p:spPr>
          <a:xfrm>
            <a:off x="366840" y="3276720"/>
            <a:ext cx="3214440" cy="2193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2863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172320" y="3959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059560" y="521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9"/>
          <p:cNvSpPr/>
          <p:nvPr/>
        </p:nvSpPr>
        <p:spPr>
          <a:xfrm flipH="1" flipV="1">
            <a:off x="490320" y="3446280"/>
            <a:ext cx="3028680" cy="1820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2412360" y="3675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1175760" y="486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576360" y="3618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266760" y="4300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1751040" y="344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pages 318 – 31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2 – 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11 - 1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overy 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player.discoveryeducation.com/index.cfm?guidAssetId=A691574C-39AB-4E4A-9B27-7643422C3F6B&amp;blnFromSearch=1&amp;productcode=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1:47:02Z</dcterms:created>
  <dc:creator>teacher</dc:creator>
  <dc:description/>
  <dc:language>en-US</dc:language>
  <cp:lastModifiedBy>Laura Helbing</cp:lastModifiedBy>
  <dcterms:modified xsi:type="dcterms:W3CDTF">2010-12-22T01:16:32Z</dcterms:modified>
  <cp:revision>3</cp:revision>
  <dc:subject/>
  <dc:title>The Law of Cosines</dc:title>
</cp:coreProperties>
</file>