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F834-FC42-4C82-B456-48CE9E717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B50F-1395-474F-B988-5BF4852B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2D12-7AEE-471F-AF67-3B7B4B962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17E6-6F9D-43A2-9EA9-6F5B48C0C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9972-B42E-4913-B623-2E44E627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A43A-8FFF-44E5-A45B-93ED2ABF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96E9-0689-4CA4-9E0C-5938410F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8EF2-DB4F-4AD9-86B2-7594A67F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2ED7-C490-4983-AA7C-085C111F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E491-1572-40D2-8B17-6D693BBE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D092-6602-4A42-95C9-76524712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2144-3CD8-484B-9BDA-40931D89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ABE8-396D-44CD-8FFC-264959A9F1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he Law of Cos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esson 5.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or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Law of Cosines: In any triangle ABC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= a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+b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-2ab cos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= b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+ c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-2bc cos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b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= a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+ c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-2ac cos 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0060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Example 1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o the nearest degree, find the measure  of the smallest angle in a triangle whose sides have lengths 4 cm, 5 cm , and 6 c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Isosceles Triangle 3"/>
          <p:cNvSpPr/>
          <p:nvPr/>
        </p:nvSpPr>
        <p:spPr>
          <a:xfrm>
            <a:off x="457200" y="3429000"/>
            <a:ext cx="4495680" cy="1828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2366280" y="48769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1604160" y="42670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3052080" y="42670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4193280" y="4876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4849200" y="3276720"/>
            <a:ext cx="391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b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2ab co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4698360" y="3886200"/>
            <a:ext cx="418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5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6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2*5*6 co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4874760" y="4572000"/>
            <a:ext cx="392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6 = 25+36-60 co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4971600" y="5334120"/>
            <a:ext cx="392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6 = 25+36-60 co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5041800" y="6019920"/>
            <a:ext cx="281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45= -60 co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1077840" y="5410080"/>
            <a:ext cx="220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75 = co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1229400" y="6095880"/>
            <a:ext cx="19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 = 41.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parallelogram has a 70° angle and sides of length 10 in. and 15 in.  What is the length of its longer diagon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= 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+b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2ab cos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=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+ 1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-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(10)(15)cos(1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= 100 + 225 – 300*(-.34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= 427.6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 = 20.6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rcRect l="18181" t="22571" r="19193" b="19751"/>
          <a:stretch/>
        </p:blipFill>
        <p:spPr>
          <a:xfrm>
            <a:off x="366840" y="3276720"/>
            <a:ext cx="3214440" cy="219384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286380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3172320" y="3959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2059560" y="5210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9"/>
          <p:cNvSpPr/>
          <p:nvPr/>
        </p:nvSpPr>
        <p:spPr>
          <a:xfrm flipH="1" flipV="1">
            <a:off x="490320" y="3446280"/>
            <a:ext cx="3028680" cy="1820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1"/>
          <p:cNvSpPr/>
          <p:nvPr/>
        </p:nvSpPr>
        <p:spPr>
          <a:xfrm>
            <a:off x="2412360" y="3675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2"/>
          <p:cNvSpPr/>
          <p:nvPr/>
        </p:nvSpPr>
        <p:spPr>
          <a:xfrm>
            <a:off x="1175760" y="4869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3"/>
          <p:cNvSpPr/>
          <p:nvPr/>
        </p:nvSpPr>
        <p:spPr>
          <a:xfrm>
            <a:off x="576360" y="3618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266760" y="43005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1751040" y="344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pages 318 – 319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2 – 7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11 - 1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overy E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player.discoveryeducation.com/index.cfm?guidAssetId=A691574C-39AB-4E4A-9B27-7643422C3F6B&amp;blnFromSearch=1&amp;productcode=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01:47:02Z</dcterms:created>
  <dc:creator>teacher</dc:creator>
  <dc:description/>
  <dc:language>en-US</dc:language>
  <cp:lastModifiedBy>Laura Helbing</cp:lastModifiedBy>
  <dcterms:modified xsi:type="dcterms:W3CDTF">2010-12-22T01:16:32Z</dcterms:modified>
  <cp:revision>3</cp:revision>
  <dc:subject/>
  <dc:title>The Law of Cosines</dc:title>
</cp:coreProperties>
</file>