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096-40EE-4599-A83B-1F1FB864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E08-7CCE-4AE2-ADF2-F4BF70E1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136492-C5F6-4832-960E-0BD9D5F8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E38211-237E-4A1D-9155-71D84B82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1AB407-A198-49E4-B8BF-F5AA1AAD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ABB522-A2DE-4281-A275-5FA3726E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C9605E-9199-4811-A8C2-251AE0A6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F9CAD1-C44C-4298-9DF5-57E86355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65C810-B810-46E6-8EEC-0A909EB7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6FE642-5F2A-4AA3-9465-A85D0127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094BE6-DD46-428D-8DE6-1D121DB1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6CA-C31A-4F86-937B-1600D504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522-D244-490D-B355-1358ECC0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31025-9C1E-4F8D-9750-96A5F5AA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1D812-71CC-4ECC-87B4-7FE07B1F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CBBD0-E41A-4842-A86B-D0E7AC9E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C7DFD-C5D7-4EB3-9696-7C66883F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87761-4326-4E64-A7DF-5DD96C7F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D0886-4FCB-4198-8468-A8F4D7F8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7C156-50BA-4562-BB8B-C5135F1C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336E-0892-4285-8426-49169DF2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4A830-3C84-4EA5-ABE7-E6C0C0BB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6AE44-5063-4EBB-A1E3-06BF6775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5CB67-53EB-4FAA-94A4-B7D299C5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91B53-1BF4-472D-AA01-20A3D94A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E9866-AFF2-4F11-9BA5-91DD296C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10033-F100-452E-AFFE-03A24034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0945-E04D-4C75-85A4-9B5500C4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4F8A-0372-482C-8A05-649B60F6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BE97-9FA5-4958-B469-FBC9F789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60221-DF5B-4286-91AA-C886193F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F90A-5D12-4133-8436-0480563C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E386-2640-4C44-B44B-03EB404F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AB6A1-4B8A-487A-A4B4-19FDE05E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CFE8-FE6A-4D7F-B247-622E75B1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E52E-6590-4FDC-A055-C000D827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0C7E-0895-4321-9886-BC1D34E2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92F4-EA6A-400D-871B-769A5366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646AF-C394-4724-B61C-D78049D9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CB374-D04F-4131-B372-9B226D19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2C3D3-DFF2-4A1F-9227-28F94677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6F68FC-0572-4AC5-BF6D-5FECD0D4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A6F-4DC0-45B9-8659-96D3207C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BCE57-69D3-4862-9B95-87014A26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0A7B0-36FA-4120-A99A-49FD6248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8ED91B-484D-482E-8FBB-04B2770C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CFCB2-26EA-4169-B269-ABE2D376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CC39D6-B8A7-493B-BA8E-258A53A4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9EEDB-C87F-4803-A948-7103959A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4BAA6-3562-4839-A596-E67F9915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A8E90-3BA3-4507-A3C1-41CF6ACE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99F5C-B480-46AE-9C68-8717327D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F4EF-D992-459B-ACD9-A5B97B81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DE6-EE88-4984-A271-F32CFFF2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3B8A7-713A-4744-88FF-100F3FB6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98CAC-98AB-48BC-A064-7924CA4B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0BF1C-5AE8-4592-A503-2790615B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816D0-21B4-45D0-9E72-27CB32AB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8334-8356-46AD-A2C4-60896B57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32A33-5479-4FAF-B126-6736D23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F502F-CD58-40B4-BCF4-212E417E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30D2-724C-4309-BE15-67360D9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CCE47-BFD3-4A43-806B-7BF156A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7A773-5EE1-42FE-92FC-0FF41BF4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9C7-3ECF-4558-A622-4FF0CF14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369FF-58F5-4D08-8D20-C0065F6C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C153B-9C0C-4075-8C0A-DCD73BD1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915A2-869B-46B3-86BA-6CF36522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3F116-F8E0-4195-B261-B848CE9F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B9C4F-25C9-4096-B2A5-9AB3C891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52BA9-0D1B-4191-ACD0-C7BDF162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0C120-E075-48DB-9BE3-1CB5EE16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8A472-0F3A-4CE3-BA34-5B7B6453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44887-C3B7-4E98-B058-5F0A1AE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E534E-9D64-4149-A04B-318BC704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5F6-498B-4655-85A3-44535558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F3ED1-D04B-458D-AAF8-EAAD8392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0745A-442D-497C-AAB8-1BBF2E8B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5AA78-FF6B-4076-8889-1ADAD3E2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070F2-51A4-4A92-8BAE-EAAE352E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5EAD7-FB60-4DCE-8AD1-E21EE58C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D0F3E-C5E3-4C31-8082-9D4AB786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CC4A1-D7FB-4013-A1B8-DBD4AB32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94B6F-F6A3-4FB8-9770-7A82AC0F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62CF3-183A-42AB-B474-A459DB26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5F785-6C0C-4221-81B9-ABC467C3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8CF-FAD5-4A69-9720-CC698BE2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95FF1-4FB7-49D9-9218-EC1E68B5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726FE-8F45-48FD-94E4-3A76F5F8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82A42-E74E-4503-8E31-C5B03886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991D5-26AC-4A48-BB4C-4CCFBD40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897DC-1BAD-444D-BBA9-310CC758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0115FE-D1AE-4813-A6B1-24AC2C21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999DE0-74CF-4045-B7F3-9620971C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45AB02-15EB-47FE-81B4-4E030F16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E90EDE-864A-40F5-9F65-DFD867DE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7FBC14-9E63-4013-9943-6FAAA5F8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459-2271-429F-982D-C03B3B3A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AA9DF7-A40A-47D2-AFB6-511DB445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DFF931-8631-4559-9AD9-052926D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7ACBA0-2872-4816-80E4-A7557CBB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6D1378-A036-4E0F-A451-315031A5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B570F-18A1-4619-AD3B-F5C2C177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E268F9-DE97-46BC-BBD4-1611E860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7872B-ACC5-4A72-A0AD-A4681099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F8726-F136-4191-B166-61154C60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291A99-E692-4F95-A67D-046E4F2F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7AD139-CD33-4125-89A4-07C2AA98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E976-D8A6-46F9-BAEE-5EB6926D2A30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39E6-AD19-4E0B-B6E1-879B46062A08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B117-FCC3-452D-B087-E4596D596781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C5D6-B12D-45B2-ABD1-39EF447080EB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2B7F-0646-43F4-9F82-7F05F68B5D01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7F57-5126-4664-8ACC-E0267A652C13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ADD6-FB21-4F0E-996F-655765C949D9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D475-8CC6-419A-9E12-87C0F3B09940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28A5-BBB9-4681-ADD4-45E367E2D4C1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4.1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81160" y="92160"/>
            <a:ext cx="8710560" cy="961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ockwell"/>
              </a:rPr>
              <a:t>SOH – CAH - TOA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Right Triangle 3"/>
          <p:cNvSpPr/>
          <p:nvPr/>
        </p:nvSpPr>
        <p:spPr>
          <a:xfrm>
            <a:off x="6095880" y="2971800"/>
            <a:ext cx="2362320" cy="2133720"/>
          </a:xfrm>
          <a:prstGeom prst="rtTriangle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600200" y="1981080"/>
                <a:ext cx="2660760" cy="455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TextBox 5"/>
          <p:cNvSpPr/>
          <p:nvPr/>
        </p:nvSpPr>
        <p:spPr>
          <a:xfrm>
            <a:off x="7696080" y="45720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mbria"/>
              </a:rPr>
              <a:t>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5295600" y="38862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o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6822720" y="518148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ad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7193160" y="3581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hy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68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grees &gt; minutes &gt; secon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re are 60 minutes in a degree (noted’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600 seconds in a degree (noted ”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. 57°34’15’’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34/60 + 15/360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.567 + .004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.5711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1"/>
          <p:cNvSpPr/>
          <p:nvPr/>
        </p:nvSpPr>
        <p:spPr>
          <a:xfrm>
            <a:off x="4572000" y="3886200"/>
            <a:ext cx="358128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14400" y="838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that the distance from the top of a balcony to the edge of the pool is 86 feet.  The view from the balcony to the edge of the pool forms an angle of 60° along the horizon.  How high above the ground is the balcony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Straight Connector 4"/>
          <p:cNvSpPr/>
          <p:nvPr/>
        </p:nvSpPr>
        <p:spPr>
          <a:xfrm>
            <a:off x="152280" y="4800600"/>
            <a:ext cx="914400" cy="1440"/>
          </a:xfrm>
          <a:prstGeom prst="line">
            <a:avLst/>
          </a:prstGeom>
          <a:ln w="76320">
            <a:solidFill>
              <a:srgbClr val="477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724280" y="6095880"/>
            <a:ext cx="2514600" cy="53352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914400" cy="1352520"/>
          </a:xfrm>
          <a:prstGeom prst="rect">
            <a:avLst/>
          </a:prstGeom>
          <a:ln w="0">
            <a:noFill/>
          </a:ln>
        </p:spPr>
      </p:pic>
      <p:sp>
        <p:nvSpPr>
          <p:cNvPr id="412" name="Right Triangle 7"/>
          <p:cNvSpPr/>
          <p:nvPr/>
        </p:nvSpPr>
        <p:spPr>
          <a:xfrm flipH="1" rot="5400000">
            <a:off x="2056320" y="3733560"/>
            <a:ext cx="1905120" cy="3886200"/>
          </a:xfrm>
          <a:prstGeom prst="rtTriangle">
            <a:avLst/>
          </a:prstGeom>
          <a:solidFill>
            <a:srgbClr val="ffff00">
              <a:alpha val="30000"/>
            </a:srgbClr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2574360" y="50292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6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9"/>
          <p:cNvSpPr/>
          <p:nvPr/>
        </p:nvSpPr>
        <p:spPr>
          <a:xfrm flipH="1">
            <a:off x="3809160" y="6324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4648320" y="3886200"/>
                <a:ext cx="34131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Box 12"/>
          <p:cNvSpPr/>
          <p:nvPr/>
        </p:nvSpPr>
        <p:spPr>
          <a:xfrm>
            <a:off x="7603560" y="57150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74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Program Files\Microsoft Office 2007\MEDIA\CAGCAT10\j0185604.wmf"/>
          <p:cNvPicPr/>
          <p:nvPr/>
        </p:nvPicPr>
        <p:blipFill>
          <a:blip r:embed="rId1"/>
          <a:stretch/>
        </p:blipFill>
        <p:spPr>
          <a:xfrm>
            <a:off x="380880" y="3124080"/>
            <a:ext cx="3119400" cy="3124440"/>
          </a:xfrm>
          <a:prstGeom prst="rect">
            <a:avLst/>
          </a:prstGeom>
          <a:ln w="0">
            <a:noFill/>
          </a:ln>
        </p:spPr>
      </p:pic>
      <p:pic>
        <p:nvPicPr>
          <p:cNvPr id="418" name="Title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491680" cy="860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beam supporting a roof is slanted at an angle of 38° from the horizontal.  If the horizontal distance under the beam is 4.6 meters, how long is the beam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Straight Connector 7"/>
          <p:cNvSpPr/>
          <p:nvPr/>
        </p:nvSpPr>
        <p:spPr>
          <a:xfrm>
            <a:off x="2818800" y="4343400"/>
            <a:ext cx="1066680" cy="1143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2819520" y="5486400"/>
            <a:ext cx="10666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Callout 1 (Accent Bar) 15"/>
          <p:cNvSpPr/>
          <p:nvPr/>
        </p:nvSpPr>
        <p:spPr>
          <a:xfrm>
            <a:off x="4114800" y="5029200"/>
            <a:ext cx="12193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Rockwell"/>
              </a:rPr>
              <a:t>38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5056200" y="3244680"/>
                <a:ext cx="2747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Rectangle 19"/>
          <p:cNvSpPr/>
          <p:nvPr/>
        </p:nvSpPr>
        <p:spPr>
          <a:xfrm>
            <a:off x="685800" y="5638680"/>
            <a:ext cx="2590920" cy="38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17"/>
          <p:cNvSpPr/>
          <p:nvPr/>
        </p:nvSpPr>
        <p:spPr>
          <a:xfrm>
            <a:off x="2831040" y="548640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4.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5500800" y="541008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Rockwell"/>
              </a:rPr>
              <a:t>X = 5.8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the nearest tenth of a degree, give the measures of the angles in a right triangle whose sides have the given measur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1, 60, 61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Right Triangle 5"/>
          <p:cNvSpPr/>
          <p:nvPr/>
        </p:nvSpPr>
        <p:spPr>
          <a:xfrm flipH="1" flipV="1">
            <a:off x="3048120" y="3733200"/>
            <a:ext cx="5410080" cy="1447560"/>
          </a:xfrm>
          <a:prstGeom prst="rtTriangle">
            <a:avLst/>
          </a:prstGeom>
          <a:solidFill>
            <a:srgbClr val="17dbf5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5863680" y="45720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8388000" y="4191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5940000" y="3124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1081080" y="4191120"/>
                <a:ext cx="2260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34" name="Straight Arrow Connector 11"/>
          <p:cNvCxnSpPr/>
          <p:nvPr/>
        </p:nvCxnSpPr>
        <p:spPr>
          <a:xfrm flipV="1">
            <a:off x="2133720" y="3733560"/>
            <a:ext cx="1296000" cy="457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35" name="TextBox 14"/>
          <p:cNvSpPr/>
          <p:nvPr/>
        </p:nvSpPr>
        <p:spPr>
          <a:xfrm>
            <a:off x="4198320" y="3733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Rockwell"/>
              </a:rPr>
              <a:t>10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4390200" y="5334120"/>
            <a:ext cx="34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90 + 10.4 + y = 18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16"/>
          <p:cNvSpPr/>
          <p:nvPr/>
        </p:nvSpPr>
        <p:spPr>
          <a:xfrm>
            <a:off x="4596840" y="594360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y = 79.6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723920" y="16462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nd the measure of the acute angle formed by the line with equation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 = 3x and the x – ax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495680" cy="5600880"/>
          </a:xfrm>
          <a:prstGeom prst="rect">
            <a:avLst/>
          </a:prstGeom>
          <a:ln w="0">
            <a:noFill/>
          </a:ln>
        </p:spPr>
      </p:pic>
      <p:cxnSp>
        <p:nvCxnSpPr>
          <p:cNvPr id="441" name="Straight Arrow Connector 6"/>
          <p:cNvCxnSpPr/>
          <p:nvPr/>
        </p:nvCxnSpPr>
        <p:spPr>
          <a:xfrm flipV="1">
            <a:off x="914400" y="1219320"/>
            <a:ext cx="1372320" cy="4953240"/>
          </a:xfrm>
          <a:prstGeom prst="straightConnector1">
            <a:avLst/>
          </a:prstGeom>
          <a:ln w="57240">
            <a:solidFill>
              <a:srgbClr val="4774a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42" name="Straight Arrow Connector 9"/>
          <p:cNvCxnSpPr/>
          <p:nvPr/>
        </p:nvCxnSpPr>
        <p:spPr>
          <a:xfrm flipV="1">
            <a:off x="1749960" y="2210760"/>
            <a:ext cx="3960" cy="3734280"/>
          </a:xfrm>
          <a:prstGeom prst="straightConnector1">
            <a:avLst/>
          </a:prstGeom>
          <a:ln w="76320">
            <a:solidFill>
              <a:srgbClr val="4774a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3" name="TextBox 12"/>
          <p:cNvSpPr/>
          <p:nvPr/>
        </p:nvSpPr>
        <p:spPr>
          <a:xfrm>
            <a:off x="1903680" y="4114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13"/>
          <p:cNvSpPr/>
          <p:nvPr/>
        </p:nvSpPr>
        <p:spPr>
          <a:xfrm>
            <a:off x="1141560" y="5562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4"/>
              <p:cNvSpPr txBox="1"/>
              <p:nvPr/>
            </p:nvSpPr>
            <p:spPr>
              <a:xfrm>
                <a:off x="5499000" y="4572000"/>
                <a:ext cx="20829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TextBox 15"/>
          <p:cNvSpPr/>
          <p:nvPr/>
        </p:nvSpPr>
        <p:spPr>
          <a:xfrm>
            <a:off x="5902560" y="601992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Rockwell"/>
              </a:rPr>
              <a:t>X = 71.57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Pages 313 – 3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5 - 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23:56:11Z</dcterms:created>
  <dc:creator>student</dc:creator>
  <dc:description/>
  <dc:language>en-US</dc:language>
  <cp:lastModifiedBy>student</cp:lastModifiedBy>
  <dcterms:modified xsi:type="dcterms:W3CDTF">2010-12-15T15:31:50Z</dcterms:modified>
  <cp:revision>9</cp:revision>
  <dc:subject/>
  <dc:title>Trigonometric Ratios in Right Triangles</dc:title>
</cp:coreProperties>
</file>