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903-2F3C-4CBD-A2F6-0A3CD00D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DF3-4E25-46FF-908F-4D0F36CF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A493D2-D804-4C56-8632-CF02F905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F11DAA-6FAD-4D3A-BE28-9F3E891D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AD4791-E896-45B4-A4A3-E979D3D7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C55032-03B1-4EB6-9FD4-41751141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7C6137-7D13-4317-AE5E-2C1560F2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DFC162-C156-4B96-862C-D18C6D3D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7D343E-70CF-4230-AC9C-99D9787E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9A40D4-AD93-46AC-8523-2FF0DC3B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5BCF31-4A39-48B2-977D-F3A12DD1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274-4A9F-460D-9C1B-DB44D5B9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07D-E0ED-47ED-81D1-3FDF4278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B8A99-A9D8-45EA-BE7E-6FEA68F7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83A9F-515B-4462-89ED-53CF374D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CECAF-1684-47CF-8C6B-7ACA64BF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FD673-F38B-4E09-8F6D-DB023C79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CAE72-65C1-493B-99E3-BC4CE7E6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EA998-43F9-4EEE-880A-9C7FF5CC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9329F-D75B-4A9D-9701-7AD77A2C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F2E-EC34-4DBF-8ABF-3DE20363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8C94E-424B-4821-82F8-3B79BD06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F1143-C9E5-41A0-92E2-9FA21914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A48C6-6045-42E9-AE9A-F93C2529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8AA8C-F0FA-45D8-AA12-EC2AF02C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0B709-4ACA-44D4-8FEE-FE953049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762D5-E759-4CBE-A8A7-9A9E0A98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B0BAD-B3FD-4C3F-A81B-0935DF79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63CA9-420A-43C3-8A7E-A31460D1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014D2-AB6A-4F06-9642-3EAE86DC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AA52E-7FE5-4254-A5CA-1621C6F9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6C5-391C-40BD-93CB-9D602170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F4418-0AE0-47F9-9C2B-EB85DC81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155A3-73EC-4D59-BB4A-95D0D1CC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30A3D-C1EA-4B54-BD8C-33B58DEE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84245-8D5E-47BF-8ACB-E6C786E7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DEA42-A11D-4A5E-993F-7EEF80D0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9DAB5-80F4-4B32-953E-3467AAD9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9EAD-83BA-443B-8380-5B7780F0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054177-6F42-4E8F-A585-142E84BB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6DDD09-77B8-44E8-8F0C-C8B50800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714FF3-2A19-42E7-AFE2-C6EDFDB0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83D-D8BF-40B3-8FD4-122EF02A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94E82B-3EAA-4BE1-B8B9-CC39C306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CA18F1-B02D-4C35-BD8F-2D49FCB1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9D99F-30FC-4CA2-A497-80BEF7F4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3B96B-B164-44DE-9EDB-81D920DC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4041F1-8964-497A-8FFC-CF7956DC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7A45B2-DDBD-473C-8AEB-341DC65A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E29DA0-B5D9-4F5E-AFCB-904B9FF4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F93C49-B5C4-4552-BDFA-E567C5CB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A7A083-E35C-4ABF-938E-7BC8C44B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1B9D0-0828-4E97-A4B7-7D46465A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11D4-F2C2-44FE-BBC3-576E6BFD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FFC54-8ECD-4DB1-855D-3BB08804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28955-671F-4285-B3C0-8CC7CF3B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DEC16-90A9-44EC-9A16-95AABB9A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70B85-9F2E-4869-856C-1C16C199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ECBAE-E8D0-4331-AEFF-0F0416B1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692C7-3640-4E99-A67F-C3649897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9EE19-86E0-47F4-AB28-190B6AD7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E8090-000A-4676-8536-5D5BBC9F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46624-A423-489B-B9A9-C92CA10E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ED79F-385A-457E-867C-343C13AD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040-615B-4199-932A-3C93F906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2EC6B-63D3-4D13-A40C-AF2A18E2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2C635-7E4B-47AB-B6C9-34034D57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C72A0-E6BA-4D38-89AD-736DFCDE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87F43-E261-4A62-9D4E-029982A6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EA834-1968-4049-BBFF-60783143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539C7-82A8-4FA2-8F64-4307B483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8D648-ECEC-4876-84C8-DAB121BC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EF8C9-C953-459F-B96C-0BF6409F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9DB64-9074-47EB-B678-C7607B8E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ED471-6F02-4E23-8E3E-F2B554FE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DEF-FE83-4DC1-9F0F-CD37B920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D9177-D4CE-49B9-8CB3-2128735F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7A058-CF9F-4475-AB58-C2F34615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F8B0A-FF9E-486E-8DF2-8B485650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CEDB4-DF8C-46C0-B0FE-486D9194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5B892-8C21-43DC-B5ED-E547FD0C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E39C6-7056-4964-B589-2D09DA7D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8C6DC-0AC4-436F-A6D6-C1B6189A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24B54-E11F-44E8-8E1B-4A249FE1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E0550-0521-49E6-A893-33189647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49F74-27B4-47E0-BC75-815389D5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F0B-7B3D-468A-9C46-81A1C676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C14E2-0D9A-4834-AC74-D9D38129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D74E2-475D-4BB7-BF53-B4CEB4D0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21F6C-F72E-4382-97BC-FA2D4A84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AEA9C-398C-462F-ADA7-C9B1C6D2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2F275-8F75-4BD5-A1F5-CFDE33DC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F5179F-F617-4B3D-BB8F-FA87AB87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55518D-1517-4099-98B8-41ADE23A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A7DA95-E504-4B9F-8779-21A8D940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EE298C-69EC-4418-A410-841FB938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91D826-52A0-4B37-87EC-2A2336DA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AA5-C046-4948-A87A-D2ED77AA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8B52AB-6305-44DC-BD30-77C3365A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5E91C5-E3E1-4F08-8AEF-454B9535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A41E31-24C4-47A2-92DA-D922BBA9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1FAD12-88AA-4811-A9DE-F1DD033E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7F48E5-324F-4E7F-B10E-3CB6B033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5F6D9D-4374-4814-BC1C-BCEB71BA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0C654A-51B0-46E1-ADAB-5E4A612F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70B08E-F0BD-4002-926B-D1904577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9B3BE3-F2B4-4076-B71B-425985FB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A84C9C-E933-489C-94C3-39CF51E8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1520-F9D2-47F3-ABEE-69142ACF4FE9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98F7-918D-4129-B8B0-91F631B1CAFF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2F19-CEFB-4379-8E64-3FDF49E1AD37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8A5A-FD91-4F0C-BB31-FD3BA9DD8AC9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0089-38EE-4366-8893-4DB3C6C0C3F4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E054-7548-479D-837C-5DC2CF65F494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A459-E277-483B-9A1F-B927D9794FDF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C3C2-AA5A-401F-AB46-94DA3618C3E0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E8E0-5658-4559-9F21-3776349E1DA1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tion 4.10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81160" y="92160"/>
            <a:ext cx="8710560" cy="9619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Rockwell"/>
              </a:rPr>
              <a:t>SOH – CAH - TOA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Right Triangle 3"/>
          <p:cNvSpPr/>
          <p:nvPr/>
        </p:nvSpPr>
        <p:spPr>
          <a:xfrm>
            <a:off x="6095880" y="2971800"/>
            <a:ext cx="2362320" cy="2133720"/>
          </a:xfrm>
          <a:prstGeom prst="rtTriangle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1600200" y="1981080"/>
                <a:ext cx="2660760" cy="455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TextBox 5"/>
          <p:cNvSpPr/>
          <p:nvPr/>
        </p:nvSpPr>
        <p:spPr>
          <a:xfrm>
            <a:off x="7696080" y="457200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ambria"/>
              </a:rPr>
              <a:t>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5295600" y="38862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o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6822720" y="5181480"/>
            <a:ext cx="6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ad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8"/>
          <p:cNvSpPr/>
          <p:nvPr/>
        </p:nvSpPr>
        <p:spPr>
          <a:xfrm>
            <a:off x="7193160" y="3581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hy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8680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grees &gt; minutes &gt; secon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re are 60 minutes in a degree (noted’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600 seconds in a degree (noted ”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. 57°34’15’’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7 + 34/60 + 15/3600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7 + .567 + .0041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7.5711°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1"/>
          <p:cNvSpPr/>
          <p:nvPr/>
        </p:nvSpPr>
        <p:spPr>
          <a:xfrm>
            <a:off x="4572000" y="3886200"/>
            <a:ext cx="3581280" cy="15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491680" cy="853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14400" y="8380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ppose that the distance from the top of a balcony to the edge of the pool is 86 feet.  The view from the balcony to the edge of the pool forms an angle of 60° along the horizon.  How high above the ground is the balcony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Straight Connector 4"/>
          <p:cNvSpPr/>
          <p:nvPr/>
        </p:nvSpPr>
        <p:spPr>
          <a:xfrm>
            <a:off x="152280" y="4800600"/>
            <a:ext cx="914400" cy="1440"/>
          </a:xfrm>
          <a:prstGeom prst="line">
            <a:avLst/>
          </a:prstGeom>
          <a:ln w="76320">
            <a:solidFill>
              <a:srgbClr val="4774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4724280" y="6095880"/>
            <a:ext cx="2514600" cy="533520"/>
          </a:xfrm>
          <a:prstGeom prst="rect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152280" y="3352680"/>
            <a:ext cx="914400" cy="1352520"/>
          </a:xfrm>
          <a:prstGeom prst="rect">
            <a:avLst/>
          </a:prstGeom>
          <a:ln w="0">
            <a:noFill/>
          </a:ln>
        </p:spPr>
      </p:pic>
      <p:sp>
        <p:nvSpPr>
          <p:cNvPr id="412" name="Right Triangle 7"/>
          <p:cNvSpPr/>
          <p:nvPr/>
        </p:nvSpPr>
        <p:spPr>
          <a:xfrm flipH="1" rot="5400000">
            <a:off x="2056320" y="3733560"/>
            <a:ext cx="1905120" cy="3886200"/>
          </a:xfrm>
          <a:prstGeom prst="rtTriangle">
            <a:avLst/>
          </a:prstGeom>
          <a:solidFill>
            <a:srgbClr val="ffff00">
              <a:alpha val="30000"/>
            </a:srgbClr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8"/>
          <p:cNvSpPr/>
          <p:nvPr/>
        </p:nvSpPr>
        <p:spPr>
          <a:xfrm>
            <a:off x="2574360" y="502920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6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9"/>
          <p:cNvSpPr/>
          <p:nvPr/>
        </p:nvSpPr>
        <p:spPr>
          <a:xfrm flipH="1">
            <a:off x="3809160" y="6324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6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4"/>
              <p:cNvSpPr txBox="1"/>
              <p:nvPr/>
            </p:nvSpPr>
            <p:spPr>
              <a:xfrm>
                <a:off x="4648320" y="3886200"/>
                <a:ext cx="341316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rPr>
                            <m:lit/>
                            <m:nor/>
                          </m:rPr>
                          <m:t xml:space="preserve">fee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TextBox 12"/>
          <p:cNvSpPr/>
          <p:nvPr/>
        </p:nvSpPr>
        <p:spPr>
          <a:xfrm>
            <a:off x="7603560" y="571500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74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C:\Program Files\Microsoft Office 2007\MEDIA\CAGCAT10\j0185604.wmf"/>
          <p:cNvPicPr/>
          <p:nvPr/>
        </p:nvPicPr>
        <p:blipFill>
          <a:blip r:embed="rId1"/>
          <a:stretch/>
        </p:blipFill>
        <p:spPr>
          <a:xfrm>
            <a:off x="380880" y="3124080"/>
            <a:ext cx="3119400" cy="3124440"/>
          </a:xfrm>
          <a:prstGeom prst="rect">
            <a:avLst/>
          </a:prstGeom>
          <a:ln w="0">
            <a:noFill/>
          </a:ln>
        </p:spPr>
      </p:pic>
      <p:pic>
        <p:nvPicPr>
          <p:cNvPr id="418" name="Title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491680" cy="860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beam supporting a roof is slanted at an angle of 38° from the horizontal.  If the horizontal distance under the beam is 4.6 meters, how long is the beam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0" name="Straight Connector 7"/>
          <p:cNvSpPr/>
          <p:nvPr/>
        </p:nvSpPr>
        <p:spPr>
          <a:xfrm>
            <a:off x="2818800" y="4343400"/>
            <a:ext cx="1066680" cy="1143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traight Connector 8"/>
          <p:cNvSpPr/>
          <p:nvPr/>
        </p:nvSpPr>
        <p:spPr>
          <a:xfrm>
            <a:off x="2819520" y="5486400"/>
            <a:ext cx="106668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Callout 1 (Accent Bar) 15"/>
          <p:cNvSpPr/>
          <p:nvPr/>
        </p:nvSpPr>
        <p:spPr>
          <a:xfrm>
            <a:off x="4114800" y="5029200"/>
            <a:ext cx="12193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ff0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Rockwell"/>
              </a:rPr>
              <a:t>38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5056200" y="3244680"/>
                <a:ext cx="27478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4" name="Rectangle 19"/>
          <p:cNvSpPr/>
          <p:nvPr/>
        </p:nvSpPr>
        <p:spPr>
          <a:xfrm>
            <a:off x="685800" y="5638680"/>
            <a:ext cx="2590920" cy="381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17"/>
          <p:cNvSpPr/>
          <p:nvPr/>
        </p:nvSpPr>
        <p:spPr>
          <a:xfrm>
            <a:off x="2831040" y="548640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4.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20"/>
          <p:cNvSpPr/>
          <p:nvPr/>
        </p:nvSpPr>
        <p:spPr>
          <a:xfrm>
            <a:off x="5500800" y="5410080"/>
            <a:ext cx="23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Rockwell"/>
              </a:rPr>
              <a:t>X = 5.8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 the nearest tenth of a degree, give the measures of the angles in a right triangle whose sides have the given measur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1, 60, 61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Right Triangle 5"/>
          <p:cNvSpPr/>
          <p:nvPr/>
        </p:nvSpPr>
        <p:spPr>
          <a:xfrm flipH="1" flipV="1">
            <a:off x="3048120" y="3733200"/>
            <a:ext cx="5410080" cy="1447560"/>
          </a:xfrm>
          <a:prstGeom prst="rtTriangle">
            <a:avLst/>
          </a:prstGeom>
          <a:solidFill>
            <a:srgbClr val="17dbf5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6"/>
          <p:cNvSpPr/>
          <p:nvPr/>
        </p:nvSpPr>
        <p:spPr>
          <a:xfrm>
            <a:off x="5863680" y="45720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6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8388000" y="41911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5940000" y="31240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4"/>
              <p:cNvSpPr txBox="1"/>
              <p:nvPr/>
            </p:nvSpPr>
            <p:spPr>
              <a:xfrm>
                <a:off x="1081080" y="4191120"/>
                <a:ext cx="2260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34" name="Straight Arrow Connector 11"/>
          <p:cNvCxnSpPr/>
          <p:nvPr/>
        </p:nvCxnSpPr>
        <p:spPr>
          <a:xfrm flipV="1">
            <a:off x="2133720" y="3733560"/>
            <a:ext cx="1296000" cy="4579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35" name="TextBox 14"/>
          <p:cNvSpPr/>
          <p:nvPr/>
        </p:nvSpPr>
        <p:spPr>
          <a:xfrm>
            <a:off x="4198320" y="3733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Rockwell"/>
              </a:rPr>
              <a:t>10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15"/>
          <p:cNvSpPr/>
          <p:nvPr/>
        </p:nvSpPr>
        <p:spPr>
          <a:xfrm>
            <a:off x="4390200" y="5334120"/>
            <a:ext cx="34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eb47"/>
                </a:solidFill>
                <a:latin typeface="Rockwell"/>
              </a:rPr>
              <a:t>90 + 10.4 + y = 18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16"/>
          <p:cNvSpPr/>
          <p:nvPr/>
        </p:nvSpPr>
        <p:spPr>
          <a:xfrm>
            <a:off x="4596840" y="594360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eb47"/>
                </a:solidFill>
                <a:latin typeface="Rockwell"/>
              </a:rPr>
              <a:t>y = 79.6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723920" y="16462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nd the measure of the acute angle formed by the line with equation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y = 3x and the x – axi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4495680" cy="5600880"/>
          </a:xfrm>
          <a:prstGeom prst="rect">
            <a:avLst/>
          </a:prstGeom>
          <a:ln w="0">
            <a:noFill/>
          </a:ln>
        </p:spPr>
      </p:pic>
      <p:cxnSp>
        <p:nvCxnSpPr>
          <p:cNvPr id="441" name="Straight Arrow Connector 6"/>
          <p:cNvCxnSpPr/>
          <p:nvPr/>
        </p:nvCxnSpPr>
        <p:spPr>
          <a:xfrm flipV="1">
            <a:off x="914400" y="1219320"/>
            <a:ext cx="1372320" cy="4953240"/>
          </a:xfrm>
          <a:prstGeom prst="straightConnector1">
            <a:avLst/>
          </a:prstGeom>
          <a:ln w="57240">
            <a:solidFill>
              <a:srgbClr val="4774a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42" name="Straight Arrow Connector 9"/>
          <p:cNvCxnSpPr/>
          <p:nvPr/>
        </p:nvCxnSpPr>
        <p:spPr>
          <a:xfrm flipV="1">
            <a:off x="1749960" y="2210760"/>
            <a:ext cx="3960" cy="3734280"/>
          </a:xfrm>
          <a:prstGeom prst="straightConnector1">
            <a:avLst/>
          </a:prstGeom>
          <a:ln w="76320">
            <a:solidFill>
              <a:srgbClr val="4774a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43" name="TextBox 12"/>
          <p:cNvSpPr/>
          <p:nvPr/>
        </p:nvSpPr>
        <p:spPr>
          <a:xfrm>
            <a:off x="1903680" y="41148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Rockwel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13"/>
          <p:cNvSpPr/>
          <p:nvPr/>
        </p:nvSpPr>
        <p:spPr>
          <a:xfrm>
            <a:off x="1141560" y="5562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Rockwel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4"/>
              <p:cNvSpPr txBox="1"/>
              <p:nvPr/>
            </p:nvSpPr>
            <p:spPr>
              <a:xfrm>
                <a:off x="5499000" y="4572000"/>
                <a:ext cx="20829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6" name="TextBox 15"/>
          <p:cNvSpPr/>
          <p:nvPr/>
        </p:nvSpPr>
        <p:spPr>
          <a:xfrm>
            <a:off x="5902560" y="6019920"/>
            <a:ext cx="23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Rockwell"/>
              </a:rPr>
              <a:t>X = 71.57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Rockwell"/>
              </a:rPr>
              <a:t>Pages 313 – 314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Rockwell"/>
              </a:rPr>
              <a:t>5 - 14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23:56:11Z</dcterms:created>
  <dc:creator>student</dc:creator>
  <dc:description/>
  <dc:language>en-US</dc:language>
  <cp:lastModifiedBy>student</cp:lastModifiedBy>
  <dcterms:modified xsi:type="dcterms:W3CDTF">2010-12-15T15:31:50Z</dcterms:modified>
  <cp:revision>9</cp:revision>
  <dc:subject/>
  <dc:title>Trigonometric Ratios in Right Triangles</dc:title>
</cp:coreProperties>
</file>