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5B3F341F-A395-4432-9167-042CA969A789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4920" y="333360"/>
            <a:ext cx="68770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23cb1"/>
                </a:solidFill>
                <a:latin typeface="Verdana"/>
              </a:rPr>
              <a:t>Equivalent Rational Expressions – lesson 5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19840" y="214200"/>
            <a:ext cx="25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 expression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iff it i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here p(x) and q(x) are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olynomials and q(x) is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not the zero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Identity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An expression that is true for all values of the variables for which both sides are defined.  The set of all such values is called the domain of the 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0"/>
              <p:cNvSpPr txBox="1"/>
              <p:nvPr/>
            </p:nvSpPr>
            <p:spPr>
              <a:xfrm>
                <a:off x="1000080" y="1571760"/>
                <a:ext cx="21988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857160"/>
            <a:ext cx="900108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In Nebraska, a single person with a taxable income of over $35,000 in 2007 would pay state tax of $1087 plus 6.84% of the amount over $35,000.  How much taxable income did a single Nebraskan have if he paid $2000 or more in tax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 ( x – 35000)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x – 2394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-1307 + .0684x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.0684x ≥ 3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x ≥ $48,347.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ewrite                                in lowest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286000" y="785880"/>
                <a:ext cx="2360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4071960" y="4572000"/>
                <a:ext cx="20415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644920" y="2359080"/>
                <a:ext cx="38336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termine the domain of the function with the given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1857240" y="1785960"/>
                <a:ext cx="490536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428760" y="3571920"/>
                <a:ext cx="2315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071960" y="3500280"/>
                <a:ext cx="19288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6"/>
          <p:cNvSpPr/>
          <p:nvPr/>
        </p:nvSpPr>
        <p:spPr>
          <a:xfrm>
            <a:off x="3143160" y="550080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, s| s 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5857920" y="5286240"/>
                <a:ext cx="83988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500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Pages 289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7 – 10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14, 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student</cp:lastModifiedBy>
  <dcterms:modified xsi:type="dcterms:W3CDTF">2010-12-07T14:29:00Z</dcterms:modified>
  <cp:revision>38</cp:revision>
  <dc:subject/>
  <dc:title>Hand Carrying Earth</dc:title>
</cp:coreProperties>
</file>