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http://www.powerpointstyles.com/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28"/>
          <p:cNvSpPr/>
          <p:nvPr/>
        </p:nvSpPr>
        <p:spPr>
          <a:xfrm>
            <a:off x="3351600" y="6237360"/>
            <a:ext cx="298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Free Powerpoint Templ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27" descr="nb v rufghjf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7551360" y="6375240"/>
            <a:ext cx="18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Page </a:t>
            </a:r>
            <a:fld id="{74CEFEDF-E66E-4422-B5B0-AA4C39701DD2}" type="slidenum">
              <a:rPr b="1" lang="fr-FR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powerpointstyles.com/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Text Box 23"/>
          <p:cNvSpPr/>
          <p:nvPr/>
        </p:nvSpPr>
        <p:spPr>
          <a:xfrm>
            <a:off x="3351600" y="6237360"/>
            <a:ext cx="298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Free Powerpoint Templ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" name="Picture 22" descr="bvcb dfbvcdf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" name="Text Box 6"/>
          <p:cNvSpPr/>
          <p:nvPr/>
        </p:nvSpPr>
        <p:spPr>
          <a:xfrm>
            <a:off x="34920" y="333360"/>
            <a:ext cx="6877080" cy="14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80000" bIns="180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23cb1"/>
                </a:solidFill>
                <a:latin typeface="Verdana"/>
              </a:rPr>
              <a:t>Equivalent Rational Expressions – lesson 5.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7"/>
          <p:cNvSpPr/>
          <p:nvPr/>
        </p:nvSpPr>
        <p:spPr>
          <a:xfrm>
            <a:off x="519840" y="214200"/>
            <a:ext cx="253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Verdana"/>
              </a:rPr>
              <a:t>Defini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8"/>
          <p:cNvSpPr/>
          <p:nvPr/>
        </p:nvSpPr>
        <p:spPr>
          <a:xfrm>
            <a:off x="900000" y="907920"/>
            <a:ext cx="770436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80000" bIns="180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00"/>
                </a:solidFill>
                <a:latin typeface="Verdana"/>
              </a:rPr>
              <a:t>Rational expression</a:t>
            </a:r>
            <a:r>
              <a:rPr b="1" lang="fr-FR" sz="2400" spc="-1" strike="noStrike">
                <a:solidFill>
                  <a:srgbClr val="ffffff"/>
                </a:solidFill>
                <a:latin typeface="Verdana"/>
              </a:rPr>
              <a:t>: iff it is in the 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FR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FR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FR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fr-FR" sz="2400" spc="-1" strike="noStrike">
                <a:solidFill>
                  <a:srgbClr val="ffffff"/>
                </a:solidFill>
                <a:latin typeface="Verdana"/>
              </a:rPr>
              <a:t>where p(x) and q(x) are</a:t>
            </a:r>
            <a:r>
              <a:rPr b="1" lang="fr-FR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FR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FR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FR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FR" sz="2400" spc="-1" strike="noStrike">
                <a:solidFill>
                  <a:srgbClr val="ffffff"/>
                </a:solidFill>
                <a:latin typeface="Verdana"/>
              </a:rPr>
              <a:t>polynomials and q(x) is </a:t>
            </a:r>
            <a:r>
              <a:rPr b="1" lang="fr-FR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FR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FR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FR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FR" sz="2400" spc="-1" strike="noStrike">
                <a:solidFill>
                  <a:srgbClr val="ffffff"/>
                </a:solidFill>
                <a:latin typeface="Verdana"/>
              </a:rPr>
              <a:t>not the zero polynomi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00"/>
                </a:solidFill>
                <a:latin typeface="Verdana"/>
              </a:rPr>
              <a:t>Identity</a:t>
            </a:r>
            <a:r>
              <a:rPr b="1" lang="fr-FR" sz="2400" spc="-1" strike="noStrike">
                <a:solidFill>
                  <a:srgbClr val="ffffff"/>
                </a:solidFill>
                <a:latin typeface="Verdana"/>
              </a:rPr>
              <a:t>: An expression that is true for all values of the variables for which both sides are defined.  The set of all such values is called the domain of the ident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" name="Object 10"/>
              <p:cNvSpPr txBox="1"/>
              <p:nvPr/>
            </p:nvSpPr>
            <p:spPr>
              <a:xfrm>
                <a:off x="1000080" y="1571760"/>
                <a:ext cx="2198880" cy="120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q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2"/>
          <p:cNvSpPr/>
          <p:nvPr/>
        </p:nvSpPr>
        <p:spPr>
          <a:xfrm>
            <a:off x="586080" y="189000"/>
            <a:ext cx="236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Verdana"/>
              </a:rPr>
              <a:t>Example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3"/>
          <p:cNvSpPr/>
          <p:nvPr/>
        </p:nvSpPr>
        <p:spPr>
          <a:xfrm>
            <a:off x="0" y="857160"/>
            <a:ext cx="9001080" cy="56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80000" bIns="180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</a:rPr>
              <a:t>In Nebraska, a single person with a taxable income of over $35,000 in 2007 would pay state tax of $1087 plus 6.84% of the amount over $35,000.  How much taxable income did a single Nebraskan have if he paid $2000 or more in tax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Verdana"/>
              </a:rPr>
              <a:t>1087 + .0684 ( x – 35000) ≥ 2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Verdana"/>
              </a:rPr>
              <a:t>1087 + .0684x – 2394 ≥ 2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Verdana"/>
              </a:rPr>
              <a:t>-1307 + .0684x ≥ 2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Verdana"/>
              </a:rPr>
              <a:t>.0684x ≥ 33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Verdana"/>
              </a:rPr>
              <a:t>x ≥ $48,347.9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2"/>
          <p:cNvSpPr/>
          <p:nvPr/>
        </p:nvSpPr>
        <p:spPr>
          <a:xfrm>
            <a:off x="586080" y="189000"/>
            <a:ext cx="236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Verdana"/>
              </a:rPr>
              <a:t>Example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3"/>
          <p:cNvSpPr/>
          <p:nvPr/>
        </p:nvSpPr>
        <p:spPr>
          <a:xfrm>
            <a:off x="900000" y="907920"/>
            <a:ext cx="770436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80000" bIns="180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Verdana"/>
              </a:rPr>
              <a:t>Rewrite                                in lowest ter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Verdana"/>
              </a:rPr>
              <a:t>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" name="Object 2"/>
              <p:cNvSpPr txBox="1"/>
              <p:nvPr/>
            </p:nvSpPr>
            <p:spPr>
              <a:xfrm>
                <a:off x="2286000" y="785880"/>
                <a:ext cx="236052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6</m:t>
                        </m:r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" name="Object 3"/>
              <p:cNvSpPr txBox="1"/>
              <p:nvPr/>
            </p:nvSpPr>
            <p:spPr>
              <a:xfrm>
                <a:off x="4071960" y="4572000"/>
                <a:ext cx="2041560" cy="164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" name="Object 4"/>
              <p:cNvSpPr txBox="1"/>
              <p:nvPr/>
            </p:nvSpPr>
            <p:spPr>
              <a:xfrm>
                <a:off x="2644920" y="2359080"/>
                <a:ext cx="3833640" cy="164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(</m:t>
                        </m:r>
                        <m:r>
                          <m:t xml:space="preserve">6</m:t>
                        </m:r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6</m:t>
                        </m:r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"/>
          <p:cNvSpPr/>
          <p:nvPr/>
        </p:nvSpPr>
        <p:spPr>
          <a:xfrm>
            <a:off x="586080" y="189000"/>
            <a:ext cx="236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Verdana"/>
              </a:rPr>
              <a:t>Example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900000" y="907920"/>
            <a:ext cx="770436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80000" bIns="180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Verdana"/>
              </a:rPr>
              <a:t>Determine the domain of the function with the given equa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" name="Object 2"/>
              <p:cNvSpPr txBox="1"/>
              <p:nvPr/>
            </p:nvSpPr>
            <p:spPr>
              <a:xfrm>
                <a:off x="1857240" y="1785960"/>
                <a:ext cx="4905360" cy="171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p</m:t>
                        </m:r>
                        <m:r>
                          <m:t xml:space="preserve">−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" name="Object 3"/>
              <p:cNvSpPr txBox="1"/>
              <p:nvPr/>
            </p:nvSpPr>
            <p:spPr>
              <a:xfrm>
                <a:off x="428760" y="3571920"/>
                <a:ext cx="2315880" cy="97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p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" name="Object 4"/>
              <p:cNvSpPr txBox="1"/>
              <p:nvPr/>
            </p:nvSpPr>
            <p:spPr>
              <a:xfrm>
                <a:off x="4071960" y="3500280"/>
                <a:ext cx="1928880" cy="117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7" name="TextBox 6"/>
          <p:cNvSpPr/>
          <p:nvPr/>
        </p:nvSpPr>
        <p:spPr>
          <a:xfrm>
            <a:off x="3143160" y="5500800"/>
            <a:ext cx="2786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So, s| s 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Object 5"/>
              <p:cNvSpPr txBox="1"/>
              <p:nvPr/>
            </p:nvSpPr>
            <p:spPr>
              <a:xfrm>
                <a:off x="5857920" y="5286240"/>
                <a:ext cx="839880" cy="100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"/>
          <p:cNvSpPr/>
          <p:nvPr/>
        </p:nvSpPr>
        <p:spPr>
          <a:xfrm>
            <a:off x="550080" y="189000"/>
            <a:ext cx="253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Verdana"/>
              </a:rPr>
              <a:t>Homewor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3"/>
          <p:cNvSpPr/>
          <p:nvPr/>
        </p:nvSpPr>
        <p:spPr>
          <a:xfrm>
            <a:off x="900000" y="907920"/>
            <a:ext cx="770436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80000" bIns="180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0" spc="-1" strike="noStrike">
                <a:solidFill>
                  <a:srgbClr val="ffffff"/>
                </a:solidFill>
                <a:latin typeface="Verdana"/>
              </a:rPr>
              <a:t>Pages 289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0" spc="-1" strike="noStrike">
                <a:solidFill>
                  <a:srgbClr val="ffffff"/>
                </a:solidFill>
                <a:latin typeface="Verdana"/>
              </a:rPr>
              <a:t>7 – 10,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fr-FR" sz="8000" spc="-1" strike="noStrike">
                <a:solidFill>
                  <a:srgbClr val="ffffff"/>
                </a:solidFill>
                <a:latin typeface="Verdana"/>
              </a:rPr>
              <a:t>14, 16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3T15:23:24Z</dcterms:created>
  <dc:creator>www.powerpointstyles.com</dc:creator>
  <dc:description>Image credit to FreeDigitalPhotos.net </dc:description>
  <dc:language>en-US</dc:language>
  <cp:lastModifiedBy>student</cp:lastModifiedBy>
  <dcterms:modified xsi:type="dcterms:W3CDTF">2010-12-07T14:29:00Z</dcterms:modified>
  <cp:revision>38</cp:revision>
  <dc:subject/>
  <dc:title>Hand Carrying Earth</dc:title>
</cp:coreProperties>
</file>