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35B-D74C-46B9-ACE9-7F86848E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59D-6A01-465E-AAF1-0D5EED2A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021-9E84-4C6D-AF9F-BEF2D1B2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54B-C9CE-4933-8C74-6FAA0C2D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34E-00B6-4C40-9AB2-084ADC8B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7C5-3B9A-4641-A770-85A78A03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A74-B1B8-48BC-8016-8D6645DD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4F0-CEB1-4415-A1D7-B1D65664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E8D-B947-4CD8-8D41-58A1BF2D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0FC-3E99-44DF-8165-AE796307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937-AD67-464A-9109-4AA32144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9CC-6329-4B34-A04A-79ABAB53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195D-3877-4237-A8B0-B2E1DC530E6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Using Derivatives to Analyze 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28760" y="161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esson 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or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bola Vertex Theor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ex 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rcRect l="26368" t="74068" r="44923" b="10001"/>
          <a:stretch/>
        </p:blipFill>
        <p:spPr>
          <a:xfrm>
            <a:off x="428760" y="1643040"/>
            <a:ext cx="8286480" cy="27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4429080" y="4929120"/>
                <a:ext cx="743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he derivative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–8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x + 7 to determine the intervals on which f is increasing and the intervals on which f is decrea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x) = -16x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-4 (4x –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 = ¼   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Inflection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-∞, ¼) in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¼, ∞)  de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maximum height reached by the baseball with height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(t) = 55t - 16 t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, t seconds after being h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rtex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(1.73) = 55(1.73) – 16(1.73)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51.3 f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928960" y="3500280"/>
                <a:ext cx="781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4214880" y="3571920"/>
                <a:ext cx="1590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6286680" y="3929040"/>
                <a:ext cx="1672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rPr>
                        <m:lit/>
                        <m:nor/>
                      </m:rPr>
                      <m:t xml:space="preserve"> se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mily wishes to enclose a rectangular yard abutting their house with 100 feet of fencing. Their house will be one side of the yard.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What is the maximum area that can be fenced in this w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l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l(100-2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100l – 2l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rtex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643280" y="5678640"/>
                <a:ext cx="7812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5510160" y="5678640"/>
                <a:ext cx="11905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7245360" y="6010200"/>
                <a:ext cx="5954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Box 9"/>
          <p:cNvSpPr/>
          <p:nvPr/>
        </p:nvSpPr>
        <p:spPr>
          <a:xfrm>
            <a:off x="4885560" y="4071960"/>
            <a:ext cx="36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, 50 * 25 = 1250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n                                                                , is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ing, decreasing, or both on the interval from 0 to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0) = -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4) = 62 – 144 + 16 – 6 = -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f you graph, you will notice all values between 0 and 4 are negat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428840" y="1285920"/>
                <a:ext cx="59180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928800" y="3429000"/>
                <a:ext cx="645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Pages 448 – 449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3, 5 – 7,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9 - 1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20:13:29Z</dcterms:created>
  <dc:creator>Éric Vadeboncoeur</dc:creator>
  <dc:description/>
  <dc:language>en-US</dc:language>
  <cp:lastModifiedBy>Laura Helbing</cp:lastModifiedBy>
  <dcterms:modified xsi:type="dcterms:W3CDTF">2011-01-31T14:51:14Z</dcterms:modified>
  <cp:revision>16</cp:revision>
  <dc:subject/>
  <dc:title>PRESENTATION  NAME</dc:title>
</cp:coreProperties>
</file>