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BC4-DA82-4CDF-9A2E-1B07A3E0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F6C-289C-4263-BD25-47A5D509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F4F6-7F34-481B-9770-2F66B295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46B-C68F-48BB-9615-487F9DF8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5DB-A86C-4CAE-9B5C-6240AEA2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4FB-0B9A-4A9D-8F2C-09B21C4C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514-198C-4A02-A95F-5A862EA1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B3D-CB5D-430C-8941-84DA3AB7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2B7-9025-44F1-AE02-5B3DADB2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A3C-43A1-473A-BB44-341E5D2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7BC3-353B-41F5-9B95-73444DDB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BC2-37BE-4CF4-810D-2660E68A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3932-6956-4A74-A0D0-72719D222C1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Using Derivatives to Analyze Gra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28760" y="161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7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8560" y="2743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Theor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0016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bola Vertex Theor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ex 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rcRect l="26368" t="74068" r="44923" b="10001"/>
          <a:stretch/>
        </p:blipFill>
        <p:spPr>
          <a:xfrm>
            <a:off x="428760" y="1643040"/>
            <a:ext cx="8286480" cy="27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429080" y="4929120"/>
                <a:ext cx="743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the derivative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(x) = –8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x + 7 to determine the intervals on which f is increasing and the intervals on which f is decrea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x) = -16x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-4 (4x –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x = ¼   </a:t>
            </a:r>
            <a:r>
              <a:rPr b="1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Inflection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-∞, ¼) in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¼, ∞)  decrea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the maximum height reached by the baseball with height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t) = 55t - 16 t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, t seconds after being h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(1.73) = 55(1.73) – 16(1.73)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51.3 f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928960" y="3500280"/>
                <a:ext cx="7812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4214880" y="3571920"/>
                <a:ext cx="1590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6286680" y="3929040"/>
                <a:ext cx="1672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 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amily wishes to enclose a rectangular yard abutting their house with 100 feet of fencing. Their house will be one side of the yard.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What is the maximum area that can be fenced in this 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l(100-2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 = 100l – 2l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ertex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4643280" y="5678640"/>
                <a:ext cx="7812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510160" y="5678640"/>
                <a:ext cx="119052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7245360" y="6010200"/>
                <a:ext cx="5954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extBox 9"/>
          <p:cNvSpPr/>
          <p:nvPr/>
        </p:nvSpPr>
        <p:spPr>
          <a:xfrm>
            <a:off x="4885560" y="4071960"/>
            <a:ext cx="36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 50 * 25 = 1250 f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en                                                                , is 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ing, decreasing, or both on the interval from 0 to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0) = -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’(4) = 62 – 144 + 16 – 6 = -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f you graph, you will notice all values between 0 and 4 are negat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428840" y="1285920"/>
                <a:ext cx="5918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928800" y="3429000"/>
                <a:ext cx="645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Pages 448 – 449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3, 5 – 7,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9 - 1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20:13:29Z</dcterms:created>
  <dc:creator>Éric Vadeboncoeur</dc:creator>
  <dc:description/>
  <dc:language>en-US</dc:language>
  <cp:lastModifiedBy>Laura Helbing</cp:lastModifiedBy>
  <dcterms:modified xsi:type="dcterms:W3CDTF">2011-01-31T14:51:14Z</dcterms:modified>
  <cp:revision>16</cp:revision>
  <dc:subject/>
  <dc:title>PRESENTATION  NAME</dc:title>
</cp:coreProperties>
</file>