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EEA-522B-4777-9FB0-8A36ACD8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E9D-08F2-43FF-8532-2BFDC687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E82-5E5D-44D4-982F-FC0C8C14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BA2-1DA8-4CCB-B35A-523A2AA0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218-B4AD-4AF2-96E0-6DCC57F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E81-745A-4C48-9076-5FDFE0B4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D7A-6534-441C-A052-F84A8EFE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209-B064-4E18-A18B-C8E51E13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B4F-6E1F-402E-B963-82E582F4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B6C-8752-4578-9350-F6DE2075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0DE-8EA9-45A4-92EA-687DF8C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517-C49A-4CEA-86CC-EDDC0167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85B-17E8-4546-AFFF-2678F76E192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Using Derivatives to Analyze 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8760" y="161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or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bola Vertex Theor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ex 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rcRect l="26368" t="74068" r="44923" b="10001"/>
          <a:stretch/>
        </p:blipFill>
        <p:spPr>
          <a:xfrm>
            <a:off x="428760" y="1643040"/>
            <a:ext cx="8286480" cy="27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429080" y="4929120"/>
                <a:ext cx="7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 derivative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–8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 + 7 to determine the intervals on which f is increasing and the intervals on which f is decrea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x) = -16x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4 (4x –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 = ¼   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nflection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-∞, ¼) in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¼, ∞)  de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maximum height reached by the baseball with heigh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t) = 55t - 16 t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, t seconds after being h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1.73) = 55(1.73) – 16(1.73)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51.3 f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928960" y="3500280"/>
                <a:ext cx="781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4214880" y="3571920"/>
                <a:ext cx="1590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286680" y="3929040"/>
                <a:ext cx="1672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 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mily wishes to enclose a rectangular yard abutting their house with 100 feet of fencing. Their house will be one side of the yard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What is the maximum area that can be fenced in this 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(100-2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100l – 2l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643280" y="5678640"/>
                <a:ext cx="781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510160" y="5678640"/>
                <a:ext cx="11905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7245360" y="6010200"/>
                <a:ext cx="5954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9"/>
          <p:cNvSpPr/>
          <p:nvPr/>
        </p:nvSpPr>
        <p:spPr>
          <a:xfrm>
            <a:off x="4885560" y="4071960"/>
            <a:ext cx="36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 50 * 25 = 1250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                                                               , is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ing, decreasing, or both on the interval from 0 to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0) = 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4) = 62 – 144 + 16 – 6 = -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graph, you will notice all values between 0 and 4 are negat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428840" y="1285920"/>
                <a:ext cx="5918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928800" y="3429000"/>
                <a:ext cx="645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448 – 449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3, 5 – 7,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9 - 1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20:13:29Z</dcterms:created>
  <dc:creator>Éric Vadeboncoeur</dc:creator>
  <dc:description/>
  <dc:language>en-US</dc:language>
  <cp:lastModifiedBy>Laura Helbing</cp:lastModifiedBy>
  <dcterms:modified xsi:type="dcterms:W3CDTF">2011-01-31T14:51:14Z</dcterms:modified>
  <cp:revision>16</cp:revision>
  <dc:subject/>
  <dc:title>PRESENTATION  NAME</dc:title>
</cp:coreProperties>
</file>