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689-A80D-45BC-8CD0-9F179032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6A0-434E-4601-B50D-1F6AB1D3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AED-0114-490B-9479-92380E19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498-7425-442C-9107-36498DCE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9727-8E9F-46AB-8BB9-8A9D9137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507-6B8E-4C8D-B52A-10052E5D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C007-7DA8-4DBB-A7A2-5B2D2EDB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2961-ADB7-41A5-B2BC-6E6FC71C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CA65-12D4-403F-BDFF-CC5F04C2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976-0134-43C6-A203-810480C5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C0F-3175-4AA7-971F-EA3D2B6F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0B0-BD63-4542-BC4B-661119B0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ECCC-4BAD-4F6C-BB77-1F4B60FF77E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Using Derivatives to Analyze Gra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28760" y="161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esson 7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heor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0016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bola Vertex Theor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ex 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rcRect l="26368" t="74068" r="44923" b="10001"/>
          <a:stretch/>
        </p:blipFill>
        <p:spPr>
          <a:xfrm>
            <a:off x="428760" y="1643040"/>
            <a:ext cx="8286480" cy="2714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4429080" y="4929120"/>
                <a:ext cx="743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the derivative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(x) = –8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x + 7 to determine the intervals on which f is increasing and the intervals on which f is decreas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’(x) = -16x +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-4 (4x –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 = ¼   </a:t>
            </a:r>
            <a:r>
              <a:rPr b="1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Inflection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-∞, ¼) incre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¼, ∞)  decre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the maximum height reached by the baseball with height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(t) = 55t - 16 t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, t seconds after being hi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ertex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(1.73) = 55(1.73) – 16(1.73)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51.3 f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928960" y="3500280"/>
                <a:ext cx="7812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4214880" y="3571920"/>
                <a:ext cx="15904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6286680" y="3929040"/>
                <a:ext cx="1672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rPr>
                        <m:lit/>
                        <m:nor/>
                      </m:rPr>
                      <m:t xml:space="preserve"> se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amily wishes to enclose a rectangular yard abutting their house with 100 feet of fencing. Their house will be one side of the yard.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 What is the maximum area that can be fenced in this w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 = l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 = l(100-2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 = 100l – 2l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ertex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4643280" y="5678640"/>
                <a:ext cx="7812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5510160" y="5678640"/>
                <a:ext cx="119052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7245360" y="6010200"/>
                <a:ext cx="5954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TextBox 9"/>
          <p:cNvSpPr/>
          <p:nvPr/>
        </p:nvSpPr>
        <p:spPr>
          <a:xfrm>
            <a:off x="4885560" y="4071960"/>
            <a:ext cx="36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, 50 * 25 = 1250 f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en                                                                , is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reasing, decreasing, or both on the interval from 0 to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’(0) = -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’(4) = 62 – 144 + 16 – 6 = -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f you graph, you will notice all values between 0 and 4 are negat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428840" y="1285920"/>
                <a:ext cx="59180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928800" y="3429000"/>
                <a:ext cx="6459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Pages 448 – 449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3, 5 – 7,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9 - 1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0T20:13:29Z</dcterms:created>
  <dc:creator>Éric Vadeboncoeur</dc:creator>
  <dc:description/>
  <dc:language>en-US</dc:language>
  <cp:lastModifiedBy>Laura Helbing</cp:lastModifiedBy>
  <dcterms:modified xsi:type="dcterms:W3CDTF">2011-01-31T14:51:14Z</dcterms:modified>
  <cp:revision>16</cp:revision>
  <dc:subject/>
  <dc:title>PRESENTATION  NAME</dc:title>
</cp:coreProperties>
</file>