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948-497B-4BF9-BBDB-CB711761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1BF-CDD7-4C35-B933-22D6F78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8A2-7719-4E13-826E-F1ACF0F0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E63-B366-41B3-947A-12492A99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03E-46E5-40B7-BFA9-9D7C41C3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0AB-6EDE-43AF-BCE0-7901C60D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8B0-FA66-4CB1-B4AB-C7E3FC9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7D9-2A25-441E-A739-25B36199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536-AA98-477D-8F8E-BC92C18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73C-7772-42DF-8E61-3C0075D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ACF-0DD1-4EDB-B43C-C97BAC2C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E26-AF84-42AE-9272-A24E593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2A42-9524-41A7-9FD6-DFEB27822A0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714680"/>
            <a:ext cx="600084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Derivatives of </a:t>
            </a:r>
            <a:br>
              <a:rPr sz="4000"/>
            </a:br>
            <a:r>
              <a:rPr b="1" lang="fr-CA" sz="4000" spc="-1" strike="noStrike">
                <a:solidFill>
                  <a:srgbClr val="ffffff"/>
                </a:solidFill>
                <a:latin typeface="Arial"/>
              </a:rPr>
              <a:t>Exponenti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714680"/>
            <a:ext cx="207144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Proper Lingo </a:t>
            </a:r>
            <a:r>
              <a:rPr b="0" lang="fr-CA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Finding a derivative :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The derivative that we find:  differentia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214200" y="1428840"/>
            <a:ext cx="8715600" cy="54291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5 new deriv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4200" y="1599840"/>
            <a:ext cx="871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(x) = ln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’(x) 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’(x) = 1/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(x) = cos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(x) = 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’(x) = -sin x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’(x) = (ln b)∙ab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’(x) = e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umber of cell phone subscribers (in mil) f(x) from 2002 – 2007 is closely modeled by f(x) = 125.5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ere x is the number of years after Jan. 1, 2001.  What was the instantaneously rate of change of the number of subscribers on January 1, 200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4) = ln 1.129 * 125.5 (1.129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.12133   * 203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.74 mil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ere a is a constant.  What is f’(x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write :  f(x) =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 f’(x) = ln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 *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’(x) = a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560" y="713880"/>
            <a:ext cx="9001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ation: r(x) =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the slope of the tangent line at x =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x) = ln(2) *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’(3) = ln(2)* 8 +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n equation for this tangent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a point on the lin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3,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17 = (ln(2)* 8 + 6) (x –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11.545x – 17.63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713880"/>
            <a:ext cx="82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Pages 454 –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, 7- 12,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14, 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20:09:33Z</dcterms:created>
  <dc:creator>Mediac</dc:creator>
  <dc:description/>
  <dc:language>en-US</dc:language>
  <cp:lastModifiedBy>Laura Helbing</cp:lastModifiedBy>
  <dcterms:modified xsi:type="dcterms:W3CDTF">2011-01-30T21:24:16Z</dcterms:modified>
  <cp:revision>13</cp:revision>
  <dc:subject/>
  <dc:title>Presentation  Name</dc:title>
</cp:coreProperties>
</file>