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2D5-8580-488F-A630-2A17D9DE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2D6-771E-4BDE-A584-CD6FC5DD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F3C-5EBB-427F-8962-14B4A61F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BA8-475C-4B42-AD90-C56AC0F4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03B-5587-4E76-9436-E0770583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41F-F1A0-4101-AA45-6DC03BEE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65E-19AE-4DA3-A039-02265D59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C2A-72A8-45DA-A58F-F2BD5842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D9B-96BB-4D64-B9DD-A61B3B76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34F-FEE2-45C0-A622-2B3C95E6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683-82BE-4E92-B73E-DF536461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55C-6B2F-461C-A959-2280F3E0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C7C8-B5F2-496C-BC2E-61000861EBB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714680"/>
            <a:ext cx="600084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Arial"/>
              </a:rPr>
              <a:t>Derivatives of </a:t>
            </a:r>
            <a:br>
              <a:rPr sz="4000"/>
            </a:br>
            <a:r>
              <a:rPr b="1" lang="fr-CA" sz="4000" spc="-1" strike="noStrike">
                <a:solidFill>
                  <a:srgbClr val="ffffff"/>
                </a:solidFill>
                <a:latin typeface="Arial"/>
              </a:rPr>
              <a:t>Exponent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714680"/>
            <a:ext cx="207144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7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roper Lingo </a:t>
            </a:r>
            <a:r>
              <a:rPr b="0" lang="fr-CA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Finding a derivative :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he derivative that we find:  differentia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214200" y="1428840"/>
            <a:ext cx="8715600" cy="5429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5 new deriv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 = sin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(x) = ln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’(x)  = cos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’(x) = 1/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(x) = cos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(x) = 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’(x) = -sin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’(x) = (ln b)∙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’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umber of cell phone subscribers (in mil) f(x) from 2002 – 2007 is closely modeled by f(x) = 125.5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ere x is the number of years after Jan. 1, 2001.  What was the instantaneously rate of change of the number of subscribers on January 1, 200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x) = ln 1.129 * 125.5 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4) = ln 1.129 * 125.5 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.12133   * 203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.74 mil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x) = 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re a is a constant.  What is f’(x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write :  f(x) =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 f’(x) = ln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*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’(x) = a *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’(x) = a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560" y="713880"/>
            <a:ext cx="90010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ation: r(x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slope of the tangent line at x =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x) = ln(2) *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3) = ln(2)* 8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an equation for this tangent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a point on the lin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3, 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– 17 = (ln(2)* 8 + 6) 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11.545x – 17.63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ages 454 – 45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1, 7- 12,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14, 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20:09:33Z</dcterms:created>
  <dc:creator>Mediac</dc:creator>
  <dc:description/>
  <dc:language>en-US</dc:language>
  <cp:lastModifiedBy>Laura Helbing</cp:lastModifiedBy>
  <dcterms:modified xsi:type="dcterms:W3CDTF">2011-01-30T21:24:16Z</dcterms:modified>
  <cp:revision>13</cp:revision>
  <dc:subject/>
  <dc:title>Presentation  Name</dc:title>
</cp:coreProperties>
</file>