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D5C9-717A-4F58-BFB0-127345C38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7E43-597E-42D9-A4FD-DE1BF4B1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5105-B530-433C-8B3A-5941D453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8363-84AA-4C9B-B4D7-41E3AD06A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46ED-28AF-4B58-9E24-582D78CF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2C19-8E4C-4656-BB03-2D515895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D1B3-1801-4627-98D8-5689C7D5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862B-9809-4F50-BEDD-8341C1F0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AB3A-29A6-4716-9155-1E7105E6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5F0F-B9E9-4BD3-9A89-ABF634BE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E228-3C8F-41A8-84D4-A2E73DE4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7D8E-57FE-4012-90CC-59D9BF35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D046-4415-4C3D-95E5-63FCD6FDE82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714680"/>
            <a:ext cx="600084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ff"/>
                </a:solidFill>
                <a:latin typeface="Arial"/>
              </a:rPr>
              <a:t>Derivatives of </a:t>
            </a:r>
            <a:br>
              <a:rPr sz="4000"/>
            </a:br>
            <a:r>
              <a:rPr b="1" lang="fr-CA" sz="4000" spc="-1" strike="noStrike">
                <a:solidFill>
                  <a:srgbClr val="ffffff"/>
                </a:solidFill>
                <a:latin typeface="Arial"/>
              </a:rPr>
              <a:t>Exponential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643800" y="1714680"/>
            <a:ext cx="207144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Arial"/>
              </a:rPr>
              <a:t>S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Arial"/>
              </a:rPr>
              <a:t>7.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Proper Lingo </a:t>
            </a:r>
            <a:r>
              <a:rPr b="0" lang="fr-CA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Finding a derivative : different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The derivative that we find:  differential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214200" y="1428840"/>
            <a:ext cx="8715600" cy="54291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5 new deriv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14200" y="1599840"/>
            <a:ext cx="8715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(x) = sin 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(x) = ln 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’(x)  = cos 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’(x) = 1/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(x) = cos 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(x) = a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’(x) = -sin 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’(x) = (ln b)∙a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(x) = e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’(x) = e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8760" y="713880"/>
            <a:ext cx="82296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number of cell phone subscribers (in mil) f(x) from 2002 – 2007 is closely modeled by f(x) = 125.5(1.129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where x is the number of years after Jan. 1, 2001.  What was the instantaneously rate of change of the number of subscribers on January 1, 200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’(x) = ln 1.129 * 125.5 (1.129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’(4) = ln 1.129 * 125.5 (1.129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.12133   * 203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.74 mil/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8760" y="713880"/>
            <a:ext cx="82296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(x) = 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a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here a is a constant.  What is f’(x)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write :  f(x) = (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 f’(x) = ln (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 * (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’(x) = a * (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’(x) = a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2560" y="713880"/>
            <a:ext cx="900108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ation: r(x) =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the slope of the tangent line at x =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’(x) = ln(2) *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’(3) = ln(2)* 8 +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an equation for this tangent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a point on the line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3, 1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– 17 = (ln(2)* 8 + 6) (x –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= 11.545x – 17.63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760" y="713880"/>
            <a:ext cx="82296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Pages 454 – 45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1, 7- 12,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14, 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20:09:33Z</dcterms:created>
  <dc:creator>Mediac</dc:creator>
  <dc:description/>
  <dc:language>en-US</dc:language>
  <cp:lastModifiedBy>Laura Helbing</cp:lastModifiedBy>
  <dcterms:modified xsi:type="dcterms:W3CDTF">2011-01-30T21:24:16Z</dcterms:modified>
  <cp:revision>13</cp:revision>
  <dc:subject/>
  <dc:title>Presentation  Name</dc:title>
</cp:coreProperties>
</file>