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208-D7A5-430B-B3FF-0BFD0286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D03-E9FD-482E-8541-595585E3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D72-AC35-4780-91D7-E9529DB7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8FC-AC07-4B8E-B6BC-5A12534F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171-9906-4AE5-9A48-A8594A4C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1B6-D28B-4F42-ADC8-BDFC97FF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B31-6F0A-4D8C-8112-E30EB8DB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B30-BA88-48CA-8D9F-D1C32D03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916-BCE1-4BC6-8CD8-0AF5EC98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0DC-0D9F-411C-993E-D5CC25C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ACA-C31C-4153-9A30-96EDE553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BC5-CE14-48E2-88B1-290F6863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96B2-D49E-4170-9837-882612C7673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The Derivative at a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velocit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rate of chang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lope of the the tangent li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4"/>
              <p:cNvSpPr txBox="1"/>
              <p:nvPr/>
            </p:nvSpPr>
            <p:spPr>
              <a:xfrm>
                <a:off x="5072040" y="3714840"/>
                <a:ext cx="34225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Picture 15" descr=""/>
          <p:cNvPicPr/>
          <p:nvPr/>
        </p:nvPicPr>
        <p:blipFill>
          <a:blip r:embed="rId2"/>
          <a:srcRect l="32814" t="47815" r="48439" b="29688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Suppose a baseball is batted from a height of 4 feet with a velocity of 110 feet per second at a 30˚ angle to the ground.  If only the effect of Earth’s gravity is considered, then its height h(t) after t seconds is given by h(t) = 4 + 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Find the instantaneous vertical velocity at time 2 seconds? (refer to ex.2 from 7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4"/>
              <p:cNvSpPr txBox="1"/>
              <p:nvPr/>
            </p:nvSpPr>
            <p:spPr>
              <a:xfrm>
                <a:off x="214200" y="5000760"/>
                <a:ext cx="34228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286160" y="4572000"/>
                <a:ext cx="3595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4716360" y="5460840"/>
                <a:ext cx="2732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on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Let g be the function with g(x) = 4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10x – 80.  Find g’(2), the derivative of g when x =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1857240" y="1785960"/>
                <a:ext cx="3422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-138240" y="2786040"/>
                <a:ext cx="88156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640" y="4000680"/>
                <a:ext cx="87454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371520" y="5072040"/>
                <a:ext cx="8505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Straight Connector 11"/>
          <p:cNvSpPr/>
          <p:nvPr/>
        </p:nvSpPr>
        <p:spPr>
          <a:xfrm flipV="1">
            <a:off x="114300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2"/>
          <p:cNvSpPr/>
          <p:nvPr/>
        </p:nvSpPr>
        <p:spPr>
          <a:xfrm flipV="1">
            <a:off x="678672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3"/>
          <p:cNvSpPr/>
          <p:nvPr/>
        </p:nvSpPr>
        <p:spPr>
          <a:xfrm flipV="1">
            <a:off x="4143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4"/>
          <p:cNvSpPr/>
          <p:nvPr/>
        </p:nvSpPr>
        <p:spPr>
          <a:xfrm flipV="1">
            <a:off x="7572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5"/>
          <p:cNvSpPr/>
          <p:nvPr/>
        </p:nvSpPr>
        <p:spPr>
          <a:xfrm flipV="1">
            <a:off x="614376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6"/>
          <p:cNvSpPr/>
          <p:nvPr/>
        </p:nvSpPr>
        <p:spPr>
          <a:xfrm flipV="1">
            <a:off x="835812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202360" y="5716440"/>
                <a:ext cx="39416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2357280" y="928800"/>
                <a:ext cx="39420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2820960" y="2548080"/>
                <a:ext cx="28702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Δ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4087800" y="4067280"/>
                <a:ext cx="55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785880"/>
            <a:ext cx="8929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he volume V(s) of a cube with edge length s is given by V(s) = s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Compute v’(5), the instantaneous rate of change of V when s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4"/>
              <p:cNvSpPr txBox="1"/>
              <p:nvPr/>
            </p:nvSpPr>
            <p:spPr>
              <a:xfrm>
                <a:off x="1000080" y="2786040"/>
                <a:ext cx="3354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714240" y="3857760"/>
                <a:ext cx="2975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0" y="5214960"/>
                <a:ext cx="6572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4786200" y="3286080"/>
                <a:ext cx="39085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Straight Connector 11"/>
          <p:cNvSpPr/>
          <p:nvPr/>
        </p:nvSpPr>
        <p:spPr>
          <a:xfrm flipV="1">
            <a:off x="714240" y="5429160"/>
            <a:ext cx="57168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5892840" y="4643280"/>
                <a:ext cx="3251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Δ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437160" y="60134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Straight Connector 13"/>
          <p:cNvSpPr/>
          <p:nvPr/>
        </p:nvSpPr>
        <p:spPr>
          <a:xfrm flipV="1">
            <a:off x="5857920" y="5429160"/>
            <a:ext cx="57132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Pages 429 – 4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1, 3, 5, 6, 7, 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Skip 7b and 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1-01-24T02:53:25Z</dcterms:modified>
  <cp:revision>19</cp:revision>
  <dc:subject/>
  <dc:title>PRESENTATION NAME</dc:title>
</cp:coreProperties>
</file>