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14D-B7DA-48F4-9D6B-96A01A88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C16-42CA-4EA9-BAF6-0340689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ED2-224D-4A46-BA49-F9C70DB3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C85-EFB1-4F1C-8F52-DFC3CF81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132-1666-40A7-A79A-97247FF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37B-53DC-4CEB-9654-C0CB28D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CB7-E1F8-4EAC-94FF-4389C987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C23-88C3-4AC5-A916-0E3C7689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251-B6EE-432B-945A-D003BCC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798-91A7-44FE-9025-6E1A2DE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874-F201-47A6-A872-96EDA56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2E8-1B3A-4A73-A77D-ED14B0C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E87-04DC-4BFF-8F2F-33F5BF56FF7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for the volume V(d) and surface area s(d) of a cube with edge d, it is not the case that V’(d) = s(d)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 = 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 =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≠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p 436-43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3-10, 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-3| ≠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Using the table, evaluate each expression for 4 different values of the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286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Graph the function f: x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From the graph, estimate f’(x) when x = -2, -1, 0,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Use this information from part a to graph y =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33127" t="31250" r="25625" b="12504"/>
          <a:stretch/>
        </p:blipFill>
        <p:spPr>
          <a:xfrm>
            <a:off x="1214280" y="237960"/>
            <a:ext cx="64724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79232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86360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661E-008 C -0.00782 -0.01594 -0.01685 -0.02796 -0.03073 -0.0342 C -0.04532 -0.03304 -0.0599 -0.03327 -0.07431 -0.03073 C -0.07969 -0.02981 -0.08959 -0.02403 -0.08959 -0.02403 C -0.1033 -0.01178 -0.11146 0.00509 -0.12292 0.02034 C -0.12796 0.04022 -0.13733 0.05639 -0.14358 0.07511 C -0.16511 0.13959 -0.18421 0.20708 -0.1948 0.27641 C -0.19306 0.29675 -0.19584 0.31154 -0.18195 0.3207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ultiply 4"/>
          <p:cNvSpPr/>
          <p:nvPr/>
        </p:nvSpPr>
        <p:spPr>
          <a:xfrm>
            <a:off x="2643120" y="3429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786040" y="3000240"/>
            <a:ext cx="495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1" lang="en-US" sz="1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42177E-006 C -0.01024 -0.00461 -0.01945 -0.01132 -0.02934 -0.0164 C -0.0467 -0.02518 -0.06493 -0.03027 -0.08299 -0.03581 C -0.08941 -0.03789 -0.09583 -0.04182 -0.10243 -0.04228 C -0.11545 -0.04344 -0.12847 -0.04436 -0.14149 -0.04552 C -0.19392 -0.04367 -0.23663 -0.04552 -0.28542 -0.03258 C -0.28872 -0.0305 -0.29167 -0.02772 -0.29514 -0.02611 C -0.29913 -0.02426 -0.30347 -0.02518 -0.30729 -0.02287 C -0.31094 -0.02056 -0.31337 -0.01548 -0.31701 -0.01293 C -0.32083 -0.01016 -0.32552 -0.00947 -0.32934 -0.00646 C -0.34479 0.00625 -0.34948 0.01549 -0.3658 0.02266 C -0.36997 0.02797 -0.37344 0.03444 -0.37813 0.03883 C -0.38386 0.04438 -0.39011 0.04854 -0.39514 0.05524 C -0.4 0.06171 -0.40972 0.07466 -0.40972 0.07466 C -0.41302 0.0876 -0.41372 0.09869 -0.41945 0.11025 C -0.42031 0.11464 -0.42083 0.11926 -0.42205 0.12342 C -0.42326 0.12804 -0.4257 0.13174 -0.42691 0.13636 C -0.43611 0.17334 -0.42639 0.15162 -0.43663 0.17195 C -0.43941 0.18697 -0.44479 0.2013 -0.45122 0.21425 C -0.45382 0.24244 -0.4507 0.23227 -0.45608 0.2466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example in class, 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h(t) = 4 + 55t –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4 (t)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 +55t  -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55 – 3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1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’(x)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6-09T16:20:26Z</dcterms:modified>
  <cp:revision>93</cp:revision>
  <dc:subject/>
  <dc:title>PRESENTATION  NAME</dc:title>
</cp:coreProperties>
</file>