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12FB-56C9-4AC5-BE39-1716CF797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50F6-3DD4-4AF1-957C-35F2248C3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A22B-73F4-4B19-B576-44EA26659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DAA2-EA5D-44A0-96CC-CEB5C3D98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7DD9-0482-4854-8BF5-30E22F65F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9E62-2D0C-4A28-BD84-AC0499B60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5311-FAE1-4C7F-99CD-D8A0AFA8C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D395-7117-4C7F-8A2B-D6322FA85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58B4-277D-4188-A1A0-3BAE829A9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9981-3A44-4E19-B69D-4549F8E4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3ED5-D0E5-434F-94C8-A572DE99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4FD7-6F05-4B6F-98D0-4AFE787B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A3294-1763-4A8F-9E07-BB7CA03ED4DF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1714680"/>
            <a:ext cx="600084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ffffff"/>
                </a:solidFill>
                <a:latin typeface="Arial"/>
              </a:rPr>
              <a:t>Derivatives of </a:t>
            </a:r>
            <a:br>
              <a:rPr sz="4000"/>
            </a:br>
            <a:r>
              <a:rPr b="1" lang="fr-CA" sz="4000" spc="-1" strike="noStrike">
                <a:solidFill>
                  <a:srgbClr val="ffffff"/>
                </a:solidFill>
                <a:latin typeface="Arial"/>
              </a:rPr>
              <a:t>Exponential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643800" y="1714680"/>
            <a:ext cx="2071440" cy="5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ff"/>
                </a:solidFill>
                <a:latin typeface="Arial"/>
              </a:rPr>
              <a:t>S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ff"/>
                </a:solidFill>
                <a:latin typeface="Arial"/>
              </a:rPr>
              <a:t>7.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Arial"/>
              </a:rPr>
              <a:t>Proper Lingo </a:t>
            </a:r>
            <a:r>
              <a:rPr b="0" lang="fr-CA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Finding a derivative : different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The derivative that we find:  differential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8"/>
          <p:cNvSpPr/>
          <p:nvPr/>
        </p:nvSpPr>
        <p:spPr>
          <a:xfrm>
            <a:off x="214200" y="1428840"/>
            <a:ext cx="8715600" cy="54291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Arial"/>
              </a:rPr>
              <a:t>5 new deriv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14200" y="1599840"/>
            <a:ext cx="8715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(x) = sin 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(x) = ln 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’(x)  = cos 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’(x) = 1/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(x) = cos 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(x) = ab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’(x) = -sin 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’(x) = (ln b)∙ab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(x) = e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’(x) = e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28760" y="713880"/>
            <a:ext cx="822960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number of cell phone subscribers (in mil) f(x) from 2002 – 2007 is closely modeled by f(x) = 125.5(1.129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where x is the number of years after Jan. 1, 2001.  What was the instantaneously rate of change of the number of subscribers on January 1, 2005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’(x) = ln 1.129 * 125.5 (1.129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’(4) = ln 1.129 * 125.5 (1.129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 .12133   * 203.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4.74 mil/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28760" y="713880"/>
            <a:ext cx="822960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(x) = e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a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where a is a constant.  What is f’(x)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write :  f(x) = (e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 f’(x) = ln (e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 * (e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’(x) = a * (e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’(x) = ae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a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42560" y="713880"/>
            <a:ext cx="900108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quation: r(x) = 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d the slope of the tangent line at x = 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’(x) = ln(2) *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2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’(3) = ln(2)* 8 +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d an equation for this tangent 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d a point on the line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3, 1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 – 17 = (ln(2)* 8 + 6) (x –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 = 11.545x – 17.63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28760" y="713880"/>
            <a:ext cx="822960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Pages 454 – 45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1, 7- 12,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14, 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2T20:09:33Z</dcterms:created>
  <dc:creator>Mediac</dc:creator>
  <dc:description/>
  <dc:language>en-US</dc:language>
  <cp:lastModifiedBy>Laura Helbing</cp:lastModifiedBy>
  <dcterms:modified xsi:type="dcterms:W3CDTF">2011-01-30T21:24:16Z</dcterms:modified>
  <cp:revision>13</cp:revision>
  <dc:subject/>
  <dc:title>Presentation  Name</dc:title>
</cp:coreProperties>
</file>