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392-A2BE-4C8A-B927-DD2DF54A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565-1B57-467B-B927-51056658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5AA-A491-482D-9A27-893BF26E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795-6C89-4A0A-90D8-7FAAA47D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0C8-55C9-4307-9FD3-3C1F3122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2A8-6B31-49B8-8D99-62950C47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A0E-D942-4EC4-B3B8-C2A8C736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0BE-F5AB-4A83-9DCB-9D2EC83D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808-27AE-46E0-A3CF-1C67339F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AB7-A831-4F1E-BA7C-C8214BD6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61A-A8A4-411D-A0AE-3CACA17F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3BE-8FF0-4BE1-A7A9-D76226BD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CC62-CE6C-4F99-A82A-86DF768CFAD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1680" y="15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The Derivative at a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43200" y="1365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nstantaneous velocit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nstantaneous rate of change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lope of the the tangent lin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4"/>
              <p:cNvSpPr txBox="1"/>
              <p:nvPr/>
            </p:nvSpPr>
            <p:spPr>
              <a:xfrm>
                <a:off x="5072040" y="3714840"/>
                <a:ext cx="34225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" name="Picture 15" descr=""/>
          <p:cNvPicPr/>
          <p:nvPr/>
        </p:nvPicPr>
        <p:blipFill>
          <a:blip r:embed="rId2"/>
          <a:srcRect l="32814" t="47815" r="48439" b="29688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428760" y="785880"/>
            <a:ext cx="8501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Suppose a baseball is batted from a height of 4 feet with a velocity of 110 feet per second at a 30˚ angle to the ground.  If only the effect of Earth’s gravity is considered, then its height h(t) after t seconds is given by h(t) = 4 + 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.  Find the instantaneous vertical velocity at time 2 seconds? (refer to ex.2 from 7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14"/>
              <p:cNvSpPr txBox="1"/>
              <p:nvPr/>
            </p:nvSpPr>
            <p:spPr>
              <a:xfrm>
                <a:off x="214200" y="5000760"/>
                <a:ext cx="34228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286160" y="4572000"/>
                <a:ext cx="35956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4716360" y="5460840"/>
                <a:ext cx="27320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fe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on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428760" y="785880"/>
            <a:ext cx="8501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Let g be the function with g(x) = 4x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+10x – 80.  Find g’(2), the derivative of g when x =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4"/>
              <p:cNvSpPr txBox="1"/>
              <p:nvPr/>
            </p:nvSpPr>
            <p:spPr>
              <a:xfrm>
                <a:off x="1857240" y="1785960"/>
                <a:ext cx="34228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-138240" y="2786040"/>
                <a:ext cx="88156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640" y="4000680"/>
                <a:ext cx="87454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371520" y="5072040"/>
                <a:ext cx="8505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Straight Connector 11"/>
          <p:cNvSpPr/>
          <p:nvPr/>
        </p:nvSpPr>
        <p:spPr>
          <a:xfrm flipV="1">
            <a:off x="1143000" y="535752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2"/>
          <p:cNvSpPr/>
          <p:nvPr/>
        </p:nvSpPr>
        <p:spPr>
          <a:xfrm flipV="1">
            <a:off x="6786720" y="535752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3"/>
          <p:cNvSpPr/>
          <p:nvPr/>
        </p:nvSpPr>
        <p:spPr>
          <a:xfrm flipV="1">
            <a:off x="4143240" y="5357520"/>
            <a:ext cx="35748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4"/>
          <p:cNvSpPr/>
          <p:nvPr/>
        </p:nvSpPr>
        <p:spPr>
          <a:xfrm flipV="1">
            <a:off x="7572240" y="5357520"/>
            <a:ext cx="35748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5"/>
          <p:cNvSpPr/>
          <p:nvPr/>
        </p:nvSpPr>
        <p:spPr>
          <a:xfrm flipV="1">
            <a:off x="6143760" y="528588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6"/>
          <p:cNvSpPr/>
          <p:nvPr/>
        </p:nvSpPr>
        <p:spPr>
          <a:xfrm flipV="1">
            <a:off x="8358120" y="528588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5202360" y="5716440"/>
                <a:ext cx="39416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4"/>
              <p:cNvSpPr txBox="1"/>
              <p:nvPr/>
            </p:nvSpPr>
            <p:spPr>
              <a:xfrm>
                <a:off x="2357280" y="928800"/>
                <a:ext cx="39420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2820960" y="2548080"/>
                <a:ext cx="28702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Δ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9"/>
              <p:cNvSpPr txBox="1"/>
              <p:nvPr/>
            </p:nvSpPr>
            <p:spPr>
              <a:xfrm>
                <a:off x="4087800" y="4067280"/>
                <a:ext cx="55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0" y="785880"/>
            <a:ext cx="8929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The volume V(s) of a cube with edge length s is given by V(s) = s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.  Compute v’(5), the instantaneous rate of change of V when s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4"/>
              <p:cNvSpPr txBox="1"/>
              <p:nvPr/>
            </p:nvSpPr>
            <p:spPr>
              <a:xfrm>
                <a:off x="1000080" y="2786040"/>
                <a:ext cx="3354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714240" y="3857760"/>
                <a:ext cx="29750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0" y="5214960"/>
                <a:ext cx="65721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4786200" y="3286080"/>
                <a:ext cx="39085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Straight Connector 11"/>
          <p:cNvSpPr/>
          <p:nvPr/>
        </p:nvSpPr>
        <p:spPr>
          <a:xfrm flipV="1">
            <a:off x="714240" y="5429160"/>
            <a:ext cx="571680" cy="28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5892840" y="4643280"/>
                <a:ext cx="3251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Δt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Δ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437160" y="6013440"/>
                <a:ext cx="519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Straight Connector 13"/>
          <p:cNvSpPr/>
          <p:nvPr/>
        </p:nvSpPr>
        <p:spPr>
          <a:xfrm flipV="1">
            <a:off x="5857920" y="5429160"/>
            <a:ext cx="571320" cy="28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Pages 429 – 4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1, 3, 5, 6, 7, 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Skip 7b and 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1:31:52Z</dcterms:created>
  <dc:creator>Mediac</dc:creator>
  <dc:description/>
  <dc:language>en-US</dc:language>
  <cp:lastModifiedBy>Laura Helbing</cp:lastModifiedBy>
  <dcterms:modified xsi:type="dcterms:W3CDTF">2011-01-24T02:53:25Z</dcterms:modified>
  <cp:revision>19</cp:revision>
  <dc:subject/>
  <dc:title>PRESENTATION NAME</dc:title>
</cp:coreProperties>
</file>