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940-8942-4889-A630-742D57FA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0A9-E344-4A35-9909-49F567E2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AB08-FEA5-4F7C-8CEE-17E1491D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38A-3358-4EFC-99E5-178048BE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EF5-F573-4371-A7B7-686F85B0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2DF-4158-4C4C-9E0E-720213C1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C19-C5CB-4BD5-9C20-1CE3746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740-974A-458D-9089-5E6B1736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BB1-B2ED-42F5-B2A3-33365B24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BA2-0B19-466C-8C7A-18BA8CC8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FBB-DFC4-41CE-B9DF-9E346F60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6FE-4042-4AA3-9683-88DCCA4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445B-A197-40CA-A43D-22B616C9D18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The Derivative at 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velocit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rate of chang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lope of the the tangent l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4"/>
              <p:cNvSpPr txBox="1"/>
              <p:nvPr/>
            </p:nvSpPr>
            <p:spPr>
              <a:xfrm>
                <a:off x="5072040" y="3714840"/>
                <a:ext cx="3422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Picture 15" descr=""/>
          <p:cNvPicPr/>
          <p:nvPr/>
        </p:nvPicPr>
        <p:blipFill>
          <a:blip r:embed="rId2"/>
          <a:srcRect l="32814" t="47815" r="48439" b="29688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Suppose a baseball is batted from a height of 4 feet with a velocity of 110 feet per second at a 30˚ angle to the ground.  If only the effect of Earth’s gravity is considered, then its height h(t) after t seconds is given by h(t) = 4 + 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Find the instantaneous vertical velocity at time 2 seconds? (refer to ex.2 from 7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14200" y="5000760"/>
                <a:ext cx="3422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286160" y="4572000"/>
                <a:ext cx="359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716360" y="5460840"/>
                <a:ext cx="2732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o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Let g be the function with g(x) = 4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10x – 80.  Find g’(2), the derivative of g when x =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1857240" y="1785960"/>
                <a:ext cx="3422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-138240" y="2786040"/>
                <a:ext cx="88156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640" y="4000680"/>
                <a:ext cx="8745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71520" y="5072040"/>
                <a:ext cx="8505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aight Connector 11"/>
          <p:cNvSpPr/>
          <p:nvPr/>
        </p:nvSpPr>
        <p:spPr>
          <a:xfrm flipV="1">
            <a:off x="114300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V="1">
            <a:off x="678672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 flipV="1">
            <a:off x="4143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 flipV="1">
            <a:off x="7572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 flipV="1">
            <a:off x="614376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6"/>
          <p:cNvSpPr/>
          <p:nvPr/>
        </p:nvSpPr>
        <p:spPr>
          <a:xfrm flipV="1">
            <a:off x="835812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202360" y="5716440"/>
                <a:ext cx="3941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2357280" y="928800"/>
                <a:ext cx="39420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820960" y="2548080"/>
                <a:ext cx="28702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Δ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087800" y="4067280"/>
                <a:ext cx="55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he volume V(s) of a cube with edge length s is given by V(s) = s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Compute v’(5), the instantaneous rate of change of V when s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1000080" y="2786040"/>
                <a:ext cx="3354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714240" y="3857760"/>
                <a:ext cx="2975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0" y="5214960"/>
                <a:ext cx="6572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786200" y="3286080"/>
                <a:ext cx="3908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Straight Connector 11"/>
          <p:cNvSpPr/>
          <p:nvPr/>
        </p:nvSpPr>
        <p:spPr>
          <a:xfrm flipV="1">
            <a:off x="714240" y="5429160"/>
            <a:ext cx="57168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5892840" y="4643280"/>
                <a:ext cx="3251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Δ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437160" y="60134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Straight Connector 13"/>
          <p:cNvSpPr/>
          <p:nvPr/>
        </p:nvSpPr>
        <p:spPr>
          <a:xfrm flipV="1">
            <a:off x="5857920" y="5429160"/>
            <a:ext cx="57132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Pages 429 – 4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1, 3, 5, 6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Skip 7b and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1-01-24T02:53:25Z</dcterms:modified>
  <cp:revision>19</cp:revision>
  <dc:subject/>
  <dc:title>PRESENTATION NAME</dc:title>
</cp:coreProperties>
</file>